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CCA-6FAE-4826-BD5E-CA1CCBCB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A32-59C4-4F36-8815-68CE86AC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452-3AFD-422F-BD53-3A28DDC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076-9861-44B9-9C32-2D34FB98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83A-0A16-478D-BB8C-EE093A3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2F9-1FE8-4BC3-8475-F5A09E3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024-976A-401D-9C08-32ABB8F8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608-D9FD-4BB6-8358-E6800E9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910-3AB6-403B-A430-53349A8B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4A4-77C1-4902-82E3-AA01E63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FEC-994A-4B91-8E82-D6143FA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291-57E3-4766-8580-78557FA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E31F-7C34-4F52-B76A-CBC01F86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401760" y="1994040"/>
            <a:ext cx="84312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071960" y="357120"/>
            <a:ext cx="49291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Борясь с перенаселением в центре страны, Столыпин стал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здавать земли </a:t>
            </a: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в Сибири  на Дальнем Востоке и Средней Азии предоставляя переселенцам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льготы</a:t>
            </a: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(освобождение на 5 лет от налогов и воинской службы).Но местные власти отнеслись к этому враждебно. Почти 20% переселенцев возвратились назад. Правда население восточных районов все же заметно увели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ffe2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3" descr="русский хутор в Ср Азии.jpg"/>
          <p:cNvPicPr/>
          <p:nvPr/>
        </p:nvPicPr>
        <p:blipFill>
          <a:blip r:embed="rId1"/>
          <a:stretch/>
        </p:blipFill>
        <p:spPr>
          <a:xfrm>
            <a:off x="142920" y="846000"/>
            <a:ext cx="4071960" cy="3291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28760" y="492912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Русские переселенцы в Самаркандской губернии Туркестанского генерал губернатор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928800" y="21420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селенческая полит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0" y="890640"/>
            <a:ext cx="41148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Но главной задачей реформы был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тремление отвлечь крестьян от борьбы за захват помещичьих земель. </a:t>
            </a: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Но выход неожиданно пошел в другом направлении. 60% вышедших из общины крестьян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дали свои наделы</a:t>
            </a:r>
            <a:r>
              <a:rPr b="1" lang="en-US" sz="2400" spc="-1" strike="noStrike">
                <a:solidFill>
                  <a:srgbClr val="3a0000"/>
                </a:solidFill>
                <a:latin typeface="Times New Roman"/>
              </a:rPr>
              <a:t>. Численность хуторян к 1915 г. составляла 10%.Остальные крестьяне относились к ним с нескрываемой враждеб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ffe2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3" descr="Столыпин.jpg2.jpg"/>
          <p:cNvPicPr/>
          <p:nvPr/>
        </p:nvPicPr>
        <p:blipFill>
          <a:blip r:embed="rId1"/>
          <a:stretch/>
        </p:blipFill>
        <p:spPr>
          <a:xfrm>
            <a:off x="214200" y="1428840"/>
            <a:ext cx="4476960" cy="3357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57120" y="5214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Столыпин осматривает хуторское хозяйст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35800" y="214200"/>
            <a:ext cx="50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ская ко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еда с учащимися по вопросам к документу (задания ЕГЭ С 1-3)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42920" y="1801080"/>
            <a:ext cx="88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.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акое право каждому крестьянину дав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каз 9 ноября 1906 го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. Каков «механизм» выхода крестьян из общин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. В течении какого времени крестьян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г стать лично свободн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. Каковы, думаете, для чего был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еобходим разрушение крестьянской общин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терминам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задания ЕГЭ части В)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1928880"/>
          <a:ext cx="8750160" cy="4524120"/>
        </p:xfrm>
        <a:graphic>
          <a:graphicData uri="http://schemas.openxmlformats.org/drawingml/2006/table">
            <a:tbl>
              <a:tblPr/>
              <a:tblGrid>
                <a:gridCol w="2477520"/>
                <a:gridCol w="6272640"/>
              </a:tblGrid>
              <a:tr h="4672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96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от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форма организации труда и производства, основанная на групповой собственности, форма связей между предприятиями занятыми производством определенной 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ху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участок земли, выделенный крестьянину при выходе из общины с сохранением его двора в дерев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ооп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крестьяне, переселенные из центральных губерний на свободные казенные земли за Ур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ереселен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участок земли, выделенный крестьянину при выходе из общины, с переселением из деревни на свой уча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9124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тоги аграрной рефор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844640"/>
          <a:ext cx="8391600" cy="4321080"/>
        </p:xfrm>
        <a:graphic>
          <a:graphicData uri="http://schemas.openxmlformats.org/drawingml/2006/table">
            <a:tbl>
              <a:tblPr/>
              <a:tblGrid>
                <a:gridCol w="4195800"/>
                <a:gridCol w="4195800"/>
              </a:tblGrid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цатель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9124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тоги аграрной рефор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844640"/>
          <a:ext cx="8391600" cy="4807080"/>
        </p:xfrm>
        <a:graphic>
          <a:graphicData uri="http://schemas.openxmlformats.org/drawingml/2006/table">
            <a:tbl>
              <a:tblPr/>
              <a:tblGrid>
                <a:gridCol w="4195800"/>
                <a:gridCol w="4195800"/>
              </a:tblGrid>
              <a:tr h="53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цатель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крепила положение сельской буржуазии; половина продажи хлеба шло на внутренний рыно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Увеличение экспорта хлеба, закупок сельскохозяйственных маш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ложила начало юридического оформления – права собственности на земл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рождение сельскохозяйственной коопер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своение переселенцами более 30 млн. десятин пустующих земель в Сибир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юрократические методы (хутора, отруба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циальное рассл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эффективные мероприятия крестьянского ба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сего вышло на хутора 26% домохозяе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омещичья земля оказалась нетронут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500 тысяч переселенцев возвратилось из Сиби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 реформы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entury Schoolbook"/>
                <a:ea typeface="Times New Roman"/>
              </a:rPr>
              <a:t>1. Рост сельскохозяйственного производства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и улучшение культуры землеполь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entury Schoolbook"/>
                <a:ea typeface="Times New Roman"/>
              </a:rPr>
              <a:t>2. Рост свободной рабочей силы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за счет выхода крестьян-бедняков из общ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entury Schoolbook"/>
                <a:ea typeface="Times New Roman"/>
              </a:rPr>
              <a:t>3. Развитие предпринимательства сельской буржуаз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entury Schoolbook"/>
                <a:ea typeface="Times New Roman"/>
              </a:rPr>
              <a:t>4. Реформа помогла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частично</a:t>
            </a:r>
            <a:r>
              <a:rPr b="1" lang="en-US" sz="3200" spc="-1" strike="noStrike">
                <a:solidFill>
                  <a:srgbClr val="990033"/>
                </a:solidFill>
                <a:latin typeface="Century Schoolbook"/>
                <a:ea typeface="Times New Roman"/>
              </a:rPr>
              <a:t> снять социальную напряженность в дерев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Дополнительный материал.</a:t>
            </a:r>
            <a:endParaRPr b="0" lang="en-US" sz="25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0" y="1213920"/>
            <a:ext cx="41148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В конце августа 1911 г. император Николай II с семьей и приближенными, в том числе и с премьер-министром Столыпиным находились в Киеве. 1 сентября 1911 г. все они присутствовали на спектакле в театре Киева. Неожиданно к  Столыпину приблизился Дмитрий Богров и выстрелил из браунинга дваж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Похороны Столыпина.jpg"/>
          <p:cNvPicPr/>
          <p:nvPr/>
        </p:nvPicPr>
        <p:blipFill>
          <a:blip r:embed="rId1"/>
          <a:stretch/>
        </p:blipFill>
        <p:spPr>
          <a:xfrm>
            <a:off x="214200" y="1785960"/>
            <a:ext cx="46436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 по уроку:</a:t>
            </a:r>
            <a:br>
              <a:rPr sz="40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85840" y="1521720"/>
            <a:ext cx="84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литическом плане реформа явно провалилась. Она не сняла социальной напряженности ни в деревне, ни в обществе в целом. Для успеха реформы важной была готовность общества. Но правящая верхушка противилась нововведениям, интеллигенции и предприниматели, считали их недостаточ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 заключен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428760" y="214992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оябре 2006 года отмечалось 100-летие со дня аграрной реформы П.А. Столыпи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020240" y="421488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Актуальна ли тема аграр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формы сегодн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64720" cy="43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Дайте России 20 лет покоя внутреннего и внешнего и вы не узнаете Россию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3" name="Содержимое 3" descr="Столыпин.jpg"/>
          <p:cNvPicPr/>
          <p:nvPr/>
        </p:nvPicPr>
        <p:blipFill>
          <a:blip r:embed="rId1"/>
          <a:stretch/>
        </p:blipFill>
        <p:spPr>
          <a:xfrm>
            <a:off x="642960" y="3357720"/>
            <a:ext cx="2408040" cy="3368520"/>
          </a:xfrm>
          <a:prstGeom prst="rect">
            <a:avLst/>
          </a:prstGeom>
          <a:ln w="76320">
            <a:solidFill>
              <a:srgbClr val="ffffe2"/>
            </a:solidFill>
            <a:miter/>
          </a:ln>
        </p:spPr>
      </p:pic>
      <p:sp>
        <p:nvSpPr>
          <p:cNvPr id="44" name="Прямоугольник 5"/>
          <p:cNvSpPr/>
          <p:nvPr/>
        </p:nvSpPr>
        <p:spPr>
          <a:xfrm>
            <a:off x="5011560" y="5072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.А. Столыпи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4151520" y="1857240"/>
            <a:ext cx="14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§ 6 -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57120" y="31050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исать эссе: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Актуальна ли тема аграр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формы сегодн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лан урока.</a:t>
            </a:r>
            <a:br>
              <a:rPr sz="28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0" y="11804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ричины реформ и задачи рефор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Основные направления аграрной реформ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Итоги и значение аграрной реформы П.А.Столыпи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785880" y="214308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Назовите одну из главных причин первой российской револю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П. А. Столыпин и его программа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9" name="Содержимое 3" descr="Столыпин.jpg"/>
          <p:cNvPicPr/>
          <p:nvPr/>
        </p:nvPicPr>
        <p:blipFill>
          <a:blip r:embed="rId1"/>
          <a:stretch/>
        </p:blipFill>
        <p:spPr>
          <a:xfrm>
            <a:off x="571680" y="1571760"/>
            <a:ext cx="33541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286160" y="2071800"/>
            <a:ext cx="42865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000"/>
                </a:solidFill>
                <a:latin typeface="Times New Roman"/>
              </a:rPr>
              <a:t>Для обуздания революции нужны были не только уступки и репрессии, но и социально-экономические реформы. Летом 1906 г. председателем Совета ми-нистров стал П.А.Столыпин. Выступая в Думе он заявил: «Сначала успокоение, потом-реформы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к классу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формулировать и записать в тетрадь основ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чины проведения реформы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072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  <a:ea typeface="Times New Roman"/>
              </a:rPr>
              <a:t>Причины рефор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10880" y="-144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06-1911 гг. – аграрная реформа прави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о главе с П.А. Столыпи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57120" y="172080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ff1212"/>
                </a:solidFill>
                <a:latin typeface="Century Schoolbook"/>
                <a:ea typeface="Times New Roman"/>
              </a:rPr>
              <a:t>Решение проблемы малоземелья крестьян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Центральной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Преодоление отсталости деревни – </a:t>
            </a:r>
            <a:r>
              <a:rPr b="1" lang="ru-RU" sz="2800" spc="-1" strike="noStrike">
                <a:solidFill>
                  <a:srgbClr val="ff1212"/>
                </a:solidFill>
                <a:latin typeface="Century Schoolbook"/>
                <a:ea typeface="Times New Roman"/>
              </a:rPr>
              <a:t>ликвидация феодально-крепостнических пережитков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разрушение общин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ff1212"/>
                </a:solidFill>
                <a:latin typeface="Century Schoolbook"/>
                <a:ea typeface="Times New Roman"/>
              </a:rPr>
              <a:t>Создание социальной опоры самодержавия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– крестьян-собственников, фермеров (хуторян, отрубник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. Ликвидация социальной напряж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5"/>
          <p:cNvSpPr/>
          <p:nvPr/>
        </p:nvSpPr>
        <p:spPr>
          <a:xfrm>
            <a:off x="39434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500040" y="-69840"/>
            <a:ext cx="80726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. Основные направления аграрной рефор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14200" y="11494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учащим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йте учебник  стр. 47 – 48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сновные направления аграрной реформы П.А.Столыпи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2920" y="2714760"/>
          <a:ext cx="8821440" cy="4026960"/>
        </p:xfrm>
        <a:graphic>
          <a:graphicData uri="http://schemas.openxmlformats.org/drawingml/2006/table">
            <a:tbl>
              <a:tblPr/>
              <a:tblGrid>
                <a:gridCol w="4733640"/>
                <a:gridCol w="4087800"/>
              </a:tblGrid>
              <a:tr h="13042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рной ре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изме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ушение крестьянской об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селенческая пол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рестьянская коопера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рушение общины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00720" y="1934640"/>
            <a:ext cx="4186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000"/>
                </a:solidFill>
                <a:latin typeface="Times New Roman"/>
              </a:rPr>
              <a:t>9.11.1906 началась аграрная реформа. Правительство разрешило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свободный выход из общины.</a:t>
            </a:r>
            <a:r>
              <a:rPr b="1" lang="en-US" sz="2200" spc="-1" strike="noStrike">
                <a:solidFill>
                  <a:srgbClr val="3a0000"/>
                </a:solidFill>
                <a:latin typeface="Times New Roman"/>
              </a:rPr>
              <a:t> Наделы закрепленные за крестьянином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становились его собственностью</a:t>
            </a:r>
            <a:r>
              <a:rPr b="1" lang="en-US" sz="2200" spc="-1" strike="noStrike">
                <a:solidFill>
                  <a:srgbClr val="3a0000"/>
                </a:solidFill>
                <a:latin typeface="Times New Roman"/>
              </a:rPr>
              <a:t>, сводясь в единый участок. Крестьянин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мог выходить на отруб(оставаясь жить в дерев не),или на хутор</a:t>
            </a:r>
            <a:r>
              <a:rPr b="1" lang="en-US" sz="2200" spc="-1" strike="noStrike">
                <a:solidFill>
                  <a:srgbClr val="3a0000"/>
                </a:solidFill>
                <a:latin typeface="Times New Roman"/>
              </a:rPr>
              <a:t>. Столыпин стремился создать слой мелких буржуазных собственников, как опору самодержа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ffe2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3" descr="Стлыпин осматривает хутор.jpg"/>
          <p:cNvPicPr/>
          <p:nvPr/>
        </p:nvPicPr>
        <p:blipFill>
          <a:blip r:embed="rId1"/>
          <a:stretch/>
        </p:blipFill>
        <p:spPr>
          <a:xfrm>
            <a:off x="500040" y="2071800"/>
            <a:ext cx="414180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28760" y="5072040"/>
            <a:ext cx="42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П.А.Столыпин осматривает хуторские огороды близ Москвы в апреле 1910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1:22Z</dcterms:created>
  <dc:creator>лена</dc:creator>
  <dc:description/>
  <dc:language>en-US</dc:language>
  <cp:lastModifiedBy>tutor</cp:lastModifiedBy>
  <dcterms:modified xsi:type="dcterms:W3CDTF">2013-02-12T07:38:11Z</dcterms:modified>
  <cp:revision>14</cp:revision>
  <dc:subject/>
  <dc:title>Слайд 1</dc:title>
</cp:coreProperties>
</file>