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3A1-8C5F-4513-BAC2-7CCA36AB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83F-B270-4C1C-9A2F-F38CEED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20A-9B76-4CAC-9F01-73F731BF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1CA-420C-4B3C-AA99-91CBEB3E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187-6F61-47C7-9DBE-D4BB38DA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29F-3644-4EAD-94CE-2F932A07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FCB-177F-4294-A880-930FCFD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1AD-5BF5-4C17-9E28-E32B1AC0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2B2-484B-4703-89ED-6946B015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438-B1E1-4D8D-B043-A4F4094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F4F-945B-4DF0-941E-8BBBC410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AA2-5FDB-4B8F-8B79-57B8F60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2A42-E0AD-4090-89C1-F8E02E9AC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рогами  войн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ческая викто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000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т Сталинграда был очень важен Гитлеру по нескольким причинам. Это был главный индустриальный город на берегах Волги и жизненно важный транспортный маршрут между Каспийским морем и северной Россией. Захват Сталинграда обеспечил бы безопасность на левом фланге немецких армий, наступающих на Кавказ. Немцы начали битву за Сталинград еще в сентябре 1942 года. Жуков разработал план «Уран», по которому советские войска должны были окружить немецкие войска и разгромить их. Для исполнения этого плана было обеспечено двойное превосходство советских войск над фашистскими. 23 ноября 1942 года были окружены 23 фашистские дивизии. 2 февраля 1943 года фашисты сдалис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446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3,17,1,4     2,20,5,6,19     17,1,9,2,10,19.   16,15,2,6,5,1   2,20,5,6,19    9,1     14,1,13,10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85920" y="1643040"/>
            <a:ext cx="382896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талингра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1000080" y="32148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143000" y="27860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=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im5-tub.yandex.net/i?id=2844912&amp;tov=5"/>
          <p:cNvPicPr/>
          <p:nvPr/>
        </p:nvPicPr>
        <p:blipFill>
          <a:blip r:embed="rId1"/>
          <a:stretch/>
        </p:blipFill>
        <p:spPr>
          <a:xfrm>
            <a:off x="3286080" y="2643120"/>
            <a:ext cx="981000" cy="1400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714760" y="2428920"/>
            <a:ext cx="78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http://im7-tub.yandex.net/i?id=122214091&amp;tov=7"/>
          <p:cNvPicPr/>
          <p:nvPr/>
        </p:nvPicPr>
        <p:blipFill>
          <a:blip r:embed="rId2"/>
          <a:stretch/>
        </p:blipFill>
        <p:spPr>
          <a:xfrm>
            <a:off x="4714920" y="307188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6072120" y="24289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,,,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435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ступл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000080" y="321480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ту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785880" y="257184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л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71424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3,17,1,4     2,20,5,6,19     17,1,9,2,10,19.   16,15,2,6,5,1   2,20,5,6,19    9,1     14,1,13,10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раг  будет  разбит. Победа  будет  за  нами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57120" y="378612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 Б В Г Д Е Ж З И К Л М Н О П Р С Т У Ф Х Ц Ч  Ш  Щ Ъ Ы Ь Э Ю 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840" y="11430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феврале 1943 года в ходе наступления советских войск, образовалась Курская дуга, вклинивающаяся в немецкие позиции. 5 июля в 3 часа утра немецкие войска хотели начать наступление в районе Курской дуги. Но советская разведка узнала об этом и наши войска нанесли упреждающий удар – 19000 орудий начали артобстрел. Враг понес большие потери.12 июля состоялось крупнейшее в истории танковое сражение, в котором участвовало 1200 танков. Которое закончилось победой советских войс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57280" y="-36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3840" y="19288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ля переправы 80 танков через реку шириной 720 м, имеется одно переправочное средство. Время одной переправы – 15 мин, обратно переправочное средство возвращается пустым за 5 минут, одновременно переправляются два танка. Определить время переправы танков через р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http://festival.1september.ru/articles/212147/ris2.jpg"/>
          <p:cNvPicPr/>
          <p:nvPr/>
        </p:nvPicPr>
        <p:blipFill>
          <a:blip r:embed="rId1"/>
          <a:srcRect l="0" t="0" r="0" b="38507"/>
          <a:stretch/>
        </p:blipFill>
        <p:spPr>
          <a:xfrm>
            <a:off x="0" y="142920"/>
            <a:ext cx="3143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льский завод поставил на фронт в 1942 году 5684 танка, в 1943 году – 7466 танка, в 1944 году – 8421 тан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акое кол-во танков в среднем выпускал в месяц в 1942 году Уральский танковый за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286080" y="407196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74 та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7280" y="-36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840" y="19288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ля переправы 80 танков через реку шириной 720 м, имеется одно переправочное средство. Время одной переправы – 15 мин, обратно переправочное средство возвращается пустым за 5 минут, одновременно переправляются два танка. Определить время переправы танков через р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44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http://festival.1september.ru/articles/212147/ris2.jpg"/>
          <p:cNvPicPr/>
          <p:nvPr/>
        </p:nvPicPr>
        <p:blipFill>
          <a:blip r:embed="rId1"/>
          <a:srcRect l="0" t="0" r="0" b="38507"/>
          <a:stretch/>
        </p:blipFill>
        <p:spPr>
          <a:xfrm>
            <a:off x="0" y="142920"/>
            <a:ext cx="314316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3214800" y="10717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800 минут или 13 часов 20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я для все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28760" y="2071800"/>
            <a:ext cx="78552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5000760" y="2000160"/>
            <a:ext cx="785520" cy="714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86120" y="200016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14200" y="200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*       *      +     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2 *  2  *   3 +   3</a:t>
            </a:r>
            <a:r>
              <a:rPr b="0" lang="ru-RU" sz="4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71840" y="2071800"/>
            <a:ext cx="785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40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5+4-2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i="1" lang="ru-RU" sz="40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40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0+6=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i="1" lang="ru-RU" sz="40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100+42-1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786040" y="42876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643200" y="42876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214880" y="42876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28960" y="157176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214800" y="2357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929040" y="30718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9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28760" y="4143240"/>
            <a:ext cx="82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 каким событием в истории нашей страны связаны эти чис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я для все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5520" y="1071720"/>
            <a:ext cx="7643880" cy="34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рисунок показывает вид сверх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0" y="200016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3286080" y="2214720"/>
            <a:ext cx="1820880" cy="1850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3"/>
          <a:stretch/>
        </p:blipFill>
        <p:spPr>
          <a:xfrm>
            <a:off x="5857920" y="4616280"/>
            <a:ext cx="182700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"/>
          <p:cNvPicPr/>
          <p:nvPr/>
        </p:nvPicPr>
        <p:blipFill>
          <a:blip r:embed="rId4"/>
          <a:stretch/>
        </p:blipFill>
        <p:spPr>
          <a:xfrm>
            <a:off x="3357720" y="4613400"/>
            <a:ext cx="183168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"/>
          <p:cNvPicPr/>
          <p:nvPr/>
        </p:nvPicPr>
        <p:blipFill>
          <a:blip r:embed="rId5"/>
          <a:stretch/>
        </p:blipFill>
        <p:spPr>
          <a:xfrm>
            <a:off x="5929200" y="2208240"/>
            <a:ext cx="18068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енинградская би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4200" y="1000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итлер особое значение придавал взятию Ленинграда. Наступление на Ленинград началось 10 июля 1941 года. 8 сентября 1941 года фашисты смогли блокировать город. Немецкая авиация уничтожила склады с продовольствием. Население Ленинграда начало голодать. Самой тяжелой оказалась зима 1941-1942 годов. Выдержать ее защитники Ленинграда смогли благодаря «Дороге жизни», проходящей по льду Ладожского озера. В январе 1943 года блокада Ленинграда была прорвана. В Ленинград начали поступать продовольствие, вооружение, сырье для промышленных предприятий. Но полностью снять блокаду удалось лишь в январе 1944 г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53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2859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 время блокады дневным рационом ленинградцев была «восьмушка хлеба». Подсчитайте, сколько граммов весит 1/8 часть буханки хлеба массой 1 к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53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000240" y="3643200"/>
            <a:ext cx="32148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ройка лошадей бежала со скоростью 30 км\ч. С какой скоростью бежала каждая лоша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отоциклист въехал в город. В городе он встретил 2 танка, грузовик. Сколько всего машин въехало в гор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ему равно произведение  последовательности чисел, начинающихся с -5 и оканчивающихся 5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857160" y="3643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5*-4*-3*-2*-1*0*1*2*3*4*5=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олько в рисунке окружностей, треугольников, прямоуг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2928960" y="292896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олько концов у 5 палок? У 6 палок? У пяти с полов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Цилиндр 4"/>
          <p:cNvSpPr/>
          <p:nvPr/>
        </p:nvSpPr>
        <p:spPr>
          <a:xfrm>
            <a:off x="1571760" y="2857680"/>
            <a:ext cx="142920" cy="128556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Цилиндр 5"/>
          <p:cNvSpPr/>
          <p:nvPr/>
        </p:nvSpPr>
        <p:spPr>
          <a:xfrm>
            <a:off x="1928880" y="2857680"/>
            <a:ext cx="142920" cy="128556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Цилиндр 6"/>
          <p:cNvSpPr/>
          <p:nvPr/>
        </p:nvSpPr>
        <p:spPr>
          <a:xfrm>
            <a:off x="2214720" y="2857680"/>
            <a:ext cx="142560" cy="128556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Цилиндр 7"/>
          <p:cNvSpPr/>
          <p:nvPr/>
        </p:nvSpPr>
        <p:spPr>
          <a:xfrm>
            <a:off x="2571840" y="2857680"/>
            <a:ext cx="142920" cy="128556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Цилиндр 8"/>
          <p:cNvSpPr/>
          <p:nvPr/>
        </p:nvSpPr>
        <p:spPr>
          <a:xfrm>
            <a:off x="2928960" y="2857680"/>
            <a:ext cx="142920" cy="128556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Цилиндр 9"/>
          <p:cNvSpPr/>
          <p:nvPr/>
        </p:nvSpPr>
        <p:spPr>
          <a:xfrm>
            <a:off x="1571760" y="428616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Цилиндр 10"/>
          <p:cNvSpPr/>
          <p:nvPr/>
        </p:nvSpPr>
        <p:spPr>
          <a:xfrm>
            <a:off x="1928880" y="428616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Цилиндр 11"/>
          <p:cNvSpPr/>
          <p:nvPr/>
        </p:nvSpPr>
        <p:spPr>
          <a:xfrm>
            <a:off x="2214720" y="4286160"/>
            <a:ext cx="14256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Цилиндр 12"/>
          <p:cNvSpPr/>
          <p:nvPr/>
        </p:nvSpPr>
        <p:spPr>
          <a:xfrm>
            <a:off x="2571840" y="428616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Цилиндр 13"/>
          <p:cNvSpPr/>
          <p:nvPr/>
        </p:nvSpPr>
        <p:spPr>
          <a:xfrm>
            <a:off x="2928960" y="428616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Цилиндр 14"/>
          <p:cNvSpPr/>
          <p:nvPr/>
        </p:nvSpPr>
        <p:spPr>
          <a:xfrm>
            <a:off x="3214800" y="428616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Цилиндр 15"/>
          <p:cNvSpPr/>
          <p:nvPr/>
        </p:nvSpPr>
        <p:spPr>
          <a:xfrm>
            <a:off x="5072040" y="421488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Цилиндр 16"/>
          <p:cNvSpPr/>
          <p:nvPr/>
        </p:nvSpPr>
        <p:spPr>
          <a:xfrm>
            <a:off x="5429160" y="421488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Цилиндр 17"/>
          <p:cNvSpPr/>
          <p:nvPr/>
        </p:nvSpPr>
        <p:spPr>
          <a:xfrm>
            <a:off x="5715000" y="421488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Цилиндр 18"/>
          <p:cNvSpPr/>
          <p:nvPr/>
        </p:nvSpPr>
        <p:spPr>
          <a:xfrm>
            <a:off x="6072120" y="421488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Цилиндр 19"/>
          <p:cNvSpPr/>
          <p:nvPr/>
        </p:nvSpPr>
        <p:spPr>
          <a:xfrm>
            <a:off x="6429240" y="4214880"/>
            <a:ext cx="142920" cy="1285920"/>
          </a:xfrm>
          <a:prstGeom prst="can">
            <a:avLst>
              <a:gd name="adj" fmla="val 27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Цилиндр 20"/>
          <p:cNvSpPr/>
          <p:nvPr/>
        </p:nvSpPr>
        <p:spPr>
          <a:xfrm>
            <a:off x="6715080" y="4786200"/>
            <a:ext cx="142920" cy="714600"/>
          </a:xfrm>
          <a:prstGeom prst="can">
            <a:avLst>
              <a:gd name="adj" fmla="val 5000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8400" y="12859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 время блокады дневным рационом ленинградцев была «восьмушка хлеба». Подсчитайте, сколько граммов весит 1/8 часть буханки хлеба массой 1 к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53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3000240" y="3643200"/>
            <a:ext cx="3214800" cy="2000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428760" y="35002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125 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Битва за Берлин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одолжи фразу: </a:t>
            </a: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Математика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зовите основные битвы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нинградская би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тва за Моск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тва за Берл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линградская би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рская би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дат варил картошку. 6 картошек  сварились за 30 мин. Сколько минут варится 1 картош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26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инута молч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9" descr="D6_2"/>
          <p:cNvPicPr/>
          <p:nvPr/>
        </p:nvPicPr>
        <p:blipFill>
          <a:blip r:embed="rId1"/>
          <a:srcRect l="35829" t="23465" r="1093" b="28661"/>
          <a:stretch/>
        </p:blipFill>
        <p:spPr>
          <a:xfrm>
            <a:off x="2643120" y="2786040"/>
            <a:ext cx="40388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 каком году произошли эти с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85840" y="1594800"/>
            <a:ext cx="828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овская битва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</a:t>
            </a:r>
            <a:r>
              <a:rPr b="0" i="1" lang="ru-RU" sz="4000" spc="-1" strike="noStrike" baseline="30000">
                <a:solidFill>
                  <a:srgbClr val="31859c"/>
                </a:solidFill>
                <a:latin typeface="Times New Roman"/>
                <a:ea typeface="Times New Roman"/>
              </a:rPr>
              <a:t>3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+28*1/2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кая и Сталинградская битвы     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</a:t>
            </a:r>
            <a:r>
              <a:rPr b="0" i="1" lang="ru-RU" sz="4000" spc="-1" strike="noStrike" baseline="30000">
                <a:solidFill>
                  <a:srgbClr val="31859c"/>
                </a:solidFill>
                <a:latin typeface="Times New Roman"/>
                <a:ea typeface="Times New Roman"/>
              </a:rPr>
              <a:t>0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+2</a:t>
            </a:r>
            <a:r>
              <a:rPr b="0" i="1" lang="ru-RU" sz="4000" spc="-1" strike="noStrike" baseline="30000">
                <a:solidFill>
                  <a:srgbClr val="31859c"/>
                </a:solidFill>
                <a:latin typeface="Times New Roman"/>
                <a:ea typeface="Times New Roman"/>
              </a:rPr>
              <a:t>2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*10+4*1/2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нинградская бит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</a:t>
            </a:r>
            <a:r>
              <a:rPr b="0" i="1" lang="ru-RU" sz="4000" spc="-1" strike="noStrike" baseline="30000">
                <a:solidFill>
                  <a:srgbClr val="31859c"/>
                </a:solidFill>
                <a:latin typeface="Times New Roman"/>
                <a:ea typeface="Times New Roman"/>
              </a:rPr>
              <a:t>2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+84*1/3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Берли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</a:t>
            </a:r>
            <a:r>
              <a:rPr b="0" i="1" lang="ru-RU" sz="4000" spc="-1" strike="noStrike" baseline="30000">
                <a:solidFill>
                  <a:srgbClr val="31859c"/>
                </a:solidFill>
                <a:latin typeface="Times New Roman"/>
                <a:ea typeface="Times New Roman"/>
              </a:rPr>
              <a:t>2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+3</a:t>
            </a:r>
            <a:r>
              <a:rPr b="0" i="1" lang="ru-RU" sz="4000" spc="-1" strike="noStrike" baseline="30000">
                <a:solidFill>
                  <a:srgbClr val="31859c"/>
                </a:solidFill>
                <a:latin typeface="Times New Roman"/>
                <a:ea typeface="Times New Roman"/>
              </a:rPr>
              <a:t>3</a:t>
            </a: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-7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643720" y="22147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429240" y="342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786280" y="464328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429160" y="585792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785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ентябре  1941 года фашистские войска приблизились к Москве. Советские войска постепенно отступали. В ноябре 1941 года фашистам до Москвы оставалось 27 км. Фашисты думали, что Москва у них в руках, но встретили упорное и мужественное сопротивление советских воинов.   5 декабря советская армия перешла в контрнаступление. В результате контрнаступления и общего наступления они были отброшены на 100 —250 км. Угроза столице минова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357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3" descr="картина"/>
          <p:cNvPicPr/>
          <p:nvPr/>
        </p:nvPicPr>
        <p:blipFill>
          <a:blip r:embed="rId1"/>
          <a:srcRect l="17008" t="10016" r="18000" b="16693"/>
          <a:stretch/>
        </p:blipFill>
        <p:spPr>
          <a:xfrm>
            <a:off x="3429000" y="4641840"/>
            <a:ext cx="2357280" cy="1994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андование поручает вам важную задачу. Наши войска находятся в деревне Ивантеевка. В 6 часов утра начинается наступление войск. До этого времени вам надо доставить туда боеприпасы. До Ивантеевки 150 км. Успеете ли вы довезти боеприпасы к назначенному сроку, если максимальная скорость вашей машины 30 км\ч, а сейчас 12 часов но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62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я 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йди лишнее: отрезок, прямая, окруж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я  партизан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шистские войска потеряли в Подмосковье много солдат и офицеров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тябрь-ноябрь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45 ты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абрь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03 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варь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44 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враль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08 7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т: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79 7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общие потери фашистов в Московском сражен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4786200" y="27860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го: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81,9 тыс.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дание  команд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85680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андование поручает вам важную задачу. Наши войска находятся в деревне Ивантеевка. В 6 часов утра начинается наступление войск. До этого времени вам надо доставить туда боеприпасы. До Ивантеевки 150 км. Успеете ли вы довезти боеприпасы к назначенному сроку, если максимальная скорость вашей машины 30 км\ч, а сейчас 12 часов но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а. Мы успеем к 6 часам утра. Мы сможем доехать за 5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623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0-10-17T15:31:18Z</dcterms:modified>
  <cp:revision>41</cp:revision>
  <dc:subject/>
  <dc:title>Дорогами  войны</dc:title>
</cp:coreProperties>
</file>