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5.png" ContentType="image/png"/>
  <Override PartName="/ppt/media/image19.jpeg" ContentType="image/jpeg"/>
  <Override PartName="/ppt/media/image51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45.jpeg" ContentType="image/jpeg"/>
  <Override PartName="/ppt/media/image67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5.png" ContentType="image/png"/>
  <Override PartName="/ppt/media/image39.jpeg" ContentType="image/jpeg"/>
  <Override PartName="/ppt/media/image69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26.png" ContentType="image/png"/>
  <Override PartName="/ppt/media/image1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5FE0C-3D84-40C1-9E78-BAAB182792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CFA84-BF79-4503-A70D-2F984AD562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CC07F-929F-4240-8861-2249922141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6BE35-E386-43A4-8773-E175195530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B8D6C-0472-4E39-B4D5-2E72CAC72D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1000F-9FB9-4813-AA2C-85B990ADDC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E743D-1DBC-4DD1-8411-0A2A026C30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4C921-6FBD-4C97-AEFC-2BC01E09F1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1C676-64FE-4652-AE70-7E65923875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3A1FE-DB02-40D5-9239-52F0634543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92D6B-E88F-482B-ADA7-9994EB3B4E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BB5B2-ABD1-4C9A-8D7B-B4C6E0FC6A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A951A-2A15-4F7F-A66E-E36FF719C1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FAE19-CE30-4302-A6EA-09E717C151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7FB31-3CE2-4D4D-AC8F-DCD7D9C4A9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851A5-9E0C-49F9-8CB8-F75491BD43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DB0D3-911F-4EFF-8A52-ADEAEF4611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2B3C0-806F-45B5-8936-5F30680C25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A4047-A9CB-4BC0-A75B-A5742AB25E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14B7A-4445-4CE6-B7F1-3037C30EC0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ECB25-003C-4869-BCD3-34D670F42A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2279E-B00E-4B34-BD94-236EC37B17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C49A6-8945-4921-8682-BFB28B14FA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CC007-89EF-4CF0-9DFF-45D5B0203A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7FE1-9D36-4549-8B3E-5F2F309E6F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B7B0-297B-4B0E-8963-20E84866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219E-4408-4BB4-AB4A-B94C1F4C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A9FB-0C82-4D35-8244-0BEA5521F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1B15E-6727-46BD-B77A-2067439DE7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5A156-F1EC-4632-A775-043D832B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B8CED-9407-4FC4-8410-712C16BD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AB6F4-6CFD-41CC-942E-14AE7837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00342-BDBE-47B7-BE45-D31DCC82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10131-6E5A-48AE-8AE0-EB7D7CC0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6C028-E440-45D0-8B05-894ED966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7FB4-266B-4908-A146-2083131A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AFBB5-9BBD-4826-84F2-2B2CA2EF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F381B-4F31-4BE7-9453-84F8395B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A13A5-5591-4B09-A11D-9A079906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91A5A-BD1E-49A3-8385-AF7015A3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254E8-96A6-4670-A2AD-0255E00C9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41C7-9E58-463D-86ED-C29E3CA5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300A-3B42-45CB-A435-418FEE10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957D-A7ED-4F36-A08D-2A5ADCAB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0756-26CF-4937-9095-C96BFB20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675E-E4EB-476D-9C17-3B18569F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5527-32E9-4830-A108-60AB1855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9801-A9E4-474B-A79C-0D25E024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3.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B4FE7D-FAC3-4562-B15C-1EADCB07BDBA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3.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07BE2F-F1FA-4E56-AF92-8EB1486F2692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2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ДИПЛОМАНТЫ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Общероссийского фестиваля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 исследовательских и творческих работ учащихся «Портфолио ученика» </a:t>
            </a:r>
            <a:br>
              <a:rPr sz="4800"/>
            </a:br>
            <a:br>
              <a:rPr sz="4800"/>
            </a:br>
            <a:br>
              <a:rPr sz="1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4072320" y="6165720"/>
            <a:ext cx="134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11280" y="1484280"/>
            <a:ext cx="7272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Malgun Gothic"/>
              </a:rPr>
              <a:t>Энергет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Malgun Gothic"/>
              </a:rPr>
              <a:t>(энергетические напитки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Jag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Red B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F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Coca-C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Adrenalin R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1420560" y="404640"/>
            <a:ext cx="699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Arial"/>
              </a:rPr>
              <a:t>ОБЪЕКТ 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1468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nta, Pepsi, Coca-Cola, Red Bull, Adrenalin Rush, Jaguar, Flash -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то это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?</a:t>
            </a:r>
            <a:br>
              <a:rPr sz="54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вод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со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молок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) холодный ча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) энергетический напито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) кофе</a:t>
            </a:r>
            <a:br>
              <a:rPr sz="4000"/>
            </a:b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1468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nta, Pepsi, Coca-Cola, Red Bull, Adrenalin Rush, Jaguar, Flash -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то это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?</a:t>
            </a:r>
            <a:br>
              <a:rPr sz="54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вод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со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молок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) холодный чай</a:t>
            </a:r>
            <a:br>
              <a:rPr sz="4000"/>
            </a:b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д) энергетический напито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) кофе</a:t>
            </a:r>
            <a:br>
              <a:rPr sz="4000"/>
            </a:b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81080" y="274680"/>
            <a:ext cx="957744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нкетиров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468360" y="2205000"/>
            <a:ext cx="800100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Всего в анкете приня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участие 53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Это ученики 7-11 классо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-1000080" y="3786120"/>
            <a:ext cx="11858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85840" y="-4929120"/>
            <a:ext cx="8501040" cy="135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2bc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4240" y="189000"/>
            <a:ext cx="7429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algun Gothic"/>
                <a:ea typeface="Malgun Gothic"/>
              </a:rPr>
              <a:t>Результаты анке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Диаграмма 8" descr=""/>
          <p:cNvPicPr/>
          <p:nvPr/>
        </p:nvPicPr>
        <p:blipFill>
          <a:blip r:embed="rId1"/>
          <a:stretch/>
        </p:blipFill>
        <p:spPr>
          <a:xfrm>
            <a:off x="289080" y="1125360"/>
            <a:ext cx="857232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428760" y="1357200"/>
            <a:ext cx="8286480" cy="4857840"/>
          </a:xfrm>
          <a:prstGeom prst="rect">
            <a:avLst/>
          </a:prstGeom>
          <a:gradFill rotWithShape="0">
            <a:gsLst>
              <a:gs pos="0">
                <a:srgbClr val="a4c1ff"/>
              </a:gs>
              <a:gs pos="100000">
                <a:srgbClr val="e5efff"/>
              </a:gs>
            </a:gsLst>
            <a:lin ang="16200000"/>
          </a:gra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algun Gothic"/>
                <a:ea typeface="Malgun Gothic"/>
              </a:rPr>
              <a:t>Самыми </a:t>
            </a:r>
            <a:r>
              <a:rPr b="1" lang="en-US" sz="3600" spc="-1" strike="noStrike">
                <a:solidFill>
                  <a:srgbClr val="ff0000"/>
                </a:solidFill>
                <a:latin typeface="Malgun Gothic"/>
                <a:ea typeface="Malgun Gothic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Malgun Gothic"/>
                <a:ea typeface="Malgun Gothic"/>
              </a:rPr>
              <a:t>популярными </a:t>
            </a:r>
            <a:r>
              <a:rPr b="1" lang="ru-RU" sz="3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энерготониками </a:t>
            </a:r>
            <a:r>
              <a:rPr b="1" lang="en-US" sz="3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ста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Fanta,        Coca Col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Red Bull,        Adrenalin R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-1000080" y="3786120"/>
            <a:ext cx="11858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57160" y="263520"/>
            <a:ext cx="79628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algun Gothic"/>
                <a:ea typeface="Malgun Gothic"/>
              </a:rPr>
              <a:t>Результаты анке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4" descr=""/>
          <p:cNvPicPr/>
          <p:nvPr/>
        </p:nvPicPr>
        <p:blipFill>
          <a:blip r:embed="rId1"/>
          <a:stretch/>
        </p:blipFill>
        <p:spPr>
          <a:xfrm>
            <a:off x="830160" y="1044720"/>
            <a:ext cx="7929720" cy="5572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857160" y="179280"/>
            <a:ext cx="79628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algun Gothic"/>
                <a:ea typeface="Malgun Gothic"/>
              </a:rPr>
              <a:t>Результаты анке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-1000080" y="3786120"/>
            <a:ext cx="11858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1116000" y="522360"/>
            <a:ext cx="7215120" cy="14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ты думаешь, энергетик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это поле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Диаграмма 8" descr=""/>
          <p:cNvPicPr/>
          <p:nvPr/>
        </p:nvPicPr>
        <p:blipFill>
          <a:blip r:embed="rId1"/>
          <a:stretch/>
        </p:blipFill>
        <p:spPr>
          <a:xfrm>
            <a:off x="1214280" y="2103480"/>
            <a:ext cx="7215480" cy="4349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839880" y="1440"/>
            <a:ext cx="79628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algun Gothic"/>
                <a:ea typeface="Malgun Gothic"/>
              </a:rPr>
              <a:t>Результаты анке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98064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чему ты пьёшь эти напит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Диаграмма 2" descr=""/>
          <p:cNvPicPr/>
          <p:nvPr/>
        </p:nvPicPr>
        <p:blipFill>
          <a:blip r:embed="rId1"/>
          <a:stretch/>
        </p:blipFill>
        <p:spPr>
          <a:xfrm>
            <a:off x="779400" y="1787400"/>
            <a:ext cx="7786800" cy="40640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635040" y="5591160"/>
            <a:ext cx="78310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  <a:ea typeface="Times New Roman"/>
              </a:rPr>
              <a:t>26 человек ответили, что это модно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228b"/>
                </a:solidFill>
                <a:latin typeface="Arial"/>
                <a:ea typeface="Times New Roman"/>
              </a:rPr>
              <a:t>поднимает 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55640" y="1440"/>
            <a:ext cx="79628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algun Gothic"/>
                <a:ea typeface="Malgun Gothic"/>
              </a:rPr>
              <a:t>Результаты анке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469880" y="2000160"/>
            <a:ext cx="6239160" cy="4183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1424160" y="189000"/>
            <a:ext cx="61722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о  такое   энерготон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Учебно-проектная работа </a:t>
            </a:r>
            <a:br>
              <a:rPr sz="7200"/>
            </a:b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с элементами исследовани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1"/>
          <p:cNvSpPr/>
          <p:nvPr/>
        </p:nvSpPr>
        <p:spPr>
          <a:xfrm>
            <a:off x="1643040" y="214200"/>
            <a:ext cx="5400720" cy="1643040"/>
          </a:xfrm>
          <a:prstGeom prst="ellipse">
            <a:avLst/>
          </a:prstGeom>
          <a:gradFill rotWithShape="0">
            <a:gsLst>
              <a:gs pos="0">
                <a:srgbClr val="779637"/>
              </a:gs>
              <a:gs pos="100000">
                <a:srgbClr val="9cc74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Тонизирующие напи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332000" y="2928960"/>
            <a:ext cx="5711760" cy="364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2bc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Швепс,  кола,  спрайт, фа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Это  заменители  натурального коф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Их добавляют в алкогольные напи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Соединительная линия уступом 11"/>
          <p:cNvCxnSpPr>
            <a:stCxn id="132" idx="4"/>
          </p:cNvCxnSpPr>
          <p:nvPr/>
        </p:nvCxnSpPr>
        <p:spPr>
          <a:xfrm flipH="1" rot="16200000">
            <a:off x="3885120" y="2314080"/>
            <a:ext cx="1072440" cy="158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135" name="Рисунок 15" descr=""/>
          <p:cNvPicPr/>
          <p:nvPr/>
        </p:nvPicPr>
        <p:blipFill>
          <a:blip r:embed="rId1"/>
          <a:stretch/>
        </p:blipFill>
        <p:spPr>
          <a:xfrm>
            <a:off x="6715080" y="9288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1"/>
          <p:cNvSpPr/>
          <p:nvPr/>
        </p:nvSpPr>
        <p:spPr>
          <a:xfrm>
            <a:off x="2484360" y="438120"/>
            <a:ext cx="5400720" cy="1643040"/>
          </a:xfrm>
          <a:prstGeom prst="ellipse">
            <a:avLst/>
          </a:prstGeom>
          <a:gradFill rotWithShape="0">
            <a:gsLst>
              <a:gs pos="0">
                <a:srgbClr val="779637"/>
              </a:gs>
              <a:gs pos="100000">
                <a:srgbClr val="9cc74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Энергетические напи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328680" y="3249720"/>
            <a:ext cx="3819600" cy="34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2bc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Безалкогольные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слабоалкого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напит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agu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Red Bu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4356000" y="2868480"/>
            <a:ext cx="4516560" cy="380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2bc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Стимулиру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центральную  нервную систему человек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повышающие работоспособ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Coca-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drenalin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4"/>
          <p:cNvCxnSpPr/>
          <p:nvPr/>
        </p:nvCxnSpPr>
        <p:spPr>
          <a:xfrm rot="5400000">
            <a:off x="2039760" y="2105640"/>
            <a:ext cx="1588320" cy="700920"/>
          </a:xfrm>
          <a:prstGeom prst="bentConnector3">
            <a:avLst>
              <a:gd name="adj1" fmla="val 49988"/>
            </a:avLst>
          </a:prstGeom>
          <a:ln w="38160">
            <a:solidFill>
              <a:srgbClr val="4bacc6"/>
            </a:solidFill>
            <a:round/>
            <a:tailEnd len="med" type="triangle" w="med"/>
          </a:ln>
        </p:spPr>
      </p:cxnSp>
      <p:cxnSp>
        <p:nvCxnSpPr>
          <p:cNvPr id="140" name="AutoShape 5"/>
          <p:cNvCxnSpPr/>
          <p:nvPr/>
        </p:nvCxnSpPr>
        <p:spPr>
          <a:xfrm flipH="1" rot="16200000">
            <a:off x="5857560" y="2075400"/>
            <a:ext cx="1274040" cy="446760"/>
          </a:xfrm>
          <a:prstGeom prst="bentConnector3">
            <a:avLst>
              <a:gd name="adj1" fmla="val 50000"/>
            </a:avLst>
          </a:prstGeom>
          <a:ln w="38160">
            <a:solidFill>
              <a:srgbClr val="4bacc6"/>
            </a:solidFill>
            <a:round/>
            <a:tailEnd len="med" type="triangle" w="med"/>
          </a:ln>
        </p:spPr>
      </p:cxn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328680" y="1527120"/>
            <a:ext cx="57132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8170920" y="438120"/>
            <a:ext cx="539640" cy="1608120"/>
          </a:xfrm>
          <a:prstGeom prst="rect">
            <a:avLst/>
          </a:prstGeom>
          <a:ln w="0">
            <a:noFill/>
          </a:ln>
        </p:spPr>
      </p:pic>
      <p:sp>
        <p:nvSpPr>
          <p:cNvPr id="143" name="Picture 8"/>
          <p:cNvSpPr/>
          <p:nvPr/>
        </p:nvSpPr>
        <p:spPr>
          <a:xfrm>
            <a:off x="6659640" y="179280"/>
            <a:ext cx="126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000058"/>
          <p:cNvPicPr/>
          <p:nvPr/>
        </p:nvPicPr>
        <p:blipFill>
          <a:blip r:embed="rId3"/>
          <a:stretch/>
        </p:blipFill>
        <p:spPr>
          <a:xfrm>
            <a:off x="936720" y="206280"/>
            <a:ext cx="1439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2889360" y="5460840"/>
            <a:ext cx="6013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5000b"/>
                </a:solidFill>
                <a:latin typeface="Malgun Gothic"/>
                <a:ea typeface="Malgun Gothic"/>
              </a:rPr>
              <a:t>Знакомая карт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5000b"/>
                </a:solidFill>
                <a:latin typeface="Malgun Gothic"/>
                <a:ea typeface="Malgun Gothic"/>
              </a:rPr>
              <a:t>Так ли безобидны эти энергет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571760" y="642960"/>
            <a:ext cx="7331040" cy="1508040"/>
          </a:xfrm>
          <a:prstGeom prst="wedgeRoundRectCallout">
            <a:avLst>
              <a:gd name="adj1" fmla="val -36986"/>
              <a:gd name="adj2" fmla="val 114777"/>
              <a:gd name="adj3" fmla="val 16667"/>
            </a:avLst>
          </a:prstGeom>
          <a:solidFill>
            <a:srgbClr val="e6e6ff"/>
          </a:solidFill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5600" bIns="63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В 1984 г. – промышленное произ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в Австрии по изготовл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первого энергет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 Red Bu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900000" y="2708280"/>
            <a:ext cx="719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наптки"/>
          <p:cNvPicPr/>
          <p:nvPr/>
        </p:nvPicPr>
        <p:blipFill>
          <a:blip r:embed="rId1"/>
          <a:stretch/>
        </p:blipFill>
        <p:spPr>
          <a:xfrm>
            <a:off x="3995640" y="2540160"/>
            <a:ext cx="4187880" cy="2885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энер"/>
          <p:cNvPicPr/>
          <p:nvPr/>
        </p:nvPicPr>
        <p:blipFill>
          <a:blip r:embed="rId2"/>
          <a:stretch/>
        </p:blipFill>
        <p:spPr>
          <a:xfrm>
            <a:off x="785880" y="3214800"/>
            <a:ext cx="223200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3132000" y="5445000"/>
            <a:ext cx="60120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5000b"/>
                </a:solidFill>
                <a:latin typeface="Malgun Gothic"/>
                <a:ea typeface="Malgun Gothic"/>
              </a:rPr>
              <a:t>Знакомая карт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5000b"/>
                </a:solidFill>
                <a:latin typeface="Malgun Gothic"/>
                <a:ea typeface="Malgun Gothic"/>
              </a:rPr>
              <a:t>Так ли безобидны эти энергет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1428840" y="214200"/>
            <a:ext cx="7331040" cy="1508400"/>
          </a:xfrm>
          <a:prstGeom prst="wedgeRoundRectCallout">
            <a:avLst>
              <a:gd name="adj1" fmla="val -36986"/>
              <a:gd name="adj2" fmla="val 114777"/>
              <a:gd name="adj3" fmla="val 16667"/>
            </a:avLst>
          </a:prstGeom>
          <a:solidFill>
            <a:srgbClr val="e6e6ff"/>
          </a:solidFill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5600" bIns="63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Заводы «Кока-кола»  и «Пепси-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производя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Bur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Adrenalin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900000" y="2708280"/>
            <a:ext cx="719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6" descr=""/>
          <p:cNvPicPr/>
          <p:nvPr/>
        </p:nvPicPr>
        <p:blipFill>
          <a:blip r:embed="rId1"/>
          <a:stretch/>
        </p:blipFill>
        <p:spPr>
          <a:xfrm>
            <a:off x="4356000" y="2220840"/>
            <a:ext cx="3743280" cy="29527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"/>
          <p:cNvPicPr/>
          <p:nvPr/>
        </p:nvPicPr>
        <p:blipFill>
          <a:blip r:embed="rId2"/>
          <a:stretch/>
        </p:blipFill>
        <p:spPr>
          <a:xfrm>
            <a:off x="2214720" y="2928960"/>
            <a:ext cx="1000080" cy="20001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"/>
          <p:cNvPicPr/>
          <p:nvPr/>
        </p:nvPicPr>
        <p:blipFill>
          <a:blip r:embed="rId3"/>
          <a:stretch/>
        </p:blipFill>
        <p:spPr>
          <a:xfrm>
            <a:off x="357120" y="2214720"/>
            <a:ext cx="185760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7400" y="-14328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Какие  вещества  входят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в  состав  энерготоник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D:\04.16.2013 Энергетики это зло\IMG_4059.jpg"/>
          <p:cNvPicPr/>
          <p:nvPr/>
        </p:nvPicPr>
        <p:blipFill>
          <a:blip r:embed="rId1"/>
          <a:stretch/>
        </p:blipFill>
        <p:spPr>
          <a:xfrm>
            <a:off x="1000080" y="1152360"/>
            <a:ext cx="7164360" cy="47768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545400" y="6068880"/>
            <a:ext cx="817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ывает участница проекта Юлия Кузнец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стовый перевод  производит руководитель проекта А.В.Горош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713880"/>
            <a:ext cx="8604360" cy="949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В состав энергетических напитков     входит   </a:t>
            </a:r>
            <a:r>
              <a:rPr b="1" lang="ru-RU" sz="4400" spc="-1" strike="noStrike">
                <a:solidFill>
                  <a:srgbClr val="ff0000"/>
                </a:solidFill>
                <a:latin typeface="Malgun Gothic"/>
                <a:ea typeface="Malgun Gothic"/>
              </a:rPr>
              <a:t>гуар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2000160" y="264312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4120" y="315720"/>
            <a:ext cx="86144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уара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-  это  тропическое раст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но растёт в Бразил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уаран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это психостимулятор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содержит о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ного органических вещест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из них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это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кофеи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6215040" y="928800"/>
            <a:ext cx="24764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состав энергетических напитков входит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ФЕ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3429000" y="1428840"/>
            <a:ext cx="4929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5580000" y="5456160"/>
            <a:ext cx="3240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lgun Gothic"/>
                <a:ea typeface="Malgun Gothic"/>
              </a:rPr>
              <a:t>Природные      психостимуляторы</a:t>
            </a:r>
            <a:r>
              <a:rPr b="0" lang="ru-RU" sz="2800" spc="-1" strike="noStrike">
                <a:solidFill>
                  <a:srgbClr val="ff0000"/>
                </a:solidFill>
                <a:latin typeface="Malgun Gothic"/>
                <a:ea typeface="Malgun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были  известны  людям  всего  мира  с  глубокой  древ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Самый известный  из них </a:t>
            </a:r>
            <a:r>
              <a:rPr b="1" lang="ru-RU" sz="2800" spc="-1" strike="noStrike">
                <a:solidFill>
                  <a:srgbClr val="ff0000"/>
                </a:solidFill>
                <a:latin typeface="Malgun Gothic"/>
                <a:ea typeface="Malgun Gothic"/>
              </a:rPr>
              <a:t>КОФЕИН</a:t>
            </a:r>
            <a:r>
              <a:rPr b="1" lang="ru-RU" sz="2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algun Gothic"/>
                <a:ea typeface="Malgun Gothic"/>
              </a:rPr>
              <a:t>КОФЕИН  входит  в  сост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tretch/>
        </p:blipFill>
        <p:spPr>
          <a:xfrm>
            <a:off x="7186680" y="4529160"/>
            <a:ext cx="1608120" cy="1440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кофе"/>
          <p:cNvPicPr/>
          <p:nvPr/>
        </p:nvPicPr>
        <p:blipFill>
          <a:blip r:embed="rId2"/>
          <a:stretch/>
        </p:blipFill>
        <p:spPr>
          <a:xfrm>
            <a:off x="106200" y="4437000"/>
            <a:ext cx="1944720" cy="14590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1"/>
          <p:cNvSpPr/>
          <p:nvPr/>
        </p:nvSpPr>
        <p:spPr>
          <a:xfrm>
            <a:off x="3063960" y="4869000"/>
            <a:ext cx="704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5"/>
          <p:cNvSpPr/>
          <p:nvPr/>
        </p:nvSpPr>
        <p:spPr>
          <a:xfrm>
            <a:off x="6811200" y="5985000"/>
            <a:ext cx="1445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уа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6"/>
          <p:cNvSpPr/>
          <p:nvPr/>
        </p:nvSpPr>
        <p:spPr>
          <a:xfrm>
            <a:off x="573480" y="5877000"/>
            <a:ext cx="955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191966"/>
                </a:solidFill>
                <a:latin typeface="Arial"/>
              </a:rPr>
              <a:t>ко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Прямая со стрелкой 18"/>
          <p:cNvCxnSpPr/>
          <p:nvPr/>
        </p:nvCxnSpPr>
        <p:spPr>
          <a:xfrm flipH="1">
            <a:off x="2123280" y="4220640"/>
            <a:ext cx="36756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22"/>
          <p:cNvCxnSpPr>
            <a:endCxn id="169" idx="0"/>
          </p:cNvCxnSpPr>
          <p:nvPr/>
        </p:nvCxnSpPr>
        <p:spPr>
          <a:xfrm>
            <a:off x="3244320" y="4221000"/>
            <a:ext cx="172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Прямая со стрелкой 23"/>
          <p:cNvCxnSpPr/>
          <p:nvPr/>
        </p:nvCxnSpPr>
        <p:spPr>
          <a:xfrm>
            <a:off x="6372360" y="4221000"/>
            <a:ext cx="7002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5" name="Picture 13" descr=""/>
          <p:cNvPicPr/>
          <p:nvPr/>
        </p:nvPicPr>
        <p:blipFill>
          <a:blip r:embed="rId3"/>
          <a:stretch/>
        </p:blipFill>
        <p:spPr>
          <a:xfrm>
            <a:off x="3773520" y="4491000"/>
            <a:ext cx="209556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624600" y="1188360"/>
            <a:ext cx="813276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Кофеи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меньшает чувство усталости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нливости, повышает умствен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ботоспособность, ускоряет пуль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4221000"/>
            <a:ext cx="7770960" cy="2260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уководители проекта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рламова А.В. – учитель химии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рошков А.В. – учитель биологии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мошина Е.Н. – учитель-дефектолог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ова Л.А. – учитель-дефектоло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3640" y="98100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Авторы проекта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учащиеся 11-х класс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БОУ СКОШИ №65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вид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орода Моск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-164160" y="176400"/>
            <a:ext cx="90705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514440" indent="-514440" algn="ctr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ействие кофеин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олжает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 час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2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2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медленно выводи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 организм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2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2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   Пр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стоянном употреблен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фе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2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являются нервозность, бессонн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2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оль в жив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200000"/>
              </a:lnSpc>
              <a:buClr>
                <a:srgbClr val="000000"/>
              </a:buClr>
              <a:buFont typeface="Calibri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состав энергетических напитков входит вещество -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УР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489800" cy="714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1500120" y="3214800"/>
            <a:ext cx="62150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500040" y="-7560"/>
            <a:ext cx="81774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Таури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это аминокислота.  Одна банка   энергетического напитка содержит от 400 до 1000 мг таури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Таури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капливается в мышечных тканя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ногие  люди  думают, что   это  вещество  улучшает   работу сердечной мышц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4"/>
          <p:cNvSpPr/>
          <p:nvPr/>
        </p:nvSpPr>
        <p:spPr>
          <a:xfrm>
            <a:off x="1214280" y="1428840"/>
            <a:ext cx="775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о медики считаю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то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таурин вообщ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не оказывает никакого влия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на человеческий организ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 состав энерготоников входят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итамины группы 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4572000"/>
            <a:ext cx="4429080" cy="19987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5"/>
          <p:cNvSpPr/>
          <p:nvPr/>
        </p:nvSpPr>
        <p:spPr>
          <a:xfrm>
            <a:off x="27720" y="3714840"/>
            <a:ext cx="41065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АМИН (витамин В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4572000" y="178596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БОФЛАВИН (витамин В2), С17Н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4O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512280" y="1857240"/>
            <a:ext cx="24728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5857920" y="2643120"/>
            <a:ext cx="27860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403560" y="1554840"/>
            <a:ext cx="8312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итамины группы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это вещ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торые очень нужны организму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многих биохимических реа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976640" cy="49766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5"/>
          <p:cNvSpPr/>
          <p:nvPr/>
        </p:nvSpPr>
        <p:spPr>
          <a:xfrm>
            <a:off x="2714760" y="4179960"/>
            <a:ext cx="70722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Витамины группы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держа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  многих продуктах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е обладают энергетическими свойств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86240" y="100008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2"/>
          <p:cNvSpPr/>
          <p:nvPr/>
        </p:nvSpPr>
        <p:spPr>
          <a:xfrm>
            <a:off x="0" y="642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Организму     человека    не нужно дополнительное     посту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витаминов группы 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вместе   с     энерготоник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0" y="-3571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0989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5"/>
          <p:cNvSpPr/>
          <p:nvPr/>
        </p:nvSpPr>
        <p:spPr>
          <a:xfrm>
            <a:off x="285840" y="428760"/>
            <a:ext cx="8858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 состав   энерготоников   входит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аха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4857840" y="364320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"/>
          <p:cNvPicPr/>
          <p:nvPr/>
        </p:nvPicPr>
        <p:blipFill>
          <a:blip r:embed="rId2"/>
          <a:stretch/>
        </p:blipFill>
        <p:spPr>
          <a:xfrm>
            <a:off x="0" y="1428840"/>
            <a:ext cx="608184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8840" y="170928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Malgun Gothic"/>
              </a:rPr>
              <a:t>вред или польз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3429000" y="642960"/>
            <a:ext cx="4500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Malgun Gothic"/>
              </a:rPr>
              <a:t>Энергетики -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2571480" cy="2417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3429000" y="3286080"/>
            <a:ext cx="435780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461880" y="242280"/>
            <a:ext cx="7721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ахароз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это обычный сахар.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соединение двух прост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ахаров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глюкозы и фрукто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Глюко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это сах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питательное вещест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торое переносится кровью к орган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тканям организм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5567400" cy="39765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3"/>
          <p:cNvSpPr/>
          <p:nvPr/>
        </p:nvSpPr>
        <p:spPr>
          <a:xfrm>
            <a:off x="479880" y="6000840"/>
            <a:ext cx="81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хар поступает в организм вместе с пищ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966600" y="428760"/>
            <a:ext cx="709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аха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это источник энер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2"/>
          <p:cNvSpPr/>
          <p:nvPr/>
        </p:nvSpPr>
        <p:spPr>
          <a:xfrm>
            <a:off x="357120" y="285840"/>
            <a:ext cx="80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В каждом стакане энергото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но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5   кусочков   сахар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86280" y="2643120"/>
            <a:ext cx="3036960" cy="2286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5"/>
          <p:cNvSpPr/>
          <p:nvPr/>
        </p:nvSpPr>
        <p:spPr>
          <a:xfrm>
            <a:off x="440280" y="5429160"/>
            <a:ext cx="808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 очень  много, а  поэтому  вредн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 организма  челове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1643040" y="2214720"/>
            <a:ext cx="30718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0" y="64296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Организму     человека    </a:t>
            </a:r>
            <a:r>
              <a:rPr b="0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не нужно дополнительное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    посту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ахара 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 вместе   с     энерготоник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0" y="-3571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7861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000440" y="285480"/>
            <a:ext cx="10961640" cy="949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В состав энерготоников входят </a:t>
            </a:r>
            <a:r>
              <a:rPr b="1" lang="ru-RU" sz="4400" spc="-1" strike="noStrike">
                <a:solidFill>
                  <a:srgbClr val="ff0000"/>
                </a:solidFill>
                <a:latin typeface="Malgun Gothic"/>
                <a:ea typeface="Malgun Gothic"/>
              </a:rPr>
              <a:t>регуляторы кислотности </a:t>
            </a: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– э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лимонная кислота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аскорбиновая кислота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угольная кисл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160" y="356760"/>
            <a:ext cx="8961480" cy="949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В состав энерготоников  входят </a:t>
            </a:r>
            <a:r>
              <a:rPr b="1" lang="ru-RU" sz="4400" spc="-1" strike="noStrike">
                <a:solidFill>
                  <a:srgbClr val="ff0000"/>
                </a:solidFill>
                <a:latin typeface="Malgun Gothic"/>
                <a:ea typeface="Malgun Gothic"/>
              </a:rPr>
              <a:t>регуляторы кислотности</a:t>
            </a:r>
            <a:r>
              <a:rPr b="1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: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Например</a:t>
            </a: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,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algun Gothic"/>
                <a:ea typeface="Malgun Gothic"/>
              </a:rPr>
              <a:t>кока-кола</a:t>
            </a: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содержит фосфорную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(неорганическую) кислот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857920" y="4643280"/>
            <a:ext cx="257184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10961640" cy="949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лимонная кислота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        аскорбиновая кислот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угольная кисл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5572080" y="0"/>
            <a:ext cx="2357640" cy="2025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0" y="1989000"/>
            <a:ext cx="2571840" cy="1868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5429160" y="4429080"/>
            <a:ext cx="1047960" cy="9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tretch/>
        </p:blipFill>
        <p:spPr>
          <a:xfrm>
            <a:off x="6643800" y="4000680"/>
            <a:ext cx="232236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осфорную кислоту содержат многие продукты пи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2928960" cy="212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5286240" y="1857240"/>
            <a:ext cx="2643480" cy="237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785880" y="4357800"/>
            <a:ext cx="3081240" cy="2114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4"/>
          <a:stretch/>
        </p:blipFill>
        <p:spPr>
          <a:xfrm>
            <a:off x="5357880" y="4429080"/>
            <a:ext cx="28242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85480" y="571320"/>
            <a:ext cx="8227800" cy="45241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82000"/>
          </a:bodyPr>
          <a:p>
            <a:pPr marL="281160" indent="-281160" algn="ctr">
              <a:lnSpc>
                <a:spcPct val="15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рганизм челове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lnSpc>
                <a:spcPct val="15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е нуждае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lnSpc>
                <a:spcPct val="15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 дополнительном поступлении кислот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вместе   с энергетическим напитком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2640" y="55440"/>
            <a:ext cx="6932520" cy="35877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ы самостоятельно изучили соста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энергетических  напит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3" descr="D:\04.16.2013 Энергетики это зло\IMG_4071.jpg"/>
          <p:cNvPicPr/>
          <p:nvPr/>
        </p:nvPicPr>
        <p:blipFill>
          <a:blip r:embed="rId1"/>
          <a:stretch/>
        </p:blipFill>
        <p:spPr>
          <a:xfrm>
            <a:off x="1214280" y="150012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1385280" y="627372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нимке : участники проекта  - учащиеся 11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357120" y="574560"/>
            <a:ext cx="8423280" cy="5640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Э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ергетическ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напи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та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мод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Эти  напитки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час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употреб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ю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молодые   люди  в  возрасте  15 – 18 ле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2"/>
          <p:cNvSpPr/>
          <p:nvPr/>
        </p:nvSpPr>
        <p:spPr>
          <a:xfrm>
            <a:off x="1917360" y="0"/>
            <a:ext cx="56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езультат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85233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"/>
          <p:cNvSpPr/>
          <p:nvPr/>
        </p:nvSpPr>
        <p:spPr>
          <a:xfrm>
            <a:off x="325440" y="1484280"/>
            <a:ext cx="878508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Malgun Gothic"/>
              </a:rPr>
              <a:t>Определим кислотность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algun Gothic"/>
              </a:rPr>
              <a:t>энергетиков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algun Gothic"/>
              </a:rPr>
              <a:t>минеральной воды, молока, ч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5840" y="7138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каком стаканчике находится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ислот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Цилиндр 4"/>
          <p:cNvSpPr/>
          <p:nvPr/>
        </p:nvSpPr>
        <p:spPr>
          <a:xfrm>
            <a:off x="642960" y="2500200"/>
            <a:ext cx="1857240" cy="2571840"/>
          </a:xfrm>
          <a:prstGeom prst="can">
            <a:avLst>
              <a:gd name="adj" fmla="val 1805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Цилиндр 5"/>
          <p:cNvSpPr/>
          <p:nvPr/>
        </p:nvSpPr>
        <p:spPr>
          <a:xfrm>
            <a:off x="3571920" y="2571840"/>
            <a:ext cx="2000160" cy="2428920"/>
          </a:xfrm>
          <a:prstGeom prst="can">
            <a:avLst>
              <a:gd name="adj" fmla="val 205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Цилиндр 6"/>
          <p:cNvSpPr/>
          <p:nvPr/>
        </p:nvSpPr>
        <p:spPr>
          <a:xfrm>
            <a:off x="6643800" y="2571840"/>
            <a:ext cx="1928880" cy="2428920"/>
          </a:xfrm>
          <a:prstGeom prst="can">
            <a:avLst>
              <a:gd name="adj" fmla="val 1985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1214280" y="3143160"/>
            <a:ext cx="6541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м    поможет    л -  -  -  - с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Цилиндр 4"/>
          <p:cNvSpPr/>
          <p:nvPr/>
        </p:nvSpPr>
        <p:spPr>
          <a:xfrm>
            <a:off x="642960" y="2500200"/>
            <a:ext cx="1857240" cy="2571840"/>
          </a:xfrm>
          <a:prstGeom prst="can">
            <a:avLst>
              <a:gd name="adj" fmla="val 1805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Цилиндр 5"/>
          <p:cNvSpPr/>
          <p:nvPr/>
        </p:nvSpPr>
        <p:spPr>
          <a:xfrm>
            <a:off x="3571920" y="2571840"/>
            <a:ext cx="2000160" cy="2428920"/>
          </a:xfrm>
          <a:prstGeom prst="can">
            <a:avLst>
              <a:gd name="adj" fmla="val 205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Цилиндр 6"/>
          <p:cNvSpPr/>
          <p:nvPr/>
        </p:nvSpPr>
        <p:spPr>
          <a:xfrm>
            <a:off x="6643800" y="2571840"/>
            <a:ext cx="1928880" cy="2428920"/>
          </a:xfrm>
          <a:prstGeom prst="can">
            <a:avLst>
              <a:gd name="adj" fmla="val 1985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1214280" y="3143160"/>
            <a:ext cx="6541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1720440" y="5715000"/>
            <a:ext cx="58651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    поможет    лакмус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Цилиндр 4"/>
          <p:cNvSpPr/>
          <p:nvPr/>
        </p:nvSpPr>
        <p:spPr>
          <a:xfrm>
            <a:off x="571680" y="928800"/>
            <a:ext cx="2071440" cy="2571480"/>
          </a:xfrm>
          <a:prstGeom prst="can">
            <a:avLst>
              <a:gd name="adj" fmla="val 20138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вор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Цилиндр 5"/>
          <p:cNvSpPr/>
          <p:nvPr/>
        </p:nvSpPr>
        <p:spPr>
          <a:xfrm>
            <a:off x="3786120" y="2643120"/>
            <a:ext cx="2000160" cy="2428920"/>
          </a:xfrm>
          <a:prstGeom prst="can">
            <a:avLst>
              <a:gd name="adj" fmla="val 205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Цилиндр 6"/>
          <p:cNvSpPr/>
          <p:nvPr/>
        </p:nvSpPr>
        <p:spPr>
          <a:xfrm>
            <a:off x="6786720" y="428760"/>
            <a:ext cx="1928520" cy="2428920"/>
          </a:xfrm>
          <a:prstGeom prst="can">
            <a:avLst>
              <a:gd name="adj" fmla="val 1985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щел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Диагональная полоса 9"/>
          <p:cNvSpPr/>
          <p:nvPr/>
        </p:nvSpPr>
        <p:spPr>
          <a:xfrm>
            <a:off x="1643040" y="428760"/>
            <a:ext cx="785880" cy="714240"/>
          </a:xfrm>
          <a:custGeom>
            <a:avLst/>
            <a:gdLst/>
            <a:ahLst/>
            <a:rect l="l" t="t" r="r" b="b"/>
            <a:pathLst>
              <a:path w="785812" h="714375">
                <a:moveTo>
                  <a:pt x="0" y="357188"/>
                </a:moveTo>
                <a:lnTo>
                  <a:pt x="392906" y="0"/>
                </a:lnTo>
                <a:lnTo>
                  <a:pt x="785812" y="0"/>
                </a:lnTo>
                <a:lnTo>
                  <a:pt x="0" y="714375"/>
                </a:lnTo>
                <a:lnTo>
                  <a:pt x="0" y="3571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Диагональная полоса 10"/>
          <p:cNvSpPr/>
          <p:nvPr/>
        </p:nvSpPr>
        <p:spPr>
          <a:xfrm>
            <a:off x="4643280" y="2214720"/>
            <a:ext cx="785880" cy="714240"/>
          </a:xfrm>
          <a:custGeom>
            <a:avLst/>
            <a:gdLst/>
            <a:ahLst/>
            <a:rect l="l" t="t" r="r" b="b"/>
            <a:pathLst>
              <a:path w="785812" h="714375">
                <a:moveTo>
                  <a:pt x="0" y="357188"/>
                </a:moveTo>
                <a:lnTo>
                  <a:pt x="392906" y="0"/>
                </a:lnTo>
                <a:lnTo>
                  <a:pt x="785812" y="0"/>
                </a:lnTo>
                <a:lnTo>
                  <a:pt x="0" y="714375"/>
                </a:lnTo>
                <a:lnTo>
                  <a:pt x="0" y="357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Диагональная полоса 11"/>
          <p:cNvSpPr/>
          <p:nvPr/>
        </p:nvSpPr>
        <p:spPr>
          <a:xfrm>
            <a:off x="7786800" y="0"/>
            <a:ext cx="785880" cy="714240"/>
          </a:xfrm>
          <a:custGeom>
            <a:avLst/>
            <a:gdLst/>
            <a:ahLst/>
            <a:rect l="l" t="t" r="r" b="b"/>
            <a:pathLst>
              <a:path w="785812" h="714375">
                <a:moveTo>
                  <a:pt x="0" y="357188"/>
                </a:moveTo>
                <a:lnTo>
                  <a:pt x="392906" y="0"/>
                </a:lnTo>
                <a:lnTo>
                  <a:pt x="785812" y="0"/>
                </a:lnTo>
                <a:lnTo>
                  <a:pt x="0" y="714375"/>
                </a:lnTo>
                <a:lnTo>
                  <a:pt x="0" y="357188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5"/>
          <p:cNvSpPr/>
          <p:nvPr/>
        </p:nvSpPr>
        <p:spPr>
          <a:xfrm>
            <a:off x="4311000" y="3871800"/>
            <a:ext cx="120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0" y="3143160"/>
            <a:ext cx="2000160" cy="2667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"/>
          <p:cNvPicPr/>
          <p:nvPr/>
        </p:nvPicPr>
        <p:blipFill>
          <a:blip r:embed="rId2"/>
          <a:stretch/>
        </p:blipFill>
        <p:spPr>
          <a:xfrm>
            <a:off x="4643280" y="4857840"/>
            <a:ext cx="2256120" cy="1500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/>
          <p:cNvPicPr/>
          <p:nvPr/>
        </p:nvPicPr>
        <p:blipFill>
          <a:blip r:embed="rId3"/>
          <a:stretch/>
        </p:blipFill>
        <p:spPr>
          <a:xfrm>
            <a:off x="7122960" y="2571840"/>
            <a:ext cx="20210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5"/>
          <p:cNvSpPr/>
          <p:nvPr/>
        </p:nvSpPr>
        <p:spPr>
          <a:xfrm>
            <a:off x="492120" y="785880"/>
            <a:ext cx="8320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нергетические напит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прозрачные  и разного цве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пределить кисло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 помощью лакму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Arial"/>
              </a:rPr>
              <a:t>невозмож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4"/>
          <p:cNvSpPr/>
          <p:nvPr/>
        </p:nvSpPr>
        <p:spPr>
          <a:xfrm>
            <a:off x="940320" y="857160"/>
            <a:ext cx="651744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ь кислоту помо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бор –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Э  АШ   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524640" y="47862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4429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3"/>
          <a:stretch/>
        </p:blipFill>
        <p:spPr>
          <a:xfrm>
            <a:off x="3500280" y="2428920"/>
            <a:ext cx="2786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2"/>
          <p:cNvSpPr/>
          <p:nvPr/>
        </p:nvSpPr>
        <p:spPr>
          <a:xfrm>
            <a:off x="285840" y="285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ор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Э  АШ  метр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ределяет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ислотность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0" y="157176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  ПЭ АШ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ньше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  ПЭ АШ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ольше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  ПЭ АШ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вно  =  7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6357960" y="78588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3"/>
          <p:cNvSpPr/>
          <p:nvPr/>
        </p:nvSpPr>
        <p:spPr>
          <a:xfrm>
            <a:off x="1448640" y="-71280"/>
            <a:ext cx="600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чащие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пределили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ислот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зных напи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H:\Алла-Школа\Фото Школа\04.16.2013 Энергетики это зло\IMG_4070.jpg"/>
          <p:cNvPicPr/>
          <p:nvPr/>
        </p:nvPicPr>
        <p:blipFill>
          <a:blip r:embed="rId1"/>
          <a:stretch/>
        </p:blipFill>
        <p:spPr>
          <a:xfrm>
            <a:off x="641520" y="1643040"/>
            <a:ext cx="7716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2"/>
          <p:cNvSpPr/>
          <p:nvPr/>
        </p:nvSpPr>
        <p:spPr>
          <a:xfrm>
            <a:off x="679680" y="357120"/>
            <a:ext cx="75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й: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рас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зелё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чё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C:\Documents and Settings\ArinaPC\Рабочий стол\Фото 2013 Кислотность\100CANON\IMG_5749.JPG"/>
          <p:cNvPicPr/>
          <p:nvPr/>
        </p:nvPicPr>
        <p:blipFill>
          <a:blip r:embed="rId1"/>
          <a:stretch/>
        </p:blipFill>
        <p:spPr>
          <a:xfrm>
            <a:off x="285840" y="1143000"/>
            <a:ext cx="4135320" cy="2757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Documents and Settings\ArinaPC\Рабочий стол\Фото 2013 Кислотность\100CANON\IMG_5779.JPG"/>
          <p:cNvPicPr/>
          <p:nvPr/>
        </p:nvPicPr>
        <p:blipFill>
          <a:blip r:embed="rId2"/>
          <a:stretch/>
        </p:blipFill>
        <p:spPr>
          <a:xfrm>
            <a:off x="285840" y="404820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:\Documents and Settings\ArinaPC\Рабочий стол\Фото 2013 Кислотность\100CANON\IMG_5787.JPG"/>
          <p:cNvPicPr/>
          <p:nvPr/>
        </p:nvPicPr>
        <p:blipFill>
          <a:blip r:embed="rId3"/>
          <a:stretch/>
        </p:blipFill>
        <p:spPr>
          <a:xfrm>
            <a:off x="5214960" y="1143000"/>
            <a:ext cx="36432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/>
          <p:cNvSpPr/>
          <p:nvPr/>
        </p:nvSpPr>
        <p:spPr>
          <a:xfrm>
            <a:off x="285840" y="1000080"/>
            <a:ext cx="8678880" cy="5400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М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реши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и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провер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Верно 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наз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   «Энерге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напитки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Как они действуют   на  орган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2125440" cy="19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299880" y="642960"/>
            <a:ext cx="413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еральная в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к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C:\Documents and Settings\Varlamov\Рабочий стол\Алла-Школа\Фото Школа\Фото 2013 Кислотность\100CANON\IMG_5865.JPG"/>
          <p:cNvPicPr/>
          <p:nvPr/>
        </p:nvPicPr>
        <p:blipFill>
          <a:blip r:embed="rId1"/>
          <a:stretch/>
        </p:blipFill>
        <p:spPr>
          <a:xfrm>
            <a:off x="357120" y="2286000"/>
            <a:ext cx="4178520" cy="2786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Documents and Settings\Varlamov\Рабочий стол\Алла-Школа\Фото Школа\Фото 2013 Кислотность\100CANON\IMG_5872.JPG"/>
          <p:cNvPicPr/>
          <p:nvPr/>
        </p:nvPicPr>
        <p:blipFill>
          <a:blip r:embed="rId2"/>
          <a:stretch/>
        </p:blipFill>
        <p:spPr>
          <a:xfrm>
            <a:off x="5214960" y="1000080"/>
            <a:ext cx="35719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163880" y="214200"/>
            <a:ext cx="58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фе и горячий шокол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C:\Documents and Settings\Varlamov\Рабочий стол\Алла-Школа\Фото Школа\Фото 2013 Кислотность\100CANON\IMG_5822.JPG"/>
          <p:cNvPicPr/>
          <p:nvPr/>
        </p:nvPicPr>
        <p:blipFill>
          <a:blip r:embed="rId1"/>
          <a:stretch/>
        </p:blipFill>
        <p:spPr>
          <a:xfrm>
            <a:off x="214200" y="1928880"/>
            <a:ext cx="4894200" cy="32623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Documents and Settings\Varlamov\Рабочий стол\Алла-Школа\Фото Школа\Фото 2013 Кислотность\100CANON\IMG_5832.JPG"/>
          <p:cNvPicPr/>
          <p:nvPr/>
        </p:nvPicPr>
        <p:blipFill>
          <a:blip r:embed="rId2"/>
          <a:stretch/>
        </p:blipFill>
        <p:spPr>
          <a:xfrm>
            <a:off x="5286240" y="1214280"/>
            <a:ext cx="3667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2"/>
          <p:cNvSpPr/>
          <p:nvPr/>
        </p:nvSpPr>
        <p:spPr>
          <a:xfrm>
            <a:off x="235080" y="214200"/>
            <a:ext cx="59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око и апельсинов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Documents and Settings\Varlamov\Рабочий стол\Алла-Школа\Фото Школа\Фото 2013 Кислотность\100CANON\IMG_5877.JPG"/>
          <p:cNvPicPr/>
          <p:nvPr/>
        </p:nvPicPr>
        <p:blipFill>
          <a:blip r:embed="rId1"/>
          <a:stretch/>
        </p:blipFill>
        <p:spPr>
          <a:xfrm>
            <a:off x="6143760" y="214200"/>
            <a:ext cx="2786040" cy="1857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Documents and Settings\Varlamov\Рабочий стол\Алла-Школа\Фото Школа\Фото 2013 Кислотность\100CANON\IMG_5882.JPG"/>
          <p:cNvPicPr/>
          <p:nvPr/>
        </p:nvPicPr>
        <p:blipFill>
          <a:blip r:embed="rId2"/>
          <a:stretch/>
        </p:blipFill>
        <p:spPr>
          <a:xfrm>
            <a:off x="3786120" y="2571840"/>
            <a:ext cx="5143680" cy="3429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Varlamov\Рабочий стол\Алла-Школа\Фото Школа\Фото 2013 Кислотность\100CANON\IMG_5883.JPG"/>
          <p:cNvPicPr/>
          <p:nvPr/>
        </p:nvPicPr>
        <p:blipFill>
          <a:blip r:embed="rId3"/>
          <a:stretch/>
        </p:blipFill>
        <p:spPr>
          <a:xfrm>
            <a:off x="285840" y="1071720"/>
            <a:ext cx="32385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4985640" y="1143000"/>
            <a:ext cx="36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нта и спр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Documents and Settings\Varlamov\Рабочий стол\Алла-Школа\Фото Школа\Фото 2013 Кислотность\100CANON\IMG_5864.JPG"/>
          <p:cNvPicPr/>
          <p:nvPr/>
        </p:nvPicPr>
        <p:blipFill>
          <a:blip r:embed="rId1"/>
          <a:stretch/>
        </p:blipFill>
        <p:spPr>
          <a:xfrm>
            <a:off x="0" y="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Documents and Settings\Varlamov\Рабочий стол\Алла-Школа\Фото Школа\Фото 2013 Кислотность\100CANON\IMG_5860.JPG"/>
          <p:cNvPicPr/>
          <p:nvPr/>
        </p:nvPicPr>
        <p:blipFill>
          <a:blip r:embed="rId2"/>
          <a:stretch/>
        </p:blipFill>
        <p:spPr>
          <a:xfrm>
            <a:off x="3214800" y="2905200"/>
            <a:ext cx="59292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C:\Documents and Settings\Varlamov\Рабочий стол\Алла-Школа\Фото Школа\Фото 2013 Кислотность\100CANON\IMG_5898.JPG"/>
          <p:cNvPicPr/>
          <p:nvPr/>
        </p:nvPicPr>
        <p:blipFill>
          <a:blip r:embed="rId1"/>
          <a:stretch/>
        </p:blipFill>
        <p:spPr>
          <a:xfrm>
            <a:off x="5000760" y="500040"/>
            <a:ext cx="3762360" cy="5643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Documents and Settings\Varlamov\Рабочий стол\Алла-Школа\Фото Школа\Фото 2013 Кислотность\100CANON\IMG_5897.JPG"/>
          <p:cNvPicPr/>
          <p:nvPr/>
        </p:nvPicPr>
        <p:blipFill>
          <a:blip r:embed="rId2"/>
          <a:stretch/>
        </p:blipFill>
        <p:spPr>
          <a:xfrm>
            <a:off x="357120" y="2714760"/>
            <a:ext cx="4143600" cy="276228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4"/>
          <p:cNvSpPr/>
          <p:nvPr/>
        </p:nvSpPr>
        <p:spPr>
          <a:xfrm>
            <a:off x="583920" y="857160"/>
            <a:ext cx="37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дреналин Р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1888920" y="428760"/>
            <a:ext cx="51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ка-кола и Ред Бу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:\Documents and Settings\Varlamov\Рабочий стол\Алла-Школа\Фото Школа\Фото 2013 Кислотность\100CANON\IMG_5918.JPG"/>
          <p:cNvPicPr/>
          <p:nvPr/>
        </p:nvPicPr>
        <p:blipFill>
          <a:blip r:embed="rId1"/>
          <a:stretch/>
        </p:blipFill>
        <p:spPr>
          <a:xfrm>
            <a:off x="4071960" y="2143080"/>
            <a:ext cx="4822920" cy="3214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Documents and Settings\Varlamov\Рабочий стол\Алла-Школа\Фото Школа\Фото 2013 Кислотность\100CANON\IMG_5941.JPG"/>
          <p:cNvPicPr/>
          <p:nvPr/>
        </p:nvPicPr>
        <p:blipFill>
          <a:blip r:embed="rId2"/>
          <a:stretch/>
        </p:blipFill>
        <p:spPr>
          <a:xfrm>
            <a:off x="285840" y="1357200"/>
            <a:ext cx="3381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1164960" y="928800"/>
            <a:ext cx="240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улл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C:\Documents and Settings\Varlamov\Рабочий стол\Алла-Школа\Фото Школа\Фото 2013 Кислотность\100CANON\IMG_5931.JPG"/>
          <p:cNvPicPr/>
          <p:nvPr/>
        </p:nvPicPr>
        <p:blipFill>
          <a:blip r:embed="rId1"/>
          <a:stretch/>
        </p:blipFill>
        <p:spPr>
          <a:xfrm>
            <a:off x="5000760" y="357120"/>
            <a:ext cx="4000320" cy="2667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Documents and Settings\Varlamov\Рабочий стол\Алла-Школа\Фото Школа\Фото 2013 Кислотность\100CANON\IMG_5935.JPG"/>
          <p:cNvPicPr/>
          <p:nvPr/>
        </p:nvPicPr>
        <p:blipFill>
          <a:blip r:embed="rId2"/>
          <a:stretch/>
        </p:blipFill>
        <p:spPr>
          <a:xfrm>
            <a:off x="214200" y="2786040"/>
            <a:ext cx="5643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"/>
          <p:cNvSpPr/>
          <p:nvPr/>
        </p:nvSpPr>
        <p:spPr>
          <a:xfrm>
            <a:off x="250920" y="189000"/>
            <a:ext cx="8678880" cy="6480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Malgun Gothic"/>
              </a:rPr>
              <a:t>Чтобы ответить на эти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Malgun Gothic"/>
              </a:rPr>
              <a:t>провели анкетирова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«Как подрос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относятся к энергетическим напиткам?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2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Malgun Gothic"/>
              </a:rPr>
              <a:t>изучили состав энергетик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и дру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напит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3) исследовал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Malgun Gothic"/>
              </a:rPr>
              <a:t>влия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 этих напит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Malgun Gothic"/>
              </a:rPr>
              <a:t>на животные тка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4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Malgun Gothic"/>
              </a:rPr>
              <a:t>сравнили кислот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энергети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минеральной воды, молока, чая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5)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Malgun Gothic"/>
              </a:rPr>
              <a:t>сделали выво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о том, полезны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вредны энергетические нап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79280" y="1857240"/>
            <a:ext cx="896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179280" y="836640"/>
            <a:ext cx="885672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Malgun Gothic"/>
              </a:rPr>
              <a:t>«Обычные»   напит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Чай:  чёрный,   зелёный,  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Ко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Горячий шокол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Апельсиновый 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Минеральна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К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259640" y="0"/>
            <a:ext cx="699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Arial"/>
              </a:rPr>
              <a:t>ОБЪЕКТ 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9640" y="1112760"/>
            <a:ext cx="720108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Malgun Gothic"/>
              </a:rPr>
              <a:t>Тонизирующие напит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Швеп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Кока –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Ф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Спр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algun Gothic"/>
              </a:rPr>
              <a:t>Пеп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1420560" y="404640"/>
            <a:ext cx="699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Arial"/>
              </a:rPr>
              <a:t>ОБЪЕКТ 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4</dc:creator>
  <dc:description/>
  <dc:language>en-US</dc:language>
  <cp:lastModifiedBy>4</cp:lastModifiedBy>
  <cp:lastPrinted>2013-04-15T04:04:00Z</cp:lastPrinted>
  <dcterms:modified xsi:type="dcterms:W3CDTF">2016-12-07T11:06:01Z</dcterms:modified>
  <cp:revision>222</cp:revision>
  <dc:subject/>
  <dc:title>Влияние энергетических напитков на  ткани растительного и животного происхожд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250000000000010279900207f7000400038000</vt:lpwstr>
  </property>
</Properties>
</file>