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2DE-AFD7-4DDF-8851-53E59C1C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13E-AC41-4ABE-BAD9-6597FC79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20B-E84B-4D3B-9A7B-84977B10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F2C-BAD1-45B1-8D6E-20D42093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4D64-ED1E-4B85-91D5-F74117D5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8ECD-33C1-4D55-8226-D7903B19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7094-D39C-4A28-BCEF-161818C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40AB-01CF-46CB-9E93-82DB1EE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8378-7747-43CB-93CB-F287803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2A32-5E42-49EF-A3B9-96E32461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415A-714D-45CE-AC7C-A8A2FAF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DFC-CB2E-4223-88B3-2695A35B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3400-D82A-49F0-9B36-1818EEF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4BCA-FD3A-4B37-87D8-EE30C28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0911-C82B-4342-855B-46B0C4A3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7D41-AE21-4832-AC48-E545D854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C6F4-FF66-487D-8712-B5CA14A7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C4A-3B92-4CE6-AF4F-266BB0F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A23-BC20-45B0-888A-F1BC3B31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FC3-66DE-43D9-982B-3831850B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23C-EAF4-477A-AD65-0F18F5B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42C-D9D0-4FB2-9276-0D7BA0F2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183-945A-4548-B5AD-437549C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805-FD13-42E5-94CE-5910EB0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87E3-20CF-40EE-9DFD-4681F731A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528-18B2-4DE5-991A-DE73DF4B6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5559480" cy="41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510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238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29000" y="15228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2209680" cy="164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2968560" cy="221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276720" y="24382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943600" y="24382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066680" y="4640400"/>
            <a:ext cx="2971800" cy="221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191120" y="4576680"/>
            <a:ext cx="30574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0600" cy="384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336840" cy="6553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18T13:07:2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