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6EA-77D5-4C9D-9CC4-E79B4336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35A-CA24-4D37-9AB2-D300C39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981-F12F-45F4-A760-664DE594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337-8187-41B8-9D34-9726A31F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FBA-250A-403F-AD65-476F38AE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E07-956F-4E9C-A0E4-858FC91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3FA4-CE36-4B8E-B804-E071385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97A1-79FA-453E-908A-FBA409B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E889-4894-4E66-AB0F-FB7F77EF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386-6DDF-4C56-8203-7373FEF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9D2-E041-4E9D-B803-0A649F1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487-D7F9-48B2-84FB-B692BB0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657-FED5-4E9B-831C-78C7E3E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9BE0-7B35-4A1E-A935-1CE31F5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883D-885D-4A07-B760-FD74A21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85B6-76A2-4B5A-A874-B7DCD90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97C-3EBA-4819-BAF5-7C69057F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F82-5E98-4504-AB97-CF9D18C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891-22C6-438E-9C07-4E41EF8A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F4B-DDAA-40E8-AA2C-8749DBC0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FF9-067F-4B79-B362-76763EBD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F3B-A1B8-49E1-8A98-734647B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0F2-A99F-4883-88CC-A9F065A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520-B393-449A-B1D5-F964578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C37-5D10-4668-8837-EBF395E8D1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900-FA1D-4274-982A-09F74806C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424720" cy="2590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неурочная деятельность ,как одно из направлений развития школьника с ограниченными возможностями здоровья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ьминог. Коллектив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6" descr="C:\Documents and Settings\Admin.MICROSOF-4CA6DE\Рабочий стол\Фото0359.jpg"/>
          <p:cNvPicPr/>
          <p:nvPr/>
        </p:nvPicPr>
        <p:blipFill>
          <a:blip r:embed="rId1"/>
          <a:stretch/>
        </p:blipFill>
        <p:spPr>
          <a:xfrm>
            <a:off x="1928880" y="2500200"/>
            <a:ext cx="506412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дивидуальные работы учащих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643040" y="2000160"/>
            <a:ext cx="59292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P1030817"/>
          <p:cNvPicPr/>
          <p:nvPr/>
        </p:nvPicPr>
        <p:blipFill>
          <a:blip r:embed="rId1"/>
          <a:stretch/>
        </p:blipFill>
        <p:spPr>
          <a:xfrm>
            <a:off x="1643040" y="1773360"/>
            <a:ext cx="59292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6870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ебе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71400" y="1856880"/>
            <a:ext cx="6143400" cy="362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User\Рабочий стол\Фото0352.jpg"/>
          <p:cNvPicPr/>
          <p:nvPr/>
        </p:nvPicPr>
        <p:blipFill>
          <a:blip r:embed="rId2"/>
          <a:stretch/>
        </p:blipFill>
        <p:spPr>
          <a:xfrm>
            <a:off x="1571760" y="142884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ш у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42680" y="1828800"/>
            <a:ext cx="5429160" cy="36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User\Рабочий стол\Фото0354.jpg"/>
          <p:cNvPicPr/>
          <p:nvPr/>
        </p:nvPicPr>
        <p:blipFill>
          <a:blip r:embed="rId2"/>
          <a:stretch/>
        </p:blipFill>
        <p:spPr>
          <a:xfrm>
            <a:off x="1643040" y="1428840"/>
            <a:ext cx="5500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142720" y="1928520"/>
            <a:ext cx="6072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dff"/>
                </a:solidFill>
                <a:latin typeface="Comic Sans MS"/>
              </a:rPr>
              <a:t>Спасибо за         внимание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9280" y="691920"/>
            <a:ext cx="7696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« Истоки творческих способностей и дарований дет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на кончиках их пальцев. От пальцев, образно говоря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идут тончайшие ручейки, которые питают источник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творческой мысли. Другими словами: чем больш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мастерства в детской ладошке, тем умнее ребенок"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.А.Сухомлинск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66438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я перв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P1040058"/>
          <p:cNvPicPr/>
          <p:nvPr/>
        </p:nvPicPr>
        <p:blipFill>
          <a:blip r:embed="rId1"/>
          <a:stretch/>
        </p:blipFill>
        <p:spPr>
          <a:xfrm>
            <a:off x="1714680" y="1214280"/>
            <a:ext cx="5357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611820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Цел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: развивать познавательный интерес, творческие способности, формировать умения следовать устным инструкциям, применять знания межпредметной связи, обогащать словарный запас, профилактика физических, интеллектуальных и психологических перегрузок.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4240" y="6858000"/>
            <a:ext cx="6958080" cy="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052640"/>
            <a:ext cx="687060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Задачи: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развивающие: -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развитие внимания, памяти, логического мышления,      пространственного воображения;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- развитие мелкой моторики рук и глазомера;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- развитие художественного вкуса, творческих способностей, фантазии детей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воспитательные: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- воспитание интереса к искусству оригами;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расширение коммуникативных способностей детей;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формирование культурного труда, аккуратности, эстетического вкуса, взаимопомощи, коллективизма, самостоятельности.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образовательные: -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расширить словарный запас и кругозор посредством тематических бесед;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- учить читать схемы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440" y="6811920"/>
            <a:ext cx="7529400" cy="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вая коллектив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Рисунок 12" descr="C:\Documents and Settings\Admin.MICROSOF-4CA6DE\Рабочий стол\Фото0360.jpg"/>
          <p:cNvPicPr/>
          <p:nvPr/>
        </p:nvPicPr>
        <p:blipFill>
          <a:blip r:embed="rId1"/>
          <a:stretch/>
        </p:blipFill>
        <p:spPr>
          <a:xfrm>
            <a:off x="2071800" y="2714760"/>
            <a:ext cx="485748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микро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13" descr="C:\Documents and Settings\Admin.MICROSOF-4CA6DE\Рабочий стол\Фото0361.jpg"/>
          <p:cNvPicPr/>
          <p:nvPr/>
        </p:nvPicPr>
        <p:blipFill>
          <a:blip r:embed="rId1"/>
          <a:stretch/>
        </p:blipFill>
        <p:spPr>
          <a:xfrm>
            <a:off x="2643120" y="2643120"/>
            <a:ext cx="43624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ши подел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4" descr="C:\Documents and Settings\Admin.MICROSOF-4CA6DE\Рабочий стол\Фото0350.jpg"/>
          <p:cNvPicPr/>
          <p:nvPr/>
        </p:nvPicPr>
        <p:blipFill>
          <a:blip r:embed="rId1"/>
          <a:stretch/>
        </p:blipFill>
        <p:spPr>
          <a:xfrm>
            <a:off x="1617840" y="2928960"/>
            <a:ext cx="538308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6800" y="152280"/>
            <a:ext cx="66992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арок для ма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42760" y="200016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User\Рабочий стол\Фото0363.jpg"/>
          <p:cNvPicPr/>
          <p:nvPr/>
        </p:nvPicPr>
        <p:blipFill>
          <a:blip r:embed="rId2"/>
          <a:stretch/>
        </p:blipFill>
        <p:spPr>
          <a:xfrm>
            <a:off x="3000240" y="1571760"/>
            <a:ext cx="2714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3T05:21:55Z</dcterms:created>
  <dc:creator>User</dc:creator>
  <dc:description/>
  <dc:language>en-US</dc:language>
  <cp:lastModifiedBy>Tatyana</cp:lastModifiedBy>
  <dcterms:modified xsi:type="dcterms:W3CDTF">2018-02-09T20:28:53Z</dcterms:modified>
  <cp:revision>24</cp:revision>
  <dc:subject/>
  <dc:title>Внеурочная деятельность ,как одно из направлений развития школьника с ОВЗ </dc:title>
</cp:coreProperties>
</file>