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2A05-D4D4-4F67-8930-9CBE8152E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B781-B9C5-4214-8CCA-E7BC5DE5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1AD7-B9DA-47E0-86E2-1F1E0A2E0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2ACF-C5D3-4A07-BC29-86C47CFC2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3A71-2943-47C3-BF7C-F29E3372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C29A-BBC3-4CB4-A669-85B3DC7E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B881-9110-4617-A1B7-5CF87617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DF0A-0BFC-4532-AE02-4DF46FB3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4A9E-8FFB-49B4-9557-BBF253C2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CCE4-A80E-4755-AF4C-A00EE7BA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23D1-3C23-4ACF-AD8B-5112A33C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CE3F-3F3E-4D7E-8B79-AC27D213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5A78-DCC5-44A2-9955-8879850808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48000" y="1197000"/>
            <a:ext cx="5122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рмула корней квадратного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787640" y="4365360"/>
            <a:ext cx="309708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юн Н.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аем приме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2160" y="1054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2160" y="6580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2160" y="819720"/>
            <a:ext cx="27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0" y="11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5113080" cy="100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2124000" y="2637000"/>
            <a:ext cx="4608720" cy="936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3"/>
          <a:stretch/>
        </p:blipFill>
        <p:spPr>
          <a:xfrm>
            <a:off x="2124000" y="3645000"/>
            <a:ext cx="5040360" cy="1079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4"/>
          <a:stretch/>
        </p:blipFill>
        <p:spPr>
          <a:xfrm>
            <a:off x="2268360" y="4941720"/>
            <a:ext cx="4680000" cy="7909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4306320" y="634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2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4306320" y="12110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3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4306320" y="1871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4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2476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50920" y="2133720"/>
          <a:ext cx="8642160" cy="2158920"/>
        </p:xfrm>
        <a:graphic>
          <a:graphicData uri="http://schemas.openxmlformats.org/drawingml/2006/table">
            <a:tbl>
              <a:tblPr/>
              <a:tblGrid>
                <a:gridCol w="2162160"/>
                <a:gridCol w="2158920"/>
                <a:gridCol w="2160720"/>
                <a:gridCol w="2160360"/>
              </a:tblGrid>
              <a:tr h="107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0, Х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9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- 3, Х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= - 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2, Х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полнить табл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1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8064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"/>
          <p:cNvSpPr/>
          <p:nvPr/>
        </p:nvSpPr>
        <p:spPr>
          <a:xfrm>
            <a:off x="1332000" y="2408040"/>
            <a:ext cx="705636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отовить сообщение об истории возникновения и решения квадратных урав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1, 5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ст «Виды квадратных уравнени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826920" y="1773360"/>
          <a:ext cx="7993080" cy="4106880"/>
        </p:xfrm>
        <a:graphic>
          <a:graphicData uri="http://schemas.openxmlformats.org/drawingml/2006/table">
            <a:tbl>
              <a:tblPr/>
              <a:tblGrid>
                <a:gridCol w="2181240"/>
                <a:gridCol w="1328760"/>
                <a:gridCol w="1494000"/>
                <a:gridCol w="1495440"/>
                <a:gridCol w="1493640"/>
              </a:tblGrid>
              <a:tr h="9633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.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о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олно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е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но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66600" rIns="66600" tIns="66600" bIns="6660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 х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 5х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3 =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66600" rIns="66600" tIns="66600" bIns="6660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 6х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 9 =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66600" rIns="66600" tIns="66600" bIns="6660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 х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– 3х =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66600" rIns="66600" tIns="66600" bIns="6660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 –х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2х +4 =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920">
                <a:tc>
                  <a:txBody>
                    <a:bodyPr lIns="66600" rIns="66600" tIns="66600" bIns="6660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 3х + 6х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7 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ст «Виды квадратных уравнени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826920" y="1773360"/>
          <a:ext cx="7993080" cy="4106880"/>
        </p:xfrm>
        <a:graphic>
          <a:graphicData uri="http://schemas.openxmlformats.org/drawingml/2006/table">
            <a:tbl>
              <a:tblPr/>
              <a:tblGrid>
                <a:gridCol w="2181240"/>
                <a:gridCol w="1328760"/>
                <a:gridCol w="1494000"/>
                <a:gridCol w="1495440"/>
                <a:gridCol w="1493640"/>
              </a:tblGrid>
              <a:tr h="9633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.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о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олно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е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но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66600" rIns="66600" tIns="66600" bIns="6660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 х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 5х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3 =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66600" rIns="66600" tIns="66600" bIns="6660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 6х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 9 =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66600" rIns="66600" tIns="66600" bIns="6660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 х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– 3х =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66600" rIns="66600" tIns="66600" bIns="6660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 –х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2х +4 =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920">
                <a:tc>
                  <a:txBody>
                    <a:bodyPr lIns="66600" rIns="66600" tIns="66600" bIns="6660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 3х + 6х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7 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итерий оцени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"/>
          <p:cNvSpPr/>
          <p:nvPr/>
        </p:nvSpPr>
        <p:spPr>
          <a:xfrm>
            <a:off x="0" y="22464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ошибок – 5 б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2 ош. – 4б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- 4 ош. - 3б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- 6 ош. – 2б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6 ош. – 0 б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ставление класт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2"/>
          <p:cNvSpPr/>
          <p:nvPr/>
        </p:nvSpPr>
        <p:spPr>
          <a:xfrm>
            <a:off x="611280" y="1989000"/>
            <a:ext cx="813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те текст учебника стр.116, п.22 до первого примера и попробуйте составить кластер, используя ключевые слова «квадратные уравне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1187280" y="1734120"/>
            <a:ext cx="7417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 — подняться, подтянутьс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ва — согнуться, разогнуть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и — в ладоши три хлопк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ловою три кивк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четыре — ноги шир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ять — руками помаха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Шесть — за стол тихонько сесть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полните табл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84360" y="1197000"/>
          <a:ext cx="7559640" cy="4983120"/>
        </p:xfrm>
        <a:graphic>
          <a:graphicData uri="http://schemas.openxmlformats.org/drawingml/2006/table">
            <a:tbl>
              <a:tblPr/>
              <a:tblGrid>
                <a:gridCol w="2813040"/>
                <a:gridCol w="1582560"/>
                <a:gridCol w="1582920"/>
                <a:gridCol w="1581120"/>
              </a:tblGrid>
              <a:tr h="30492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ть коэффициенты квадратного уравн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х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2х-34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х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19х+2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х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9х - 2х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х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80 =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х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7 + 2х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х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7х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х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х+4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х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х+5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полните табл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84360" y="1197000"/>
          <a:ext cx="7559640" cy="4983120"/>
        </p:xfrm>
        <a:graphic>
          <a:graphicData uri="http://schemas.openxmlformats.org/drawingml/2006/table">
            <a:tbl>
              <a:tblPr/>
              <a:tblGrid>
                <a:gridCol w="2813040"/>
                <a:gridCol w="1582560"/>
                <a:gridCol w="1582920"/>
                <a:gridCol w="1581120"/>
              </a:tblGrid>
              <a:tr h="30492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ть коэффициенты квадратного уравн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х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2х-34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х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19х+2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х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9х - 2х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х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80 =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х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7 + 2х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х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7х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х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х+4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х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х+5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78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95280" y="290880"/>
            <a:ext cx="8280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те квадратные уравнения, если известны их коэффициен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)а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=3, 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= 8, 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= 2;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)  а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=1, 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= 0, 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= -1;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)  а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= 5, 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= 0,5, 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= -3;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17:54:48Z</dcterms:created>
  <dc:creator>User</dc:creator>
  <dc:description/>
  <dc:language>en-US</dc:language>
  <cp:lastModifiedBy>Надя Оюн</cp:lastModifiedBy>
  <dcterms:modified xsi:type="dcterms:W3CDTF">2018-02-09T01:39:57Z</dcterms:modified>
  <cp:revision>13</cp:revision>
  <dc:subject/>
  <dc:title>Слайд 1</dc:title>
</cp:coreProperties>
</file>