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7251-EAE3-4DA5-AA13-835A94C9E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5F60-0039-4428-9A58-FF782AD8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189E-390A-4608-93EC-797AD938C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3D76-0427-4D06-B9EA-FB8FA7CEA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09E8-A646-409B-B952-95120D48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4414-02C1-4FDA-9C69-487D03A0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3FE5-C878-4194-8553-6ABA8D36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C5EF-854F-4C00-8F9A-E717D7F5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F028-E099-4843-B9E1-98AD8AF1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FF36-2596-4DE0-9F1A-20CF028B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AB4C-35D1-4B35-933A-451AD275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2357-BA5F-42A1-8C30-2A432390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E7C5-1DC0-4F6D-882E-7729BD9DA50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Наша</a:t>
            </a: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группа</a:t>
            </a: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«</a:t>
            </a:r>
            <a:r>
              <a:rPr b="0" lang="ru-RU" sz="4400" spc="-1" strike="noStrike">
                <a:solidFill>
                  <a:srgbClr val="ff9900"/>
                </a:solidFill>
                <a:latin typeface="Arial"/>
              </a:rPr>
              <a:t>Р</a:t>
            </a: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4400" spc="-1" strike="noStrike">
                <a:solidFill>
                  <a:srgbClr val="33cc33"/>
                </a:solidFill>
                <a:latin typeface="Arial"/>
              </a:rPr>
              <a:t>д</a:t>
            </a:r>
            <a:r>
              <a:rPr b="0" lang="ru-RU" sz="4400" spc="-1" strike="noStrike">
                <a:solidFill>
                  <a:srgbClr val="66ccff"/>
                </a:solidFill>
                <a:latin typeface="Arial"/>
              </a:rPr>
              <a:t>у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г</a:t>
            </a:r>
            <a:r>
              <a:rPr b="0" lang="ru-RU" sz="4400" spc="-1" strike="noStrike">
                <a:solidFill>
                  <a:srgbClr val="6600cc"/>
                </a:solidFill>
                <a:latin typeface="Arial"/>
              </a:rPr>
              <a:t>а</a:t>
            </a: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»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42" name="Picture 5" descr="IMG_20130826_151325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Мы веселые ребята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8" name="Picture 6" descr="IMG_20130902_100553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IMG_20140225_094059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Хочу все знать.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71" name="Picture 6" descr="IMG_20140312_092542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IMG_20140312_094642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Пора обедать.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74" name="Picture 7" descr="IMG_20130826_152458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IMG_20130826_152524"/>
          <p:cNvPicPr/>
          <p:nvPr/>
        </p:nvPicPr>
        <p:blipFill>
          <a:blip r:embed="rId2"/>
          <a:stretch/>
        </p:blipFill>
        <p:spPr>
          <a:xfrm>
            <a:off x="468000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И снова занимаемся.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77" name="Picture 3" descr="IMG_20140318_090704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IMG_20140314_100334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Мы гуляем.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80" name="Picture 6" descr="IMG_20140314_120449"/>
          <p:cNvPicPr/>
          <p:nvPr/>
        </p:nvPicPr>
        <p:blipFill>
          <a:blip r:embed="rId1"/>
          <a:stretch/>
        </p:blipFill>
        <p:spPr>
          <a:xfrm>
            <a:off x="357120" y="235728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IMG_20140314_120537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И снова занимаемся.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83" name="Picture 14" descr="IMG_20140318_090704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7" descr="IMG_20140314_100334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Спасибо за внимание.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готовила воспитател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улейманова Светлана                    Владимиров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Мы теперь старшие.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44" name="Picture 5" descr="IMG_20140225_092849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раздник Урожая.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46" name="Picture 8" descr="IMG_20130912_100509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IMG_20130912_100835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IMG_20130912_101310"/>
          <p:cNvPicPr/>
          <p:nvPr/>
        </p:nvPicPr>
        <p:blipFill>
          <a:blip r:embed="rId3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Как мы занимаемся.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50" name="Picture 8" descr="IMG_20130919_161311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IMG_20130919_161329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Неделя  безопасности в детском саду.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53" name="Picture 8" descr="IMG_20131017_090614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IMG_20131017_090518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IMG_20131017_092644"/>
          <p:cNvPicPr/>
          <p:nvPr/>
        </p:nvPicPr>
        <p:blipFill>
          <a:blip r:embed="rId3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Мы развлекаемся.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57" name="Picture 9" descr="IMG_20140225_093652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IMG_20140225_094127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Как мы трудимся.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0" name="Picture 12" descr="IMG_20131126_080742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Очень любим мы играть.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2" name="Picture 7" descr="IMG_20130826_151958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IMG_20130826_152232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Песни петь и танцевать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5" name="Picture 10" descr="IMG_20130902_095847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IMG_20130902_101406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15:57:21Z</dcterms:created>
  <dc:creator>Администратор</dc:creator>
  <dc:description/>
  <dc:language>en-US</dc:language>
  <cp:lastModifiedBy>Пользователь Windows</cp:lastModifiedBy>
  <dcterms:modified xsi:type="dcterms:W3CDTF">2018-02-09T14:54:56Z</dcterms:modified>
  <cp:revision>14</cp:revision>
  <dc:subject/>
  <dc:title>Наша группа «Радуга»</dc:title>
</cp:coreProperties>
</file>