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C36-95DF-4A22-AF16-D9D0DA0F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2F7-17E2-47A9-A3C3-40254C5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5B9-DB3E-4E0C-B216-87DAD190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E41-A0FB-4795-A7B9-1607056F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B59-BD53-4266-800A-F02F2506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D88-03DA-4516-890B-5CCC173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9EB-930C-42D2-9209-3800EBF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FF0-DFA7-4368-A227-260AA95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3A3-E199-4726-BC5E-DFB6B3AC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B47-B213-4F05-8485-A0F75EA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420-6246-44DB-A053-7D62CA6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563-23B9-4A89-A0D7-8E513FE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A453-F81F-47EB-BF14-214152BC4E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Мои рисунки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80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214280" y="16430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2365200" y="182520"/>
            <a:ext cx="4359600" cy="3164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Администратор\Мои документы\Мои рисунки\юрта.jpg"/>
          <p:cNvPicPr/>
          <p:nvPr/>
        </p:nvPicPr>
        <p:blipFill>
          <a:blip r:embed="rId3"/>
          <a:stretch/>
        </p:blipFill>
        <p:spPr>
          <a:xfrm>
            <a:off x="2060640" y="3614760"/>
            <a:ext cx="50227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428760" y="285840"/>
            <a:ext cx="84294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Тыва өгнүң иштинге эт-сеп, херекселдер салыры мырыңай тускай чурумнуг. Ол чурумну 12 чылдыг тыва календарь-биле дүүштүрүп каан. Ону тодаргайлаарга, мындыг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Дөр черинге ыяап-ла аптара салыр. Ооң кырынга бурган дүрзүлери , чула, артыш болгаш чем дээжизи салыр. Аптара иштинге өг-бүлениң эң үнелиг чүүлдерин шыгжаар. Ынчангаш Куске ында олурар, чүге дизе ол ажылгыр, чүве үүжелээринге, шыгжаарынга ына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397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Аптара бетинге орун салыр. А оларның аразынга бичии үзүк чер аттырып алыр, аңаа аъш-чем, хойтпак доскаары салыр.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л душт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ек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урар.  Чүге дизе ол кижилерге бодунуң сүдүн,  эъдин, кежин берип чоруур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68360" y="3141720"/>
            <a:ext cx="820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Орун бажының дужунд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саадап чыдар, ынчангаш ол черге эр улустар олурар. Оруннуң адаанд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йгун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күжүр чыдар, ооң дужунда өгнүң кыс ээзи олур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365040" y="620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лгүүр. Ол дээрге аяк-сава, аъш-чем сугар херексел-дир. Ооң чанында үзүк черге хууң-сава, оттулар ыяш салыр. Ында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у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бар.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Үлгүүрнүң дужунда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ылан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чалараан. Ол мерген угаанныг амытан бол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66840" y="1627200"/>
            <a:ext cx="822960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Эжиктиң аксынд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ът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турар. Эжик ханазынга эът-чем азар, ол душка чорумал кижилер олурар. Ол кавыд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й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чыдар. Кыжын аңаа хураган, бызаа челелэ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4680" y="4220640"/>
            <a:ext cx="8472600" cy="22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. Чүък (чыышкын). Чүък адаанда адыр ыяшка аргамчы, кижен, дужак, чүген, чулар, эзер азар. Шак ол душт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чи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бар.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. Чүъктүң баарынд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гаа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а бажынд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т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турар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9. </a:t>
            </a:r>
            <a:r>
              <a:rPr b="1" i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Ширээ – аъш-чем делгээр чавыс столчугаш. Ол душта </a:t>
            </a:r>
            <a:r>
              <a:rPr b="1" i="1" lang="ru-RU" sz="2500" spc="-1" strike="noStrike">
                <a:solidFill>
                  <a:srgbClr val="c00000"/>
                </a:solidFill>
                <a:latin typeface="Arial"/>
                <a:ea typeface="Arial"/>
              </a:rPr>
              <a:t>Хаван </a:t>
            </a:r>
            <a:r>
              <a:rPr b="1" i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бар.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ru-RU" sz="2500" spc="-1" strike="noStrike">
                <a:solidFill>
                  <a:srgbClr val="7030a0"/>
                </a:solidFill>
                <a:latin typeface="Arial"/>
                <a:ea typeface="Arial"/>
              </a:rPr>
              <a:t>Өгнүң дап дал ортузунда ожук турар. Өгге үш кол ширтек чадар: дөр ширтээ, аай ширтек, дедир ширтек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Администратор\Мои документы\Мои рисунки\ширээ.jpg"/>
          <p:cNvPicPr/>
          <p:nvPr/>
        </p:nvPicPr>
        <p:blipFill>
          <a:blip r:embed="rId1"/>
          <a:stretch/>
        </p:blipFill>
        <p:spPr>
          <a:xfrm>
            <a:off x="2712960" y="1573200"/>
            <a:ext cx="3827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639720" y="12600"/>
            <a:ext cx="7772400" cy="1749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22200" y="1855800"/>
            <a:ext cx="5291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Өгнүң херекселдеринге хамаарышкан хөй-ле сагыыр ужурлар ба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дминистратор\Мои документы\Мои рисунки\внутри.jpg"/>
          <p:cNvPicPr/>
          <p:nvPr/>
        </p:nvPicPr>
        <p:blipFill>
          <a:blip r:embed="rId2"/>
          <a:stretch/>
        </p:blipFill>
        <p:spPr>
          <a:xfrm>
            <a:off x="5937120" y="1487520"/>
            <a:ext cx="2652840" cy="201132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3"/>
          <p:cNvSpPr/>
          <p:nvPr/>
        </p:nvSpPr>
        <p:spPr>
          <a:xfrm>
            <a:off x="341280" y="3141720"/>
            <a:ext cx="822960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-  эжикти хак кылдыр хаап болбас, 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каржы кижи апаар;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- Эргин кырынга олурбас, бажың чок кижи болур;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- сава-саңга аксы доңгайтыр кагбас, 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ядыы кижи апаар;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- паш дүвү халыратпас, сүвүрбес, 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аштап чоруу кижи апаар;</a:t>
            </a:r>
            <a:br>
              <a:rPr sz="1600"/>
            </a:br>
            <a:r>
              <a:rPr b="1" i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- бижектиң бизин кижиже көрүндүр сунмас, өжээнзирек кижи апаар дээш оон-даа ыңа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Администратор\Мои документы\Мои рисунки\тува респ. в картинах\2005-09-tuva-024_cat10_38bdfa34tr_500x375_pc_swt.jpg"/>
          <p:cNvPicPr/>
          <p:nvPr/>
        </p:nvPicPr>
        <p:blipFill>
          <a:blip r:embed="rId1"/>
          <a:srcRect l="0" t="6255" r="0" b="0"/>
          <a:stretch/>
        </p:blipFill>
        <p:spPr>
          <a:xfrm>
            <a:off x="374760" y="349200"/>
            <a:ext cx="3941640" cy="295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Admin\Мои документы\Мои рисунки\ог\ог.jpg"/>
          <p:cNvPicPr/>
          <p:nvPr/>
        </p:nvPicPr>
        <p:blipFill>
          <a:blip r:embed="rId2"/>
          <a:srcRect l="2541" t="62209" r="0" b="2042"/>
          <a:stretch/>
        </p:blipFill>
        <p:spPr>
          <a:xfrm>
            <a:off x="4859280" y="349200"/>
            <a:ext cx="3925800" cy="29448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692360" y="3860640"/>
            <a:ext cx="550368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гнүң бүгү дерии-биле эт-херекселин кылып салыпканда көөрге онзагай-ла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г - езулуг-ла бистиң өгбелеривистиң биске арттырып кааны, бурунгу культураның тураскаалы болу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Администратор\Мои документы\Мои рисунки\тува респ. в картинах\bij_xem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11280" y="2649600"/>
            <a:ext cx="4746600" cy="3551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1328760" y="189000"/>
            <a:ext cx="70041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71680" y="1428840"/>
            <a:ext cx="8143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Өг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деп сөс кижи бүрүзүнге билдинг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Өг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– кижилер чурттаар ч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л чүгле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тыв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арда эвес,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моол, хакас, алтай, казах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дээш өске-даа чоннарда б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лар колдуунда дөм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ындыг-ла кончуг ылгал ч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85880" y="92160"/>
            <a:ext cx="7772400" cy="133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  <a:ea typeface="Arial"/>
              </a:rPr>
              <a:t>ӨГНҮ БЕЛЕНИ-БИЛЕ БУЗУП, ЧЫЫП, ТИП АЛЫР. ЫНЧАНГАШ КӨЖЕРИНГЕ КОНЧУГ ЭПТИГ. ТЫВАЛАР КОЛДУУНДА КИДИСТЕН КЫЛГАН ӨГЛЕРГЕ ЧУРТТАП ЧОРААН. АМГЫ ҮЕДЕ ӨГЛЕРДЕ МАЛЧЫННАР, АРАТТАР ЧАЙГЫ ҮЕДЕ ЧУРТТАП ТУРА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  <a:ea typeface="Arial"/>
              </a:rPr>
              <a:t>ТЫВА ЧОН АЛЫС УГУНДАН МАЛ-МАГАН АЗЫРААР БОЛГАШ ҮЕНИҢ ДӨРТ ЭРГИЛДЕЗИНИҢ ААЙЫ-БИЛЕ БИР ЧЕРДЕН ӨСКЕ ЧЕРЖЕ КӨЖҮП ЧОРААН. ЧАЗЫН ДОКТААР ЧЕРНИ ЧАЗАГ, КЫЖЫН ДОКТААР ЧЕРНИ КЫШТАГ, КҮЗҮН ДОКТААР ЧЕРНИ КҮЗЕГ, ЧАЙЫН ДОКТААР ЧЕРНИ ЧАЙЛАГ ДЭЭ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682560" y="396720"/>
            <a:ext cx="7772400" cy="124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93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Өг </a:t>
            </a:r>
            <a:r>
              <a:rPr b="1" i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– тываларның бурунгу культуразының бир кезээ. Ол бодунуң ниити хевириниң, иштики-даштыкы тургузуунуң, ужурларының талазы-биле тускай сагыыр дүрүмнерлиг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Чижээлээрге: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1. Өгнүң орну ыяап-ла төгерик болур, Чүге дизе чер-биле дөмейлештиргени ол;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2. Өгнүң ишти тыва календарга дүүшкек. Дөр бажындан эгелээш, хүн аайы-биле Күске, Инек, Пар, Тоолай, Улу, Чылан, Аът, Хой, Мечи, Дагаа, Ыт, Хаван деп кезектерге чарлыр;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3. Өг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эр-кыс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деп ийи талалыг. Эр улус өгнүң солагай, а кыс улус оң талазынга олурар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4. Өгнүң хүндүткелдиг чери –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өр бажы.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Ынаар кайы хамаанчок кижи олурбас. Дөр чарыынга өгнүң ээлери, хүндүлүг аалчылар олурар;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5. Чайгы үеде өг иштинге олура-ла, хүн дуртун азы үени илередип ап болур. Ону өгнүң эт-севинге дегген хүннүң херелдеринден билип алыр.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042920" y="1197000"/>
            <a:ext cx="7261200" cy="5445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609480" y="36360"/>
            <a:ext cx="77724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дминистратор\Мои документы\Мои рисунки\бурган ширээзи.jpg"/>
          <p:cNvPicPr/>
          <p:nvPr/>
        </p:nvPicPr>
        <p:blipFill>
          <a:blip r:embed="rId1"/>
          <a:stretch/>
        </p:blipFill>
        <p:spPr>
          <a:xfrm>
            <a:off x="214200" y="357120"/>
            <a:ext cx="3940200" cy="21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Администратор\Мои документы\Мои рисунки\чуък.jpg"/>
          <p:cNvPicPr/>
          <p:nvPr/>
        </p:nvPicPr>
        <p:blipFill>
          <a:blip r:embed="rId2"/>
          <a:srcRect l="0" t="0" r="27598" b="58454"/>
          <a:stretch/>
        </p:blipFill>
        <p:spPr>
          <a:xfrm>
            <a:off x="285840" y="3714840"/>
            <a:ext cx="3749760" cy="26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Администратор\Мои документы\Мои рисунки\от.jpg"/>
          <p:cNvPicPr/>
          <p:nvPr/>
        </p:nvPicPr>
        <p:blipFill>
          <a:blip r:embed="rId3"/>
          <a:stretch/>
        </p:blipFill>
        <p:spPr>
          <a:xfrm>
            <a:off x="2714760" y="2000160"/>
            <a:ext cx="260028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Администратор\Мои документы\Мои рисунки\орун.jpg"/>
          <p:cNvPicPr/>
          <p:nvPr/>
        </p:nvPicPr>
        <p:blipFill>
          <a:blip r:embed="rId4"/>
          <a:stretch/>
        </p:blipFill>
        <p:spPr>
          <a:xfrm>
            <a:off x="5072040" y="285840"/>
            <a:ext cx="35272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Администратор\Мои документы\Мои рисунки\чуък.jpg"/>
          <p:cNvPicPr/>
          <p:nvPr/>
        </p:nvPicPr>
        <p:blipFill>
          <a:blip r:embed="rId5"/>
          <a:srcRect l="10810" t="61496" r="42886" b="2267"/>
          <a:stretch/>
        </p:blipFill>
        <p:spPr>
          <a:xfrm>
            <a:off x="6215040" y="2643120"/>
            <a:ext cx="26812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Администратор\Мои документы\Мои рисунки\чуък.jpg"/>
          <p:cNvPicPr/>
          <p:nvPr/>
        </p:nvPicPr>
        <p:blipFill>
          <a:blip r:embed="rId6"/>
          <a:srcRect l="68790" t="61494" r="0" b="3614"/>
          <a:stretch/>
        </p:blipFill>
        <p:spPr>
          <a:xfrm>
            <a:off x="4572000" y="4143240"/>
            <a:ext cx="192888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ырыш-оол Лилия Ивановна</dc:creator>
  <dc:description/>
  <dc:language>en-US</dc:language>
  <cp:lastModifiedBy>ПК</cp:lastModifiedBy>
  <dcterms:modified xsi:type="dcterms:W3CDTF">2018-02-06T15:21:48Z</dcterms:modified>
  <cp:revision>56</cp:revision>
  <dc:subject/>
  <dc:title>Слайд 1</dc:title>
</cp:coreProperties>
</file>