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53C-869F-4498-B504-963E4A17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CE7-360A-4225-BD8F-FEB7E55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DCE-2DD4-47E3-A6C0-D288078A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2A9-7573-48B3-A1E3-5C22E87E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832-13E7-4B14-8572-8BD55F4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3BD-87CB-4216-950F-1906765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89F-E019-47DE-916F-E9A7240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65E-63DE-4B86-9457-D4D4147A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150-8794-4715-8E68-4FCAFF36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29F-2B57-4A2D-93D4-46E7FBD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D8D-17DB-40F8-941F-B3EDFB2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C74-1C14-4F61-87BB-24302CB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C0E-180F-4219-957A-9535D6D6A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673280" y="1219320"/>
            <a:ext cx="7419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Georgia"/>
              </a:rPr>
              <a:t>Экологический проек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Georgia"/>
              </a:rPr>
              <a:t>«Огород на подоконни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Вторая младшая группа «Солныш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Georgia"/>
              </a:rPr>
              <a:t>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Georgia"/>
              </a:rPr>
              <a:t>Подготовил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Georgia"/>
              </a:rPr>
              <a:t>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Georgia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Georgia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Georgia"/>
              </a:rPr>
              <a:t>Михеева Мар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G_5992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289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IMG_5994"/>
          <p:cNvPicPr/>
          <p:nvPr/>
        </p:nvPicPr>
        <p:blipFill>
          <a:blip r:embed="rId3"/>
          <a:stretch/>
        </p:blipFill>
        <p:spPr>
          <a:xfrm>
            <a:off x="4500720" y="3429000"/>
            <a:ext cx="4392360" cy="306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IMG_6011"/>
          <p:cNvPicPr/>
          <p:nvPr/>
        </p:nvPicPr>
        <p:blipFill>
          <a:blip r:embed="rId4"/>
          <a:stretch/>
        </p:blipFill>
        <p:spPr>
          <a:xfrm>
            <a:off x="250920" y="3500280"/>
            <a:ext cx="3889440" cy="29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IMG_6016"/>
          <p:cNvPicPr/>
          <p:nvPr/>
        </p:nvPicPr>
        <p:blipFill>
          <a:blip r:embed="rId5"/>
          <a:stretch/>
        </p:blipFill>
        <p:spPr>
          <a:xfrm>
            <a:off x="4500720" y="260280"/>
            <a:ext cx="4092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НЕ ЗАБУДЕМ И РУЧКИ МЫ ПОМ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IMG_5998"/>
          <p:cNvPicPr/>
          <p:nvPr/>
        </p:nvPicPr>
        <p:blipFill>
          <a:blip r:embed="rId2"/>
          <a:stretch/>
        </p:blipFill>
        <p:spPr>
          <a:xfrm>
            <a:off x="4932360" y="4005360"/>
            <a:ext cx="3959280" cy="2498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IMG_5999"/>
          <p:cNvPicPr/>
          <p:nvPr/>
        </p:nvPicPr>
        <p:blipFill>
          <a:blip r:embed="rId3"/>
          <a:stretch/>
        </p:blipFill>
        <p:spPr>
          <a:xfrm>
            <a:off x="539640" y="4005360"/>
            <a:ext cx="3961080" cy="250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IMG_6023"/>
          <p:cNvPicPr/>
          <p:nvPr/>
        </p:nvPicPr>
        <p:blipFill>
          <a:blip r:embed="rId4"/>
          <a:stretch/>
        </p:blipFill>
        <p:spPr>
          <a:xfrm>
            <a:off x="2700360" y="1413000"/>
            <a:ext cx="4175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ЧТО ЖЕ ТУТ У НАС ВЗОШЛ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IMG_6024"/>
          <p:cNvPicPr/>
          <p:nvPr/>
        </p:nvPicPr>
        <p:blipFill>
          <a:blip r:embed="rId2"/>
          <a:stretch/>
        </p:blipFill>
        <p:spPr>
          <a:xfrm>
            <a:off x="604800" y="2852640"/>
            <a:ext cx="3895920" cy="360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MG_6026"/>
          <p:cNvPicPr/>
          <p:nvPr/>
        </p:nvPicPr>
        <p:blipFill>
          <a:blip r:embed="rId3"/>
          <a:stretch/>
        </p:blipFill>
        <p:spPr>
          <a:xfrm>
            <a:off x="4751280" y="1908000"/>
            <a:ext cx="4392720" cy="32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IMG_6029"/>
          <p:cNvPicPr/>
          <p:nvPr/>
        </p:nvPicPr>
        <p:blipFill>
          <a:blip r:embed="rId2"/>
          <a:stretch/>
        </p:blipFill>
        <p:spPr>
          <a:xfrm>
            <a:off x="250920" y="404640"/>
            <a:ext cx="4033800" cy="276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IMG_6027"/>
          <p:cNvPicPr/>
          <p:nvPr/>
        </p:nvPicPr>
        <p:blipFill>
          <a:blip r:embed="rId3"/>
          <a:stretch/>
        </p:blipFill>
        <p:spPr>
          <a:xfrm>
            <a:off x="5111640" y="390600"/>
            <a:ext cx="3853080" cy="278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IMG_6033"/>
          <p:cNvPicPr/>
          <p:nvPr/>
        </p:nvPicPr>
        <p:blipFill>
          <a:blip r:embed="rId4"/>
          <a:stretch/>
        </p:blipFill>
        <p:spPr>
          <a:xfrm>
            <a:off x="1979640" y="3500280"/>
            <a:ext cx="53290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лук29"/>
          <p:cNvPicPr/>
          <p:nvPr/>
        </p:nvPicPr>
        <p:blipFill>
          <a:blip r:embed="rId2"/>
          <a:stretch/>
        </p:blipFill>
        <p:spPr>
          <a:xfrm>
            <a:off x="487692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лук28"/>
          <p:cNvPicPr/>
          <p:nvPr/>
        </p:nvPicPr>
        <p:blipFill>
          <a:blip r:embed="rId3"/>
          <a:stretch/>
        </p:blipFill>
        <p:spPr>
          <a:xfrm>
            <a:off x="324000" y="342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лук30"/>
          <p:cNvPicPr/>
          <p:nvPr/>
        </p:nvPicPr>
        <p:blipFill>
          <a:blip r:embed="rId4"/>
          <a:stretch/>
        </p:blipFill>
        <p:spPr>
          <a:xfrm>
            <a:off x="4876920" y="342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лук26"/>
          <p:cNvPicPr/>
          <p:nvPr/>
        </p:nvPicPr>
        <p:blipFill>
          <a:blip r:embed="rId5"/>
          <a:stretch/>
        </p:blipFill>
        <p:spPr>
          <a:xfrm>
            <a:off x="39528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MG_6057"/>
          <p:cNvPicPr/>
          <p:nvPr/>
        </p:nvPicPr>
        <p:blipFill>
          <a:blip r:embed="rId6"/>
          <a:stretch/>
        </p:blipFill>
        <p:spPr>
          <a:xfrm>
            <a:off x="395280" y="189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IMG_6059"/>
          <p:cNvPicPr/>
          <p:nvPr/>
        </p:nvPicPr>
        <p:blipFill>
          <a:blip r:embed="rId7"/>
          <a:stretch/>
        </p:blipFill>
        <p:spPr>
          <a:xfrm>
            <a:off x="4859280" y="189000"/>
            <a:ext cx="428472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MG_6069"/>
          <p:cNvPicPr/>
          <p:nvPr/>
        </p:nvPicPr>
        <p:blipFill>
          <a:blip r:embed="rId8"/>
          <a:stretch/>
        </p:blipFill>
        <p:spPr>
          <a:xfrm>
            <a:off x="4859280" y="3429000"/>
            <a:ext cx="4284720" cy="32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MG_6071"/>
          <p:cNvPicPr/>
          <p:nvPr/>
        </p:nvPicPr>
        <p:blipFill>
          <a:blip r:embed="rId9"/>
          <a:stretch/>
        </p:blipFill>
        <p:spPr>
          <a:xfrm>
            <a:off x="250920" y="342900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1332000" y="260280"/>
            <a:ext cx="720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лученн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1. Дети научились  сажать и ухаживать за растениями и познакомились с условиями их содержания, научились подмечать пользу растительно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2.  У детей сформировались знания и представления о росте растений в комнатных условиях как в контейнере с почвой так и в контейнере с опил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3</a:t>
            </a:r>
            <a:r>
              <a:rPr b="0" i="1" lang="ru-RU" sz="2400" spc="-1" strike="noStrike">
                <a:solidFill>
                  <a:srgbClr val="0000ff"/>
                </a:solidFill>
                <a:latin typeface="Georgia"/>
              </a:rPr>
              <a:t>. </a:t>
            </a: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Дети научились пользоваться лейкой, выполнять поручения, убирать орудия труда на место посл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IMG_6026"/>
          <p:cNvPicPr/>
          <p:nvPr/>
        </p:nvPicPr>
        <p:blipFill>
          <a:blip r:embed="rId2"/>
          <a:stretch/>
        </p:blipFill>
        <p:spPr>
          <a:xfrm>
            <a:off x="5651640" y="4581360"/>
            <a:ext cx="262872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СПАСИБО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ЗА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0" y="2610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2"/>
          <p:cNvPicPr/>
          <p:nvPr/>
        </p:nvPicPr>
        <p:blipFill>
          <a:blip r:embed="rId1"/>
          <a:stretch/>
        </p:blipFill>
        <p:spPr>
          <a:xfrm>
            <a:off x="-468360" y="-17640"/>
            <a:ext cx="9612360" cy="715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Знакомство с бесконечными, постоянно изменяющимися явлениями начинается с первых лет жизни малыша. Явления и объекты природы привлекают детей красотой, яркостью красок. Наблюдая за ними, ребенок обогащает свой чувственный опыт, на котором и основывается его дальнейшее творчество. Чем глубже ребенок познает таинства окружающего мира, тем больше у него возникает вопросов. Чтобы удовлетворить любознательность, привить первые навыки активности и самостоятельности мышления, мною созданы условия для поисково-исследовательской деятельности детей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знакомление с ростом и развитием растений можно осуществлять в зимне-весенний период, выращивая в помещении детского сада различные культуры из семян и луковиц, используя для этого огород на окне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Рисунок2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715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ая  значимость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а, заключается в выработке у детей навыка ухода за растениями. Дети вместе со мной вырастили растения, ухаживали за ними, получили конкретные представления о росте и развитии. В процессе ухода за растениями у них выработались умения правильно пользоваться простейшими орудиями по обработке почвы и уходу за растениями, сформировалось бережное отношение к природ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изна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разработки состоит в том, что в осенне-зимний период у детей угасает интерес к развитию растений, так как нет наглядности. Для решения этой проблемы был создан “огород на окне”, который позволяет вести наблюдения за ростом и развитием растений, проводить экспериментальную работу по выявлению факторов, влияющих на рост и развитие растений и получение устойчивых трудовых умений и навыков по уходу за растениями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Georgia"/>
              </a:rPr>
              <a:t>ЦЕЛЬ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:</a:t>
            </a:r>
            <a:br>
              <a:rPr sz="20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первоначальных экологических представлений у детей посредством создания мини-огорода на окне.</a:t>
            </a:r>
            <a:br>
              <a:rPr sz="1800"/>
            </a:br>
            <a:br>
              <a:rPr sz="16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Georgia"/>
              </a:rPr>
              <a:t>ЗАДАЧИ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Дать знания о том, что растения живые, их сажают, поливают, выращивают из семян и луковиц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Формировать умения выращивать сорта культурных растений и сажать лук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Формировать знания детей о том, что необходимо для роста растений (свет, тепло, влага, почва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Развивать любознательность, интерес к исследовательской деятельности, экспериментировани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Развивать речь детей, активизировать словарь (луковица, семена, земля, посадить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Воспитывать трудолюбие и бережное отношение к своему труду и труду взрослых и сверстников, воспитывать чувство ответстве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Воспитывать бережное и заботливое отношение к растени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2"/>
          <p:cNvPicPr/>
          <p:nvPr/>
        </p:nvPicPr>
        <p:blipFill>
          <a:blip r:embed="rId1"/>
          <a:stretch/>
        </p:blipFill>
        <p:spPr>
          <a:xfrm>
            <a:off x="-468360" y="-17640"/>
            <a:ext cx="9612360" cy="715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ип проек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знавательный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ид проек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следователь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частники проек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ти 2-ой младшей группы, воспитатель группы и родител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циальная значимость проект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иобщение детей к работе по выращиванию вместе со взрослым зелени на подоконнике в зимнее время, развивать целеустремленность, наблюдательность, воспитание интереса к миру раст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оектная иде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здать в группе детского сада огород на подоконнике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проекта: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январь- февраль- м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7396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Работа с родителями:</a:t>
            </a:r>
            <a:br>
              <a:rPr sz="2000"/>
            </a:b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1.Подготовка для проведения проекта – контейнеры, землю, семена, луковицы, опилки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2.Совместное обсуждение мероприятий по выполнению проекта.</a:t>
            </a:r>
            <a:br>
              <a:rPr sz="16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едполагаемые результаты:</a:t>
            </a:r>
            <a:br>
              <a:rPr sz="2000"/>
            </a:b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1. Дети научатся сажать и ухаживать за растениями и познакомятся с условиями их содержания, будут учиться подмечать пользу  растительного мира.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2.  У детей сформируются знания и представления о росте растений в комнатных условиях как в контейнере с почвой так и в контейнере с опилками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Дети научаться пользоваться лейкой, выполнять поручения, убирать орудия труда на место после работы.</a:t>
            </a:r>
            <a:br>
              <a:rPr sz="16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пособы оценки: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пыты, наблюдения, беседы, экспери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5472000" cy="28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 ЭТАП - ПОДГОТОВИТЕЛЬНЫЙ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. Сбор материала необходимого для реализации проекта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. Обустройство огорода на подоконнике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. Беседы с детьми(выявление уровня знаний о растениях)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. Подборка художественной литературы для чтения.</a:t>
            </a:r>
            <a:br>
              <a:rPr sz="1400"/>
            </a:br>
            <a:br>
              <a:rPr sz="14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 ЭТАП – ИССЛЕДОВАТЕЛЬСКИЙ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. Рассматривание луковицы, семян культурных растений. Беседа по ходу наблюдения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. Участие детей в посеве семян культурных растений и посадке луковиц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. Уход за растениями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. Выполнение заданий самостоятельных наблюдений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5. Ознакомление детей с художественной литературой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6. Игровая, двигательная деятельность.</a:t>
            </a:r>
            <a:br>
              <a:rPr sz="1400"/>
            </a:br>
            <a:br>
              <a:rPr sz="14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 ЭТАП – ЗАКЛЮЧИТЕЛЬНЫЙ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. Анализ и обобщение результатов, полученных в процессе исследовательской деятельности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. Подведение итогов реализации проекта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. Представление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"/>
          <p:cNvSpPr txBox="1"/>
          <p:nvPr/>
        </p:nvSpPr>
        <p:spPr>
          <a:xfrm>
            <a:off x="684360" y="549360"/>
            <a:ext cx="611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ТОРЕПОРТАЖ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39640" y="1341360"/>
            <a:ext cx="331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Огород наш, о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Всё на нём всегда раст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Если руки не ленив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Если мы трудолюбив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Проявить должны  забо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Видно по труду р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И тогда наш о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Расцветёт и ожив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IMG_6032"/>
          <p:cNvPicPr/>
          <p:nvPr/>
        </p:nvPicPr>
        <p:blipFill>
          <a:blip r:embed="rId4"/>
          <a:stretch/>
        </p:blipFill>
        <p:spPr>
          <a:xfrm>
            <a:off x="5435640" y="2852640"/>
            <a:ext cx="3444840" cy="381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IMG_6000"/>
          <p:cNvPicPr/>
          <p:nvPr/>
        </p:nvPicPr>
        <p:blipFill>
          <a:blip r:embed="rId5"/>
          <a:stretch/>
        </p:blipFill>
        <p:spPr>
          <a:xfrm>
            <a:off x="468360" y="3573360"/>
            <a:ext cx="395928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IMG_6033"/>
          <p:cNvPicPr/>
          <p:nvPr/>
        </p:nvPicPr>
        <p:blipFill>
          <a:blip r:embed="rId6"/>
          <a:stretch/>
        </p:blipFill>
        <p:spPr>
          <a:xfrm>
            <a:off x="4788000" y="162864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Й, КАК ВСЕ ТУТ ИНТЕРЕС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IMG_5987"/>
          <p:cNvPicPr/>
          <p:nvPr/>
        </p:nvPicPr>
        <p:blipFill>
          <a:blip r:embed="rId2"/>
          <a:stretch/>
        </p:blipFill>
        <p:spPr>
          <a:xfrm>
            <a:off x="179280" y="1628640"/>
            <a:ext cx="3961080" cy="4033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MG_5989"/>
          <p:cNvPicPr/>
          <p:nvPr/>
        </p:nvPicPr>
        <p:blipFill>
          <a:blip r:embed="rId3"/>
          <a:stretch/>
        </p:blipFill>
        <p:spPr>
          <a:xfrm>
            <a:off x="4500720" y="2565360"/>
            <a:ext cx="44640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9:46:26Z</dcterms:created>
  <dc:creator>Марина</dc:creator>
  <dc:description/>
  <dc:language>en-US</dc:language>
  <cp:lastModifiedBy>RePack by SPecialiST</cp:lastModifiedBy>
  <dcterms:modified xsi:type="dcterms:W3CDTF">2018-02-08T19:15:59Z</dcterms:modified>
  <cp:revision>105</cp:revision>
  <dc:subject/>
  <dc:title>Слайд 1</dc:title>
</cp:coreProperties>
</file>