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6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33A-5CB2-4839-9836-594DA747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EA3-37E1-4C69-921A-2EF65562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4A3-43A0-4F3B-A358-7C0324AC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6C5-C79A-46D3-9BEA-A492C209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8A91-9487-4536-A693-DC20B6D0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F826-C3FF-4DD3-87DF-2783F59D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D1DB-7207-4BD9-A2A4-2A4783B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CB0-EB86-40D8-9F37-FBFB562A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52B-2791-44BA-A341-40DD3119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EB0A-BAF0-46E2-A517-07D8B9D9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796A-9383-4FBF-A6C3-732D9DB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E91-4956-427F-8D1D-FCE5980E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DFA-B888-4B2C-BD13-FA24F0D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BBF7-6A61-485F-B57E-8BD990C4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8245-D842-4FB5-8BF2-15AB742C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9E88-FC8C-4D84-8B9F-BDD2CBCA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ADAD-26C0-4638-9A8C-6B6FE745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2F8-F6B5-42FD-939D-981FCDD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063-39D9-472D-B883-2DC70035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00F-01A7-4BF5-85DF-2A5A7CFC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286-1B90-4ECC-A619-06BFEFA4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21E-6D03-4FFE-AFC0-ED7AA34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BBA-9C16-4AAB-A243-26F05C7A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28B-9003-4623-8CA1-192FA00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C30E-F2DD-4278-821C-90758A57A5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49D-94D2-4780-BB18-30E575A50C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Тема исследова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6624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Откуда  у пчёл мёд?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med_rasplo"/>
          <p:cNvPicPr/>
          <p:nvPr/>
        </p:nvPicPr>
        <p:blipFill>
          <a:blip r:embed="rId1"/>
          <a:stretch/>
        </p:blipFill>
        <p:spPr>
          <a:xfrm>
            <a:off x="179280" y="2825640"/>
            <a:ext cx="6193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Вывод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1471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Мы узнали, как живут пчёл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Откуда у них мё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Научились определять качество мёд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pchela14"/>
          <p:cNvPicPr/>
          <p:nvPr/>
        </p:nvPicPr>
        <p:blipFill>
          <a:blip r:embed="rId1"/>
          <a:stretch/>
        </p:blipFill>
        <p:spPr>
          <a:xfrm>
            <a:off x="4859280" y="3801960"/>
            <a:ext cx="4284720" cy="30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Цель исследова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18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Узнать, каким образом пчёлы добывают мёд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9" descr="Пчёлки и другие опылители 8"/>
          <p:cNvPicPr/>
          <p:nvPr/>
        </p:nvPicPr>
        <p:blipFill>
          <a:blip r:embed="rId1"/>
          <a:stretch/>
        </p:blipFill>
        <p:spPr>
          <a:xfrm>
            <a:off x="1332000" y="2492280"/>
            <a:ext cx="648000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Задачи исследова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4160" y="1919160"/>
            <a:ext cx="793404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Выявить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живут и работают пчёлы?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они собирают мёд?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где они его хранят?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Научиться определять качество мё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7238880" y="537228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ипотезы исследов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Предположим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пчёлам в их домики мёд доставля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РУГИЕ НАСЕКОМЫЕ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Возможн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у пчёл в их домиках маленьки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АВОДЫ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о производству мё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Вероятн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что пчеловоды ищут мёд в цветах и приносят эти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ЦВЕТЫ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чёл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Методы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9280" y="1197000"/>
            <a:ext cx="2808360" cy="57636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Спросить у други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люд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26920" y="1989000"/>
            <a:ext cx="280836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очит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книг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050920" y="3068640"/>
            <a:ext cx="2808360" cy="576360"/>
          </a:xfrm>
          <a:prstGeom prst="rect">
            <a:avLst/>
          </a:prstGeom>
          <a:solidFill>
            <a:srgbClr val="cc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Обратиться 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сети Интерне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419640" y="4149720"/>
            <a:ext cx="2808000" cy="57636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ове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экспери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3203640" y="1413000"/>
            <a:ext cx="718920" cy="358560"/>
          </a:xfrm>
          <a:custGeom>
            <a:avLst/>
            <a:gdLst>
              <a:gd name="textAreaLeft" fmla="*/ 123120 w 718920"/>
              <a:gd name="textAreaRight" fmla="*/ 533520 w 7189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13" hR="21600" stAng="10800000" swAng="5400000"/>
                <a:lnTo>
                  <a:pt x="12323" y="0"/>
                </a:lnTo>
                <a:arcTo wR="7413" hR="21600" stAng="-5400000" swAng="2648777"/>
                <a:lnTo>
                  <a:pt x="21176" y="14400"/>
                </a:lnTo>
                <a:lnTo>
                  <a:pt x="17280" y="21600"/>
                </a:lnTo>
                <a:lnTo>
                  <a:pt x="12536" y="14400"/>
                </a:lnTo>
                <a:lnTo>
                  <a:pt x="14401" y="14400"/>
                </a:lnTo>
                <a:arcTo wR="7413" hR="21600" stAng="-2751223" swAng="-2236666"/>
                <a:lnTo>
                  <a:pt x="9868" y="1219"/>
                </a:lnTo>
                <a:arcTo wR="7413" hR="21600" stAng="-5812111" swAng="-4987889"/>
                <a:close/>
              </a:path>
              <a:path fill="darkenLess" w="21600" h="21600">
                <a:moveTo>
                  <a:pt x="0" y="21600"/>
                </a:moveTo>
                <a:arcTo wR="7413" hR="21600" stAng="10800000" swAng="5400000"/>
                <a:lnTo>
                  <a:pt x="7413" y="0"/>
                </a:lnTo>
                <a:arcTo wR="7413" hR="21600" stAng="-5400000" swAng="412111"/>
                <a:lnTo>
                  <a:pt x="9868" y="1219"/>
                </a:lnTo>
                <a:arcTo wR="7413" hR="21600" stAng="-5812111" swAng="-4987889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4500720" y="2637000"/>
            <a:ext cx="718920" cy="358560"/>
          </a:xfrm>
          <a:custGeom>
            <a:avLst/>
            <a:gdLst>
              <a:gd name="textAreaLeft" fmla="*/ 123120 w 718920"/>
              <a:gd name="textAreaRight" fmla="*/ 533520 w 7189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13" hR="21600" stAng="10800000" swAng="5400000"/>
                <a:lnTo>
                  <a:pt x="12323" y="0"/>
                </a:lnTo>
                <a:arcTo wR="7413" hR="21600" stAng="-5400000" swAng="2648777"/>
                <a:lnTo>
                  <a:pt x="21176" y="14400"/>
                </a:lnTo>
                <a:lnTo>
                  <a:pt x="17280" y="21600"/>
                </a:lnTo>
                <a:lnTo>
                  <a:pt x="12536" y="14400"/>
                </a:lnTo>
                <a:lnTo>
                  <a:pt x="14401" y="14400"/>
                </a:lnTo>
                <a:arcTo wR="7413" hR="21600" stAng="-2751223" swAng="-2236666"/>
                <a:lnTo>
                  <a:pt x="9868" y="1219"/>
                </a:lnTo>
                <a:arcTo wR="7413" hR="21600" stAng="-5812111" swAng="-4987889"/>
                <a:close/>
              </a:path>
              <a:path fill="darkenLess" w="21600" h="21600">
                <a:moveTo>
                  <a:pt x="0" y="21600"/>
                </a:moveTo>
                <a:arcTo wR="7413" hR="21600" stAng="10800000" swAng="5400000"/>
                <a:lnTo>
                  <a:pt x="7413" y="0"/>
                </a:lnTo>
                <a:arcTo wR="7413" hR="21600" stAng="-5400000" swAng="412111"/>
                <a:lnTo>
                  <a:pt x="9868" y="1219"/>
                </a:lnTo>
                <a:arcTo wR="7413" hR="21600" stAng="-5812111" swAng="-4987889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5724360" y="3716280"/>
            <a:ext cx="719280" cy="358920"/>
          </a:xfrm>
          <a:custGeom>
            <a:avLst/>
            <a:gdLst>
              <a:gd name="textAreaLeft" fmla="*/ 123120 w 719280"/>
              <a:gd name="textAreaRight" fmla="*/ 533880 w 71928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13" hR="21600" stAng="10800000" swAng="5400000"/>
                <a:lnTo>
                  <a:pt x="12323" y="0"/>
                </a:lnTo>
                <a:arcTo wR="7413" hR="21600" stAng="-5400000" swAng="2648777"/>
                <a:lnTo>
                  <a:pt x="21176" y="14400"/>
                </a:lnTo>
                <a:lnTo>
                  <a:pt x="17280" y="21600"/>
                </a:lnTo>
                <a:lnTo>
                  <a:pt x="12536" y="14400"/>
                </a:lnTo>
                <a:lnTo>
                  <a:pt x="14401" y="14400"/>
                </a:lnTo>
                <a:arcTo wR="7413" hR="21600" stAng="-2751223" swAng="-2236666"/>
                <a:lnTo>
                  <a:pt x="9868" y="1219"/>
                </a:lnTo>
                <a:arcTo wR="7413" hR="21600" stAng="-5812111" swAng="-4987889"/>
                <a:close/>
              </a:path>
              <a:path fill="darkenLess" w="21600" h="21600">
                <a:moveTo>
                  <a:pt x="0" y="21600"/>
                </a:moveTo>
                <a:arcTo wR="7413" hR="21600" stAng="10800000" swAng="5400000"/>
                <a:lnTo>
                  <a:pt x="7413" y="0"/>
                </a:lnTo>
                <a:arcTo wR="7413" hR="21600" stAng="-5400000" swAng="412111"/>
                <a:lnTo>
                  <a:pt x="9868" y="1219"/>
                </a:lnTo>
                <a:arcTo wR="7413" hR="21600" stAng="-5812111" swAng="-4987889"/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33" descr="j0297551"/>
          <p:cNvPicPr/>
          <p:nvPr/>
        </p:nvPicPr>
        <p:blipFill>
          <a:blip r:embed="rId1"/>
          <a:stretch/>
        </p:blipFill>
        <p:spPr>
          <a:xfrm>
            <a:off x="250920" y="2781360"/>
            <a:ext cx="1195200" cy="182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0" descr="j0301252"/>
          <p:cNvPicPr/>
          <p:nvPr/>
        </p:nvPicPr>
        <p:blipFill>
          <a:blip r:embed="rId2"/>
          <a:stretch/>
        </p:blipFill>
        <p:spPr>
          <a:xfrm>
            <a:off x="1835280" y="501336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1" descr="Изображение 1017"/>
          <p:cNvPicPr/>
          <p:nvPr/>
        </p:nvPicPr>
        <p:blipFill>
          <a:blip r:embed="rId3"/>
          <a:stretch/>
        </p:blipFill>
        <p:spPr>
          <a:xfrm>
            <a:off x="5796000" y="1125360"/>
            <a:ext cx="2297160" cy="2391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4" descr="Книги автора сайта"/>
          <p:cNvPicPr/>
          <p:nvPr/>
        </p:nvPicPr>
        <p:blipFill>
          <a:blip r:embed="rId4"/>
          <a:stretch/>
        </p:blipFill>
        <p:spPr>
          <a:xfrm>
            <a:off x="7451640" y="3789360"/>
            <a:ext cx="135252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то помогает пчёлам добывать мёд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2484360" y="3860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32" descr="Увеличить"/>
          <p:cNvPicPr/>
          <p:nvPr/>
        </p:nvPicPr>
        <p:blipFill>
          <a:blip r:embed="rId1"/>
          <a:stretch/>
        </p:blipFill>
        <p:spPr>
          <a:xfrm>
            <a:off x="6840360" y="4770360"/>
            <a:ext cx="2303640" cy="2087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6"/>
          <p:cNvSpPr/>
          <p:nvPr/>
        </p:nvSpPr>
        <p:spPr>
          <a:xfrm>
            <a:off x="4572000" y="3357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7" descr="Увеличить"/>
          <p:cNvPicPr/>
          <p:nvPr/>
        </p:nvPicPr>
        <p:blipFill>
          <a:blip r:embed="rId2"/>
          <a:stretch/>
        </p:blipFill>
        <p:spPr>
          <a:xfrm>
            <a:off x="7415280" y="83664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0" descr="Уменьшить"/>
          <p:cNvPicPr/>
          <p:nvPr/>
        </p:nvPicPr>
        <p:blipFill>
          <a:blip r:embed="rId3"/>
          <a:stretch/>
        </p:blipFill>
        <p:spPr>
          <a:xfrm>
            <a:off x="7128000" y="2205000"/>
            <a:ext cx="2016000" cy="207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C:\Users\ДнС\Desktop\фото мёд\20160303_140432.jpg"/>
          <p:cNvPicPr/>
          <p:nvPr/>
        </p:nvPicPr>
        <p:blipFill>
          <a:blip r:embed="rId4"/>
          <a:stretch/>
        </p:blipFill>
        <p:spPr>
          <a:xfrm>
            <a:off x="0" y="2133720"/>
            <a:ext cx="70200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Анкетирова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Было опрошено 17 человек.    На вопрос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«Откуда у пчёл мёд?»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ребята ответили следующим образо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ёд пчёлам дают пчеловоды, чтобы они его ели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чёлы летают с цветка на цветок и собирают нектар, из которого и получается мёд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чёл угощают мёдом осы и шершни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чёлы вообще не производят мёд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Object 23"/>
          <p:cNvGraphicFramePr/>
          <p:nvPr/>
        </p:nvGraphicFramePr>
        <p:xfrm>
          <a:off x="5692680" y="1600200"/>
          <a:ext cx="1949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49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4"/>
          <p:cNvSpPr/>
          <p:nvPr/>
        </p:nvSpPr>
        <p:spPr>
          <a:xfrm>
            <a:off x="2340000" y="1268280"/>
            <a:ext cx="44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ткуда у пчёл мёд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6" descr="ПЧЕЛА МЕДОНОСНАЯ"/>
          <p:cNvPicPr/>
          <p:nvPr/>
        </p:nvPicPr>
        <p:blipFill>
          <a:blip r:embed="rId3"/>
          <a:stretch/>
        </p:blipFill>
        <p:spPr>
          <a:xfrm>
            <a:off x="324000" y="476280"/>
            <a:ext cx="164448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7" descr="ПЧЕЛА МЕДОНОСНАЯ"/>
          <p:cNvPicPr/>
          <p:nvPr/>
        </p:nvPicPr>
        <p:blipFill>
          <a:blip r:embed="rId4"/>
          <a:stretch/>
        </p:blipFill>
        <p:spPr>
          <a:xfrm>
            <a:off x="7236000" y="404640"/>
            <a:ext cx="15732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пыт 1. «Натуральный ли мёд?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7" descr="C:\Users\ДнС\Desktop\фото мёд\20160301_132539.jpg"/>
          <p:cNvPicPr/>
          <p:nvPr/>
        </p:nvPicPr>
        <p:blipFill>
          <a:blip r:embed="rId1"/>
          <a:stretch/>
        </p:blipFill>
        <p:spPr>
          <a:xfrm>
            <a:off x="826920" y="2205000"/>
            <a:ext cx="6948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пыт 2. «Наличие крахмала в мёде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595008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10" descr="C:\Users\ДнС\Desktop\фото мёд\20160303_135407.jpg"/>
          <p:cNvPicPr/>
          <p:nvPr/>
        </p:nvPicPr>
        <p:blipFill>
          <a:blip r:embed="rId1"/>
          <a:stretch/>
        </p:blipFill>
        <p:spPr>
          <a:xfrm>
            <a:off x="0" y="3141720"/>
            <a:ext cx="5400720" cy="371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Users\ДнС\Desktop\фото мёд\20160303_135452.jpg"/>
          <p:cNvPicPr/>
          <p:nvPr/>
        </p:nvPicPr>
        <p:blipFill>
          <a:blip r:embed="rId2"/>
          <a:stretch/>
        </p:blipFill>
        <p:spPr>
          <a:xfrm>
            <a:off x="4067280" y="1197000"/>
            <a:ext cx="50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3:58:24Z</dcterms:created>
  <dc:creator>Denikin</dc:creator>
  <dc:description/>
  <dc:language>en-US</dc:language>
  <cp:lastModifiedBy>-</cp:lastModifiedBy>
  <dcterms:modified xsi:type="dcterms:W3CDTF">2016-03-04T02:11:48Z</dcterms:modified>
  <cp:revision>196</cp:revision>
  <dc:subject/>
  <dc:title>Откуда в сыре дырки?</dc:title>
</cp:coreProperties>
</file>