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012-68E6-4F95-9B79-C11B9E42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E4C-F03B-4255-9C5F-313C1C85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BC2-DF5C-4DA1-9DAB-50250271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9AB-4B0A-496D-A8D1-7281CC17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44D-170E-4C41-BE5B-51C78E8E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151-D1C6-4FA7-93B1-6EAA912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3F5-5EA8-480B-89E4-DF56E6CC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41A-4CA1-4CE7-B71E-F1F2EEC6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539-BB4E-4604-885F-09708E30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F81-EAB4-4AFE-AF8D-D6CF6293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63F-2322-4797-8EF9-43713E8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030-FDD9-49A3-8BC2-E97D8437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2418-755A-48E7-9583-5883C48F9C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jili-blog.ru/wp-content/uploads/2015/11/5_diski.jpg"/>
          <p:cNvPicPr/>
          <p:nvPr/>
        </p:nvPicPr>
        <p:blipFill>
          <a:blip r:embed="rId1"/>
          <a:stretch/>
        </p:blipFill>
        <p:spPr>
          <a:xfrm>
            <a:off x="0" y="95400"/>
            <a:ext cx="4059360" cy="26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hobbymo.ru/image/tekonik2/2ba1711612724a0_33417804.jpg"/>
          <p:cNvPicPr/>
          <p:nvPr/>
        </p:nvPicPr>
        <p:blipFill>
          <a:blip r:embed="rId2"/>
          <a:stretch/>
        </p:blipFill>
        <p:spPr>
          <a:xfrm>
            <a:off x="4643280" y="189000"/>
            <a:ext cx="3470400" cy="259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masterclasy.ru/uploads/fotos/55ffedc821213.jpg"/>
          <p:cNvPicPr/>
          <p:nvPr/>
        </p:nvPicPr>
        <p:blipFill>
          <a:blip r:embed="rId3"/>
          <a:stretch/>
        </p:blipFill>
        <p:spPr>
          <a:xfrm>
            <a:off x="155520" y="321300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cs32.babysfera.ru/9/e/7/a/64104169.257610772.jpeg"/>
          <p:cNvPicPr/>
          <p:nvPr/>
        </p:nvPicPr>
        <p:blipFill>
          <a:blip r:embed="rId4"/>
          <a:stretch/>
        </p:blipFill>
        <p:spPr>
          <a:xfrm>
            <a:off x="4356000" y="3284640"/>
            <a:ext cx="446400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8:18:06Z</dcterms:created>
  <dc:creator>Пользователь</dc:creator>
  <dc:description/>
  <dc:language>en-US</dc:language>
  <cp:lastModifiedBy>Пользователь</cp:lastModifiedBy>
  <dcterms:modified xsi:type="dcterms:W3CDTF">2015-12-22T18:26:25Z</dcterms:modified>
  <cp:revision>1</cp:revision>
  <dc:subject/>
  <dc:title>Презентация PowerPoint</dc:title>
</cp:coreProperties>
</file>