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10D-68A8-492D-9DCD-96CD81CC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F9C-BE8B-4E10-8D42-B3D81AA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510-B4D8-4131-9A76-B462A489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2C5-2E0E-4D17-92EB-65990E40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C9A-6C0C-43FC-8E2F-6AC4CD47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85EC-25B5-4776-B478-E180B64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CCEA-BE18-4AD5-BB0B-68C2957D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770C-17D2-4BD9-99D9-2AEEE0C8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3DF2-FE57-41A1-B956-FE35E357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6DD-DE7A-46D8-A887-08EBF3A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81B8-FE95-41F9-B188-749EDF6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1E1-786B-4BD7-8A43-0618105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CB0E-6CCF-4F61-AC65-F2C1E4E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F2C8-C3D8-4952-806B-B9C0354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31A-FE22-498D-B09C-E9E9613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997-D9E9-4AEB-8ADB-EF0B9CC3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8027-1E18-40DB-AED5-9523971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B3A-48F4-40EF-9974-01A19AC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3E8-7BAF-4F7C-9049-7D081D9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336-D183-4848-8D73-1215992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DF1-6D0B-49B6-8DCB-1B33F1E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A71-C1B5-44AD-9102-EDE8211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ABB-0791-4140-B0AA-3813B2F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DC9-63BD-4166-9ADF-40218AC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6E62-6B30-4394-AAB1-CEB886F73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67C-F48A-4937-8B7E-801F0C6B49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4872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917960" y="333720"/>
            <a:ext cx="3927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22320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Arial Black"/>
              </a:rPr>
              <a:t>æ</a:t>
            </a:r>
            <a:br>
              <a:rPr sz="8600"/>
            </a:br>
            <a:r>
              <a:rPr b="1" lang="en-US" sz="8600" spc="-1" strike="noStrike">
                <a:solidFill>
                  <a:srgbClr val="00b050"/>
                </a:solidFill>
                <a:latin typeface="Arial Black"/>
              </a:rPr>
              <a:t>i:</a:t>
            </a:r>
            <a:br>
              <a:rPr sz="8600"/>
            </a:br>
            <a:r>
              <a:rPr b="1" lang="en-US" sz="8600" spc="-1" strike="noStrike">
                <a:solidFill>
                  <a:srgbClr val="0070c0"/>
                </a:solidFill>
                <a:latin typeface="Arial Black"/>
              </a:rPr>
              <a:t>e</a:t>
            </a:r>
            <a:br>
              <a:rPr sz="8600"/>
            </a:br>
            <a:r>
              <a:rPr b="1" lang="en-US" sz="8600" spc="-1" strike="noStrike">
                <a:solidFill>
                  <a:srgbClr val="7030a0"/>
                </a:solidFill>
                <a:latin typeface="Arial Black"/>
              </a:rPr>
              <a:t>o</a:t>
            </a:r>
            <a:br>
              <a:rPr sz="8600"/>
            </a:br>
            <a:br>
              <a:rPr sz="8600"/>
            </a:br>
            <a:endParaRPr b="1" lang="en-US" sz="8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26920" y="260280"/>
            <a:ext cx="56898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ON</a:t>
            </a: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ET</a:t>
            </a: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IC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 EX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ER</a:t>
            </a: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CI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S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ple, c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rot, s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ndwich, j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, h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e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, ch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ee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, sw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ee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s, p</a:t>
            </a:r>
            <a:r>
              <a:rPr b="1" lang="en-US" sz="3300" spc="-1" strike="noStrike">
                <a:solidFill>
                  <a:srgbClr val="00b050"/>
                </a:solidFill>
                <a:latin typeface="Arial"/>
              </a:rPr>
              <a:t>ie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on, br</a:t>
            </a: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e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fee, </a:t>
            </a:r>
            <a:r>
              <a:rPr b="1" lang="en-US" sz="33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1.Посмотри на картинки и предложи котенку поесть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Would you like to…?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Would you like some…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8" descr="63178398_1282747222_19"/>
          <p:cNvPicPr/>
          <p:nvPr/>
        </p:nvPicPr>
        <p:blipFill>
          <a:blip r:embed="rId1"/>
          <a:stretch/>
        </p:blipFill>
        <p:spPr>
          <a:xfrm>
            <a:off x="457200" y="1916280"/>
            <a:ext cx="3754440" cy="46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food"/>
          <p:cNvPicPr/>
          <p:nvPr/>
        </p:nvPicPr>
        <p:blipFill>
          <a:blip r:embed="rId2"/>
          <a:stretch/>
        </p:blipFill>
        <p:spPr>
          <a:xfrm>
            <a:off x="4140360" y="1989000"/>
            <a:ext cx="482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1.Посмотри на картинки и предложи котенку поесть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Would you like to…?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Would you like some…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8" descr="63178398_1282747222_19"/>
          <p:cNvPicPr/>
          <p:nvPr/>
        </p:nvPicPr>
        <p:blipFill>
          <a:blip r:embed="rId1"/>
          <a:stretch/>
        </p:blipFill>
        <p:spPr>
          <a:xfrm>
            <a:off x="457200" y="1916280"/>
            <a:ext cx="3538440" cy="4190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food"/>
          <p:cNvPicPr/>
          <p:nvPr/>
        </p:nvPicPr>
        <p:blipFill>
          <a:blip r:embed="rId2"/>
          <a:stretch/>
        </p:blipFill>
        <p:spPr>
          <a:xfrm>
            <a:off x="4140360" y="1989000"/>
            <a:ext cx="4824360" cy="4392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viewer.png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38512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Answer the question – yes she/ he does; no she/he doesn’t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905120"/>
            <a:ext cx="52196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the girl like broccoli? 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the boy like tomato juice?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the boy like pizza?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the girl like banana?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Объект 4" descr=""/>
          <p:cNvPicPr/>
          <p:nvPr/>
        </p:nvPicPr>
        <p:blipFill>
          <a:blip r:embed="rId1"/>
          <a:stretch/>
        </p:blipFill>
        <p:spPr>
          <a:xfrm>
            <a:off x="4859280" y="1905120"/>
            <a:ext cx="39862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Администратор\Рабочий стол\еда\чай.bmp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TextBox 4"/>
          <p:cNvSpPr/>
          <p:nvPr/>
        </p:nvSpPr>
        <p:spPr>
          <a:xfrm>
            <a:off x="285840" y="428760"/>
            <a:ext cx="847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e must eat healthy food such as fruits, vegetables, fish, nuts and drink mil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40c9c"/>
                </a:solidFill>
                <a:latin typeface="Times New Roman"/>
                <a:ea typeface="Times New Roman"/>
              </a:rPr>
              <a:t>2.To be healthy people must not eat chips, hamburgers, fat meat and drink gas waters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3904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ank you children!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ye-by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8" descr="37fcb09a3669t"/>
          <p:cNvPicPr/>
          <p:nvPr/>
        </p:nvPicPr>
        <p:blipFill>
          <a:blip r:embed="rId1"/>
          <a:stretch/>
        </p:blipFill>
        <p:spPr>
          <a:xfrm>
            <a:off x="1692360" y="2781360"/>
            <a:ext cx="6264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6:49:29Z</dcterms:created>
  <dc:creator>Админ</dc:creator>
  <dc:description/>
  <dc:language>en-US</dc:language>
  <cp:lastModifiedBy>Асет Жовхар Ольга</cp:lastModifiedBy>
  <cp:lastPrinted>2018-01-23T15:29:53Z</cp:lastPrinted>
  <dcterms:modified xsi:type="dcterms:W3CDTF">2018-01-31T15:49:39Z</dcterms:modified>
  <cp:revision>27</cp:revision>
  <dc:subject/>
  <dc:title>Урок в 3 классе по теме «Продукты»</dc:title>
</cp:coreProperties>
</file>