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72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14560"/>
            <a:ext cx="544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42768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9DB7-0903-4920-BBEC-3358808C6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1120" y="4714560"/>
            <a:ext cx="5446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55960" y="942804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C3CA-A765-466C-A91B-247F4A166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E1D-CA25-4E08-8231-22B2F827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2D0-3D94-4686-8408-B2B5835D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E91-7754-4FD0-A2D3-8FFB267D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94F-4116-44C8-9152-080CC7F2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C2C-8613-4346-9264-3095637D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A79-5134-4AF3-B0BF-696E293F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218-EBDC-4BEA-8160-C14EE120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DA9-4F11-4DCD-9A57-1F1625E5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1EA-B81E-4FBA-B733-CFBC64F5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417-F9E9-43C2-91FA-D2EF7B0B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BED-1ABA-4ACD-AEA4-4E33B213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CC4-A019-423C-B6DE-378BFD24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0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422C-29C8-486E-B186-779E75A511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8380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Районный конкурс исследовательских работ и творческих проектов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для детей младшего школьного возраста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«Я – исследователь – 2017»</a:t>
            </a:r>
            <a:br>
              <a:rPr sz="1600"/>
            </a:br>
            <a:br>
              <a:rPr sz="1600"/>
            </a:br>
            <a:r>
              <a:rPr b="0" lang="ru-RU" sz="4000" spc="-1" strike="noStrike">
                <a:solidFill>
                  <a:srgbClr val="ff3399"/>
                </a:solidFill>
                <a:latin typeface="Palatino Linotype"/>
              </a:rPr>
              <a:t>О чём говорят наклейки 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Palatino Linotype"/>
              </a:rPr>
              <a:t>на фруктах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ff3399"/>
                </a:solidFill>
                <a:latin typeface="Palatino Linotype"/>
              </a:rPr>
              <a:t>Давыдова Арина, 1 «Б» класс</a:t>
            </a:r>
            <a:br>
              <a:rPr sz="28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Россия, Республика Саха (Якутия), Олекминский район, г. Олекминск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Муниципальное бюджетное обще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«Средняя общеобразовательная школа № 1им.Н.Н. Яковлева»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3551030000[1]"/>
          <p:cNvPicPr/>
          <p:nvPr/>
        </p:nvPicPr>
        <p:blipFill>
          <a:blip r:embed="rId1"/>
          <a:stretch/>
        </p:blipFill>
        <p:spPr>
          <a:xfrm>
            <a:off x="639720" y="0"/>
            <a:ext cx="3684600" cy="62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MCj03551030000[1]"/>
          <p:cNvPicPr/>
          <p:nvPr/>
        </p:nvPicPr>
        <p:blipFill>
          <a:blip r:embed="rId2"/>
          <a:stretch/>
        </p:blipFill>
        <p:spPr>
          <a:xfrm>
            <a:off x="4356000" y="0"/>
            <a:ext cx="3684600" cy="623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MCj03551030000[1]"/>
          <p:cNvPicPr/>
          <p:nvPr/>
        </p:nvPicPr>
        <p:blipFill>
          <a:blip r:embed="rId3"/>
          <a:stretch/>
        </p:blipFill>
        <p:spPr>
          <a:xfrm>
            <a:off x="755640" y="6046920"/>
            <a:ext cx="3684600" cy="62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Cj03551030000[1]"/>
          <p:cNvPicPr/>
          <p:nvPr/>
        </p:nvPicPr>
        <p:blipFill>
          <a:blip r:embed="rId4"/>
          <a:stretch/>
        </p:blipFill>
        <p:spPr>
          <a:xfrm>
            <a:off x="4572000" y="6046920"/>
            <a:ext cx="3684600" cy="623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MMj02237740000[1]"/>
          <p:cNvPicPr/>
          <p:nvPr/>
        </p:nvPicPr>
        <p:blipFill>
          <a:blip r:embed="rId5"/>
          <a:stretch/>
        </p:blipFill>
        <p:spPr>
          <a:xfrm>
            <a:off x="158760" y="4807080"/>
            <a:ext cx="2089080" cy="1527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19280" y="4950000"/>
            <a:ext cx="7089840" cy="16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пцова Мария Анатоль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лекминск-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Введ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197000"/>
            <a:ext cx="7931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м известно, что фрукты не только очень вкусные, но и содержат много полезных витаминов. Поэтому дети и взрослые с удовольствием их кушают. И наверняка, каждый человек неоднократно замечал разные наклейки на фруктах.  Почти всегда они есть на бананах, апельсинах, часто попадаются на яблоках, грушах, киви и других фру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тоже однажды попалось яблоко с наклеенной этикеткой, где были непонятные слова и цифры. Поэтому мне очень захотелось узнать, о чём говорят наклейки на фр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25840" y="5084640"/>
            <a:ext cx="209088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0" y="5846760"/>
            <a:ext cx="3683160" cy="62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5076720" y="5837400"/>
            <a:ext cx="3683160" cy="62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Times New Roman"/>
                <a:ea typeface="Calibri"/>
              </a:rPr>
              <a:t>Цель проекта: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узнать, о чём говорят наклейки на фруктах.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Times New Roman"/>
                <a:ea typeface="Calibri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яснить какие бывают этикетки на фрук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брать наклейки с разных фруктов, продаваемых в г. Олёкминс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пробовать расшифровать наклеенные этикетки на фрук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йти дополнительную интересную информацию об этикет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03440" y="6021360"/>
            <a:ext cx="3682800" cy="62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356000" y="6021360"/>
            <a:ext cx="3683160" cy="6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f3399"/>
                </a:solidFill>
                <a:latin typeface="Times New Roman"/>
                <a:ea typeface="Calibri"/>
              </a:rPr>
              <a:t>1. Какие бывают этикетки на фруктах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Изучив материал про этикетки я узнала, что они бывают разные: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076120"/>
            <a:ext cx="397044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клейки с надписями и рисун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клейки со штрих-к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клейки с циф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156360" y="2952720"/>
            <a:ext cx="2633760" cy="1736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:\phplazExV (1).jpg"/>
          <p:cNvPicPr/>
          <p:nvPr/>
        </p:nvPicPr>
        <p:blipFill>
          <a:blip r:embed="rId2"/>
          <a:stretch/>
        </p:blipFill>
        <p:spPr>
          <a:xfrm>
            <a:off x="3708360" y="2076480"/>
            <a:ext cx="2633760" cy="175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:\images (1).jpg"/>
          <p:cNvPicPr/>
          <p:nvPr/>
        </p:nvPicPr>
        <p:blipFill>
          <a:blip r:embed="rId3"/>
          <a:stretch/>
        </p:blipFill>
        <p:spPr>
          <a:xfrm>
            <a:off x="4284720" y="4365720"/>
            <a:ext cx="2952720" cy="1542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601560" y="5945040"/>
            <a:ext cx="3683160" cy="622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4284720" y="5945040"/>
            <a:ext cx="3682800" cy="6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Times New Roman"/>
                <a:ea typeface="Calibri"/>
              </a:rPr>
              <a:t>2. Наклейки с разных фруктов, продаваемых в г. Олёкмин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68360" y="5732640"/>
            <a:ext cx="368280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151160" y="5734080"/>
            <a:ext cx="3683160" cy="622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Людмила Викторовна\Pictures\2017-03-14\наклейки фруктов.jpg"/>
          <p:cNvPicPr/>
          <p:nvPr/>
        </p:nvPicPr>
        <p:blipFill>
          <a:blip r:embed="rId3"/>
          <a:stretch/>
        </p:blipFill>
        <p:spPr>
          <a:xfrm>
            <a:off x="857160" y="1785960"/>
            <a:ext cx="4525920" cy="3290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4"/>
          <a:stretch/>
        </p:blipFill>
        <p:spPr>
          <a:xfrm>
            <a:off x="5732640" y="2286000"/>
            <a:ext cx="319716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Times New Roman"/>
                <a:ea typeface="Calibri"/>
              </a:rPr>
              <a:t>3. Что означают наклейки на фрукта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этикетках «со словами» - обычно изображают имя производителя (торговую  марку); иногда производитель подчёркивает размер плода, либо внутренние особенности и даже вк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этикетках со штрих- кодом, можно определить страну производителя,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либо на них зашифрована информация о товаре, которую может считать кассир в супермарк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792600" y="5189400"/>
            <a:ext cx="1947960" cy="1419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79280" y="5587920"/>
            <a:ext cx="3683160" cy="622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5148360" y="5587920"/>
            <a:ext cx="3682800" cy="6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Times New Roman"/>
                <a:ea typeface="Calibri"/>
              </a:rPr>
              <a:t>3. Что означают наклейки на фрукта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клейки с цифрами говор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Обычно четыре цифры говорят о том, что фрукт выращен традиционным способом. Но если код начинается с цифры 3 или 4, то это значит, что фрукты выращивали по "интенсивному" принципу. То есть с максимальным использованием агротехнологий, включая обильное внесение удобрений и прочих пестици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Если продукт имеет 5-значный код, который начинается с номера 8, то это означает, что продукт является генетически модифицированным или широко известный как Г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Пятизначный код, начинающийся с цифры 9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Это означает, что продукт был выращен традиционным способом, как это делали в течение тысяч лет. Сейчас такой способ называют «органическим», другими словами без применения пестицидов и удобр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708360" y="5799240"/>
            <a:ext cx="1739880" cy="979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560" y="5978520"/>
            <a:ext cx="3682800" cy="62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5148360" y="5978520"/>
            <a:ext cx="3682800" cy="6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lnSpc>
                <a:spcPct val="115000"/>
              </a:lnSpc>
              <a:spcAft>
                <a:spcPts val="1001"/>
              </a:spcAft>
              <a:buClr>
                <a:srgbClr val="ff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Calibri"/>
              </a:rPr>
              <a:t>Это интересно.</a:t>
            </a:r>
            <a:br>
              <a:rPr sz="3600"/>
            </a:br>
            <a:r>
              <a:rPr b="1" i="1" lang="ru-RU" sz="3600" spc="-1" strike="noStrike">
                <a:solidFill>
                  <a:srgbClr val="ff339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38120" y="7254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  <a:ea typeface="Calibri"/>
              </a:rPr>
              <a:t>Наклейки  съедоб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нечно, из этого не следует, что наклейку нужно обязательно съесть. Но производители уверяют, что все наклейки делают из специальной съедобной бумаги. Съедобен даже к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  <a:ea typeface="Calibri"/>
              </a:rPr>
              <a:t>Как убрать наклейку не повредив кож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Самый быстрый и удобный способ – использовать кусочек скотча чуть большего размера, чем наклейка. Приклейте его сверху и снимите – он заберет с собой и стик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  <a:ea typeface="Calibri"/>
              </a:rPr>
              <a:t>Наклейки от фруктов коллекционируют.</a:t>
            </a:r>
            <a:r>
              <a:rPr b="0" lang="ru-RU" sz="2000" spc="-1" strike="noStrike">
                <a:solidFill>
                  <a:srgbClr val="ff3399"/>
                </a:solidFill>
                <a:latin typeface="Times New Roman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самом деле есть люди, которые собирают наклейки от фруктов. Потому что в настоящее время фруктовые этикетки очень разнообразны по дизайну и испол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I:\images (1).jpg"/>
          <p:cNvPicPr/>
          <p:nvPr/>
        </p:nvPicPr>
        <p:blipFill>
          <a:blip r:embed="rId1"/>
          <a:stretch/>
        </p:blipFill>
        <p:spPr>
          <a:xfrm>
            <a:off x="5435640" y="5102280"/>
            <a:ext cx="3478320" cy="140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1116000" y="5805360"/>
            <a:ext cx="3683160" cy="6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2536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в данный материал, я пришла к выводу, что фрукты, которые продают в магазинах нашего города попадают с разных стран. И для большинства фруктов, для их выращивания, используют много пестицидов. И очень сомнительно, что они приносят поль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ьте внимательны при покупке фруктов, обращайте внимание на этик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457200" y="5877000"/>
            <a:ext cx="368316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4140360" y="5877000"/>
            <a:ext cx="3682800" cy="622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0:12:17Z</dcterms:created>
  <dc:creator>Наталия</dc:creator>
  <dc:description/>
  <dc:language>en-US</dc:language>
  <cp:lastModifiedBy>Людмила Викторовна</cp:lastModifiedBy>
  <dcterms:modified xsi:type="dcterms:W3CDTF">2017-03-14T02:46:40Z</dcterms:modified>
  <cp:revision>16</cp:revision>
  <dc:subject/>
  <dc:title>ФРУКТЫ</dc:title>
</cp:coreProperties>
</file>