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0F7-3568-40D0-8EF9-18B2CEEE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7DE-BD07-45A8-869C-C5171494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AC1-F4B4-47EE-A3A1-759F7324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F2F-804C-40EA-B287-EAB6D399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03DF-5062-4B48-A63D-B0D7C65E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D658-A266-4CF2-83AC-750A61FC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B02A-8DE2-492E-BB69-7F34EB3F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E3F8-CC21-44D6-B902-9B1814B9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8C77-8542-416E-8CC8-26EC985F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2E5E-785A-476B-A738-A30B08EA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A56D-F2BF-49A2-96F8-423DD392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FB5-74EF-418D-AA84-796EFF45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5072-AA59-453C-9B3C-C30717DB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0FCA-CBF4-4694-A890-1C866F8F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1610-AB57-49F1-AB02-786BCF70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FF13-A52C-40D4-8C6A-15DDF68B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BFD1-8B32-4701-8B7E-2D78EE1F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E1F-4018-4035-A3CB-1A6B5BE2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F86-CE21-409E-9390-7BE188AA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90F-E358-4DAC-83AB-E22B5EC5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133-BC32-4808-B579-952BFA3E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C25-F5CA-4F93-978C-D54069D4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47B-8BD2-443E-B55E-0567D60B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4C3-F133-4917-92AB-1AFB4C05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A4A1-9D5A-4AFD-939B-7B4D22661D9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4290-BE59-4890-BB41-102E72C4F12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eaeaea"/>
                </a:solidFill>
                <a:latin typeface="Times New Roman"/>
              </a:rPr>
              <a:t>АДМИНИСТРАЦИЯ ГОРОДСКОГО ОКРУГА ГОРОД ВОРОНЕЖ</a:t>
            </a:r>
            <a:br>
              <a:rPr sz="2100"/>
            </a:br>
            <a:r>
              <a:rPr b="1" lang="en-US" sz="2100" spc="-1" strike="noStrike">
                <a:solidFill>
                  <a:srgbClr val="eaeaea"/>
                </a:solidFill>
                <a:latin typeface="Times New Roman"/>
              </a:rPr>
              <a:t>МУНИЦИПАЛЬНОЕ БЮДЖЕТНОЕ ОБЩЕОБРАЗОВАТЕЛЬНОЕ УЧРЕЖДЕНИЕ</a:t>
            </a:r>
            <a:br>
              <a:rPr sz="2100"/>
            </a:br>
            <a:r>
              <a:rPr b="1" lang="en-US" sz="2100" spc="-1" strike="noStrike">
                <a:solidFill>
                  <a:srgbClr val="eaeaea"/>
                </a:solidFill>
                <a:latin typeface="Times New Roman"/>
              </a:rPr>
              <a:t>СРЕДНЯЯ  ОБЩЕОБРАЗОВАТЕЛЬНАЯ  ШКОЛА № 62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Проект: «Внимание, ГРИПП !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4292640"/>
            <a:ext cx="3816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ыполнила: ученица 3 «В» класс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вашова Элин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оверила: учитель начальных класс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улашова Л.П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602136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г. Воронеж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018 г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53294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Хочу знать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Что такое ГРИПП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Какие симптом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Меры профилактик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357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4352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ГРИПП –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строе инфекционное заболевание дыхательных путей, вызываемое вирусом грипп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4572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98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Вирусы – А,В,С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4033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ирус А – заражает не только людей, но и некоторых животных, а также птиц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ирусы В и С – заражают гриппом только люде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27640" y="189000"/>
            <a:ext cx="46069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277920"/>
            <a:ext cx="4032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ередается вирус ГРИППа воздушно-капельным путем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2852280"/>
            <a:ext cx="374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ри чихании и кашле частички слизи распространяются на расстояние от 3 до 7 метр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46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0323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Симптомы ГРИППа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повышенная температур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озноб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кашель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слабость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светобоязнь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насморк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головная боль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слезотечени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першение в горл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заложенность нос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судороги и д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6879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10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Профилакти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Для профилактики рекомендуют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361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акцинировать всех лиц старше 6 месяцев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361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делать ежедневную влажную уборку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361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ромывать нос солевыми растворам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361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рименять средства индивидуальной защиты(во время эпидемии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361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рименять противовирусные препараты (только по назначению врача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84720" y="115920"/>
            <a:ext cx="4726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3887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ажно мыть руки после контакта с предметами, на которых могут оставаться вирусы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е следует дотрагиваться грязными руками до носа, глаз, рт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еобходимо правильно и полноценно пита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Регулярно заниматься физическими упражнениями, желательно на свежем воздух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бязательно соблюдать режим дн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211640" y="115920"/>
            <a:ext cx="4616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6983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Verdana"/>
              </a:rPr>
              <a:t>Будьте здоровы!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2565360"/>
            <a:ext cx="468144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881360"/>
            <a:ext cx="633564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1T14:35:46Z</dcterms:created>
  <dc:creator>Admin</dc:creator>
  <dc:description/>
  <dc:language>en-US</dc:language>
  <cp:lastModifiedBy>Admin</cp:lastModifiedBy>
  <dcterms:modified xsi:type="dcterms:W3CDTF">2018-01-28T17:51:02Z</dcterms:modified>
  <cp:revision>8</cp:revision>
  <dc:subject/>
  <dc:title>АДМИНИСТРАЦИЯ ГОРОДСКОГО ОКРУГА ГОРОД ВОРОНЕЖ МУНИЦИПАЛЬНОЕ БЮДЖЕТНОЕ ОБЩЕОБРАЗОВАТЕЛЬНОЕ УЧРЕЖДЕНИЕ СРЕДНЯЯ  ОБЩЕОБРАЗОВАТЕЛЬНАЯ  ШКОЛА № 62</dc:title>
</cp:coreProperties>
</file>