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8A8CF-1D5D-43EB-8BD9-DB6D70739F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041D6-B29A-4621-81EE-73BAC3C99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6404A-4029-4C72-BF90-CDD4C86932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5AE9E-B9A7-4EB5-9D7E-5EDA00E0C4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D3D51-C2BF-4647-A571-75B2CA84DC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BC401-DC8D-4412-8DB6-41E2D07050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DD13F-6948-4253-8992-BF9D2DEEEE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866D4-8442-4F78-AF3B-4C5F18F2DF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F953B-608C-45E7-8E94-8D4BA8D564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3855E-5A18-456B-A56B-B9E658A29C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22589-9A8E-450C-A0D8-F1F23FC08A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A2468-248A-48EE-B132-88508061C5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F58-61D5-47F2-A75D-D1B54799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5D3-AB8F-4608-B31A-F76E2B39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FB0-303E-4E89-A1AA-C38201A6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050-17D1-4EFE-B0B3-D39A9859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F68-5CE8-4A6F-BE04-CED575DC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8FE-F119-40DD-81E5-BEDBB8C0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74A-F5B8-42A5-8FB1-DE7C5E80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0DD-5253-4AA7-89B6-2BD4CB1A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496-5CA4-4C0C-9125-BA512610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B89-8C2F-4D2C-AF7A-926ABCDF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26E-F11E-4C98-81B4-AF2D309B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F13-6E54-4D8D-AEA8-A00EF26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6BFE1-D667-4D8C-9137-56421025A1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81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Reported spee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венная речь в английском язы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079640" y="3103560"/>
            <a:ext cx="8191440" cy="37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велительное накло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61928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 помощью слов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to say,to tell, to order, to ask, to b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Глагол выражается инфинити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800360" y="2700360"/>
            <a:ext cx="631188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Now try yourself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873080" y="1440000"/>
            <a:ext cx="62262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Употребл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ередачи слов другого человека, например, в перессказ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3959280"/>
            <a:ext cx="4321080" cy="346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6197760" y="2340000"/>
            <a:ext cx="35226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166320"/>
            <a:ext cx="907092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ямая речь – Косвенная ре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227484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иьсме для перехода нужно опустить запятую и ковыч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It is wonderful," I said – "Чудесно", сказал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 said (that) it was wonderful – Я сказала, что это было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166320"/>
            <a:ext cx="907092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ямая речь – Косвенная ре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2160720"/>
            <a:ext cx="9899640" cy="659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глаголы должны "передвинуться" во време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resent Simple – Pas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I often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a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pples" – She said, she often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ap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resent Continiuos – Past Contin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m studing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ow" – He said, h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as st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166320"/>
            <a:ext cx="907092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ямая речь – Косвенная ре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260000"/>
            <a:ext cx="9720360" cy="641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resent Perfect – 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ave don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y homework" – He said h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ad              don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his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ast simple – 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W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i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it!" – They said they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ad don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uture Simple – Future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call you" – She said that sh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call h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166320"/>
            <a:ext cx="907092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ямая речь – Косвенная ре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9070920" cy="595008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t">
            <a:normAutofit fontScale="98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;Helvetica"/>
              </a:rPr>
              <a:t>this → that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Arial;Helvetica"/>
              </a:rPr>
              <a:t>these → those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Arial;Helvetica"/>
              </a:rPr>
              <a:t>now → then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Arial;Helvetica"/>
              </a:rPr>
              <a:t>today → that day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Arial;Helvetica"/>
              </a:rPr>
              <a:t>tomorrow → next day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Arial;Helvetica"/>
              </a:rPr>
              <a:t>the day after tomorrow → 2 days later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Arial;Helvetica"/>
              </a:rPr>
              <a:t>yesterday → the day before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Arial;Helvetica"/>
              </a:rPr>
              <a:t>the day before yesterday → 2 days before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Arial;Helvetica"/>
              </a:rPr>
              <a:t>ago → before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Arial;Helvetica"/>
              </a:rPr>
              <a:t>here → there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300720" y="180036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166320"/>
            <a:ext cx="907092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ямая речь – Косвенная ре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440000" y="2139840"/>
            <a:ext cx="7618320" cy="45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1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Общий вопро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8360" y="191448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мощью союзо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h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1979640" y="3419640"/>
            <a:ext cx="6026040" cy="28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пециальный вопро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280" y="209520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 смещается во времени, уходит знак в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e wondered "Who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rive the car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e wondered who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drive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>Asus</dc:creator>
  <dc:description/>
  <dc:language>en-US</dc:language>
  <cp:lastModifiedBy>Asus</cp:lastModifiedBy>
  <dcterms:modified xsi:type="dcterms:W3CDTF">2017-06-09T14:38:42Z</dcterms:modified>
  <cp:revision>8</cp:revision>
  <dc:subject/>
  <dc:title>Reported speech</dc:title>
</cp:coreProperties>
</file>