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48D-A479-430F-AFA8-089C50D7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981-FA85-47B1-9EC6-2CE5A42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84F-5371-4C14-BAA0-20846FEE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73A-D603-4090-9D13-69154643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62B7-78AA-457D-AA63-CD15124E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38E4-BF91-4F8F-93E0-7E86129B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1A07-8333-4910-881B-69F3325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CE58-41B4-47D7-AAD6-862A4705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FC5-AED2-41B5-8F99-93E4ACC5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0DDD-1761-4BDD-8A74-9721D85E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0067-7979-463F-80CA-E5625A9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272-72A8-4DA9-A885-B01C445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3AE2-F241-404A-B6F4-F77E730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6A3D-C63A-459D-8204-23C4167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5536-E2E7-4D5F-89BC-6462A983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9720-589F-4632-B705-D048C968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5AC0-53B8-4C26-A41E-16693800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869-86FE-49EC-89E4-5315D45F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796-8094-4FAA-8557-4432256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560-D284-43F0-B1BB-DE259E47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C10-6A09-438C-B440-414ADB2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AB0-458F-4921-B733-812013D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511-F2B4-4B53-9082-A0D353C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CD3-6A7E-47EF-8939-A2E50E52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6b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a68a58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AEF5-4C2D-4EEC-97D3-1035454085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6b5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a68a58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a79571"/>
                </a:gs>
                <a:gs pos="100000">
                  <a:srgbClr val="b8a4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9C3F-A55B-46EE-BE06-BD1BB1F53286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mos/article/mos/19000/51443.htm" TargetMode="External"/><Relationship Id="rId2" Type="http://schemas.openxmlformats.org/officeDocument/2006/relationships/hyperlink" Target="http://slovari.yandex.ru/dict/mos/article/mos/19000/50459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0efd7"/>
                </a:solidFill>
                <a:latin typeface="Century Schoolbook"/>
              </a:rPr>
              <a:t>Восточное направление внешней политики</a:t>
            </a:r>
            <a:br>
              <a:rPr sz="4400"/>
            </a:br>
            <a:r>
              <a:rPr b="1" lang="ru-RU" sz="4400" spc="-1" strike="noStrike">
                <a:solidFill>
                  <a:srgbClr val="f0efd7"/>
                </a:solidFill>
                <a:latin typeface="Century Schoolbook"/>
              </a:rPr>
              <a:t> Ивана </a:t>
            </a:r>
            <a:r>
              <a:rPr b="1" lang="en-US" sz="4400" spc="-1" strike="noStrike">
                <a:solidFill>
                  <a:srgbClr val="f0efd7"/>
                </a:solidFill>
                <a:latin typeface="Century Schoolbook"/>
              </a:rPr>
              <a:t>IV </a:t>
            </a:r>
            <a:r>
              <a:rPr b="1" lang="ru-RU" sz="4400" spc="-1" strike="noStrike">
                <a:solidFill>
                  <a:srgbClr val="f0efd7"/>
                </a:solidFill>
                <a:latin typeface="Century Schoolbook"/>
              </a:rPr>
              <a:t>Грозного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У России были свои интересы в Сибири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Обширные территории с ее богатствами: пушниной, лесами, рыбой и т.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Промышленники Строгановы осваивали Урал, но Сибирское ханство часто совершало набеги на эти земли и мешало освоению Урала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Значение присоединения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Казани и Астрахани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Россия расширила свои территории и защитила исконно русские зем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Вся Волга оказалась в пределах России, что способствовало развитию торговли с южными и восточными страна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Другие народы стали добровольно присоединяться к Росс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окорение Сибири Ермаком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26792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Verdana"/>
              </a:rPr>
              <a:t>В 1581 году казаки в количестве 600 человек во главе с атаманом Ермак Тимофеевичем двинулись на хана Кучу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Verdana"/>
              </a:rPr>
              <a:t>После непродолжительных схваток с сибирским ханом Ермак занял столицу Кашлы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Verdana"/>
              </a:rPr>
              <a:t>Западная Сибирь вошла в состав Русского государства. Местное население стали подданными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окорение Сибири Ермаком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2761" t="71342" r="54237" b="2106"/>
          <a:stretch/>
        </p:blipFill>
        <p:spPr>
          <a:xfrm>
            <a:off x="214200" y="642960"/>
            <a:ext cx="5724720" cy="3956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47840" y="99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4143240" y="3571920"/>
            <a:ext cx="4788000" cy="295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36800" y="45086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Художник В.Сурик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Значение покорения Сибири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Verdana"/>
              </a:rPr>
              <a:t>Последствия покорения Сибири огромн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Verdana"/>
              </a:rPr>
              <a:t>Открылись возможности заселения и освоения земель за Уральскими гор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Verdana"/>
              </a:rPr>
              <a:t>Возникли новые города – Тюмень, Тобольск, Верхотурье и т.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Verdana"/>
              </a:rPr>
              <a:t>Сибирь стала местом переселения крестья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Verdana"/>
              </a:rPr>
              <a:t>В казну государства стали поступать новые налог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0" y="228600"/>
            <a:ext cx="70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Verdana"/>
              </a:rPr>
              <a:t>Присоединение Казани и Астрахан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асность для России возросла, когда в Казани у власти укрепилась крымская династия Гиреев. Иван Грозный предпринял несколько попыток завоевания  Казани. В 1548 и 1550г.г.походы на Казань закончились неудач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559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cc99"/>
                </a:solidFill>
                <a:latin typeface="Verdana"/>
              </a:rPr>
              <a:t>Другим очагом сопротивления являлось Астраханское ханство, враждебно относившееся к России. После падения Казанского ханства в 1556 году практически без сопротивления было присоединено Астраханское хан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Значение присоединения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Казани и Астрахани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760" y="2000160"/>
            <a:ext cx="82296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Россия расширила свои территории и защитила исконно русские зем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Вся Волга оказалась в пределах России, что способствовало развитию торговли с южными и восточными страна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Другие народы стали добровольно присоединяться к Росс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426600"/>
            <a:ext cx="84060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Казанский кремль был хорошо укреплен двойными деревянными стенами. После 40 дней осады часть стен Казанского кремля была взорвана. 2 октября город был взят. Из неволи были освобождены десятки тысяч русских пленник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В память о покорении Казани в Москв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на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Verdana"/>
                <a:hlinkClick r:id="rId1"/>
              </a:rPr>
              <a:t>Красной площади</a:t>
            </a:r>
            <a:r>
              <a:rPr b="1" lang="ru-RU" sz="2800" spc="-1" strike="noStrike">
                <a:solidFill>
                  <a:srgbClr val="ffcc99"/>
                </a:solidFill>
                <a:latin typeface="Verdana"/>
              </a:rPr>
              <a:t> был построен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Verdana"/>
                <a:hlinkClick r:id="rId2"/>
              </a:rPr>
              <a:t>Покровский собор</a:t>
            </a:r>
            <a:r>
              <a:rPr b="0" lang="ru-RU" sz="2800" spc="-1" strike="noStrike">
                <a:solidFill>
                  <a:srgbClr val="ff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корение Сибирского ханства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432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99"/>
                </a:solidFill>
                <a:latin typeface="Verdana"/>
              </a:rPr>
              <a:t>Поход Ермак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55262" t="1147" r="32500" b="67866"/>
          <a:stretch/>
        </p:blipFill>
        <p:spPr>
          <a:xfrm>
            <a:off x="428760" y="2214720"/>
            <a:ext cx="2766960" cy="44337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942320" cy="58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Всего в Сибири в </a:t>
            </a:r>
            <a:br>
              <a:rPr sz="3600"/>
            </a:b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XVI</a:t>
            </a: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 веке проживало </a:t>
            </a:r>
            <a:br>
              <a:rPr sz="3600"/>
            </a:b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не более 200 – 250 </a:t>
            </a:r>
            <a:br>
              <a:rPr sz="3600"/>
            </a:b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тысяч жителей. Это </a:t>
            </a:r>
            <a:br>
              <a:rPr sz="3600"/>
            </a:b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были скотоводы, </a:t>
            </a:r>
            <a:br>
              <a:rPr sz="3600"/>
            </a:b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охотники и рыболовы.</a:t>
            </a:r>
            <a:br>
              <a:rPr sz="3600"/>
            </a:br>
            <a:r>
              <a:rPr b="0" lang="ru-RU" sz="3600" spc="-1" strike="noStrike">
                <a:solidFill>
                  <a:srgbClr val="ccff99"/>
                </a:solidFill>
                <a:latin typeface="Arial"/>
              </a:rPr>
              <a:t>Они часто становились объектом нападения со стороны ханов и соседних народов.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5357880" y="142920"/>
            <a:ext cx="3628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99"/>
                </a:solidFill>
                <a:latin typeface="Arial"/>
              </a:rPr>
              <a:t>После падения Казани и Астрахани сибирский хан Эдигар пытался установить контакты с Москвой. Но новый хан Кучум  не только порвал отношения с Россией, но и повел враждебную политику.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7:48Z</dcterms:created>
  <dc:creator>Goblin</dc:creator>
  <dc:description/>
  <dc:language>en-US</dc:language>
  <cp:lastModifiedBy>user</cp:lastModifiedBy>
  <dcterms:modified xsi:type="dcterms:W3CDTF">2010-04-05T16:12:13Z</dcterms:modified>
  <cp:revision>11</cp:revision>
  <dc:subject/>
  <dc:title>Покорение Сибирского ханства</dc:title>
</cp:coreProperties>
</file>