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AB8-D191-4099-8489-CBD94482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81B-24A1-44D8-B10D-B0CA67AC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9EF-4F2F-4FCF-9D97-381A6A6C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F79-F3E7-4AAB-8C6E-8AF998A9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8EB7-2942-4DEE-89C1-D18ADC92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3B95-A3D8-4DDA-A9C0-91E08D1B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6962-3B67-4D0E-A863-C18D125F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9945-89D6-4733-B2D2-C35EA330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37C5-35AA-49B1-BFA9-060B11C4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215E-3C6C-4816-8B11-C8FCDF4E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098F-78EF-478C-9F3D-E6084155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F91-68B1-4BC8-BC9C-B6511037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E39F-EABD-46B6-BB41-78275E6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5295-51A4-4736-A610-EEDD4C31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6304-900F-4210-855D-8BF48E82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FE15-3842-4DB7-8993-8668B111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3414-1148-4CB3-BA6D-CDFE6286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6FE6-CCB9-4258-BCC3-204B6F61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F4EC-DAFC-4C3B-ACB0-B380ADA6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BCCC-41E0-4381-9776-A656D566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8999-83DD-402E-B963-C4FD4BDD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8551-E255-4537-8252-33146BA0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1E7-9981-40A5-A1FB-B173F202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A3A4D-1D04-45DF-B627-166165D2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63423-86CF-49DA-BEF7-BA1505C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38C01-3448-4827-9381-599003B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6567-3D23-4BF5-90A6-5E6654A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CC1C-1CDC-43E6-A8C6-86D3FC3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AE95-B2E2-41BC-879D-C09E2C4D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D372-A1EB-43EA-825F-2D2C7121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3636-7F99-4F19-8555-D9F384F3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49246-5149-4D06-8898-ABFA6D9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B7F8-0E57-456B-AAC6-EC7D134E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65E-2C0F-453E-B83D-4766CAE1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4B63-A6D2-4836-A36A-CEA38919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28B54-650D-44E8-9E02-116A2D50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73D8-E318-494B-8484-2637B891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67F8-8C04-4F99-9605-A8AE3A59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247C-8076-4CE6-B52D-D1125AEF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8CDD-0A30-41B5-ABF2-5072287D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825B-6122-45A2-835A-5A252041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241B5-B6A7-4D0C-AB34-D344F556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3948-B151-4B76-BB34-38F2961D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4265A-0DDE-4604-8D52-1167BB04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FA2-BC0E-4F1A-B2D8-A4C25B34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EBC5-7F78-414A-ACE1-26642B2E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E53C-1D18-417A-94E4-C4906428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B635-7B0A-4663-9712-15A9DB2F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5F27-B047-4E57-8BCA-FE5CE2CB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D5D02-0272-4731-B11D-7A8A99AE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7145C-CA4A-4BF3-9F6D-4EBBB25D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8D506-84C5-4E24-8105-2A3C408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041BA-5B17-403F-B33A-F59611B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C11D7-6A03-4BF3-85AC-6631506A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D3205-A282-4812-AEDE-CC022DA5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4BB-BA7A-453B-8EE4-CDD258BB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857D-B135-41F6-8613-20BF3E4E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202-3DD7-46F7-840B-213E3A2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4C1-A4CB-4AA2-963E-D641537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C51-32C6-49B6-8FDE-443790F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C364-A4ED-4FE0-874A-E018CE0F715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AFCC-9D09-4CA3-B3DB-8AD3AB78968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8D8-CF7A-4C6A-8068-248B94CCFDB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34FA-60F9-4937-9D09-5FAA0EFE742E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8974-3DCD-4E15-96E0-2DC43F677558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472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0" spc="-1" strike="noStrike">
                <a:solidFill>
                  <a:srgbClr val="ff00ff"/>
                </a:solidFill>
                <a:latin typeface="Monotype Corsiva"/>
              </a:rPr>
              <a:t>К </a:t>
            </a:r>
            <a:r>
              <a:rPr b="1" i="1" lang="ru-RU" sz="17000" spc="-1" strike="noStrike">
                <a:solidFill>
                  <a:srgbClr val="30acec"/>
                </a:solidFill>
                <a:latin typeface="Monotype Corsiva"/>
              </a:rPr>
              <a:t>В </a:t>
            </a:r>
            <a:r>
              <a:rPr b="1" i="1" lang="ru-RU" sz="17000" spc="-1" strike="noStrike">
                <a:solidFill>
                  <a:srgbClr val="ffff99"/>
                </a:solidFill>
                <a:latin typeface="Monotype Corsiva"/>
              </a:rPr>
              <a:t>М</a:t>
            </a:r>
            <a:br>
              <a:rPr sz="17000"/>
            </a:br>
            <a:r>
              <a:rPr b="1" i="1" lang="ru-RU" sz="2500" spc="-1" strike="noStrike">
                <a:solidFill>
                  <a:srgbClr val="ffff99"/>
                </a:solidFill>
                <a:latin typeface="Monotype Corsiva"/>
              </a:rPr>
              <a:t>КЛУБ  </a:t>
            </a:r>
            <a:r>
              <a:rPr b="1" i="1" lang="ru-RU" sz="2500" spc="-1" strike="noStrike">
                <a:solidFill>
                  <a:srgbClr val="30acec"/>
                </a:solidFill>
                <a:latin typeface="Monotype Corsiva"/>
              </a:rPr>
              <a:t>ВЕСЕЛЫХ  </a:t>
            </a:r>
            <a:r>
              <a:rPr b="1" i="1" lang="ru-RU" sz="2500" spc="-1" strike="noStrike">
                <a:solidFill>
                  <a:srgbClr val="ff00ff"/>
                </a:solidFill>
                <a:latin typeface="Monotype Corsiva"/>
              </a:rPr>
              <a:t>МАТЕМАТИКОВ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Monotype Corsiva"/>
              </a:rPr>
              <a:t>Тарасова Татьяна Александровна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7" name="Picture 4" descr="гаусс"/>
          <p:cNvPicPr/>
          <p:nvPr/>
        </p:nvPicPr>
        <p:blipFill>
          <a:blip r:embed="rId1"/>
          <a:stretch/>
        </p:blipFill>
        <p:spPr>
          <a:xfrm>
            <a:off x="7093080" y="189000"/>
            <a:ext cx="1877760" cy="28494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3348000" y="290520"/>
            <a:ext cx="3598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ahoma"/>
              </a:rPr>
              <a:t>Математика – царица наук, арифметика – царица математи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ahoma"/>
              </a:rPr>
              <a:t>К. Ф. Гау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ahoma"/>
              </a:rPr>
              <a:t>(1777-185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32000" y="981000"/>
            <a:ext cx="822960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йди двух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динаковых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инни-Пухо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35280" y="40464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orbel"/>
              </a:rPr>
              <a:t>      </a:t>
            </a:r>
            <a:r>
              <a:rPr b="1" lang="en-US" sz="5400" spc="-1" strike="noStrike">
                <a:solidFill>
                  <a:srgbClr val="ff00ff"/>
                </a:solidFill>
                <a:latin typeface="Corbel"/>
              </a:rPr>
              <a:t>VI</a:t>
            </a:r>
            <a:r>
              <a:rPr b="1" lang="ru-RU" sz="5400" spc="-1" strike="noStrike">
                <a:solidFill>
                  <a:srgbClr val="ff00ff"/>
                </a:solidFill>
                <a:latin typeface="Corbel"/>
              </a:rPr>
              <a:t> тур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314136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Нарисуйте картину,  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используя только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математические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фигуры,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символы, знаки,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6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цифры и т.д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7" name="Picture 4" descr="Изображение 0"/>
          <p:cNvPicPr/>
          <p:nvPr/>
        </p:nvPicPr>
        <p:blipFill>
          <a:blip r:embed="rId1"/>
          <a:stretch/>
        </p:blipFill>
        <p:spPr>
          <a:xfrm>
            <a:off x="5148360" y="3138480"/>
            <a:ext cx="4140000" cy="37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math"/>
          <p:cNvPicPr/>
          <p:nvPr/>
        </p:nvPicPr>
        <p:blipFill>
          <a:blip r:embed="rId2"/>
          <a:stretch/>
        </p:blipFill>
        <p:spPr>
          <a:xfrm>
            <a:off x="0" y="0"/>
            <a:ext cx="1584360" cy="1197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1187280" y="1700280"/>
            <a:ext cx="54723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Tahoma"/>
              </a:rPr>
              <a:t>Художник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8000" y="2636640"/>
            <a:ext cx="72360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ff00ff"/>
                </a:solidFill>
                <a:latin typeface="Corbel"/>
              </a:rPr>
              <a:t>VII</a:t>
            </a:r>
            <a:r>
              <a:rPr b="1" lang="ru-RU" sz="4900" spc="-1" strike="noStrike">
                <a:solidFill>
                  <a:srgbClr val="ff00ff"/>
                </a:solidFill>
                <a:latin typeface="Corbel"/>
              </a:rPr>
              <a:t> тур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55280" y="3573360"/>
            <a:ext cx="8388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80000"/>
              </a:lnSpc>
              <a:spcBef>
                <a:spcPts val="10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eorgia"/>
              </a:rPr>
              <a:t>Творческий 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80000"/>
              </a:lnSpc>
              <a:spcBef>
                <a:spcPts val="10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5" descr="ЛОБачевский"/>
          <p:cNvPicPr/>
          <p:nvPr/>
        </p:nvPicPr>
        <p:blipFill>
          <a:blip r:embed="rId1"/>
          <a:stretch/>
        </p:blipFill>
        <p:spPr>
          <a:xfrm>
            <a:off x="6948360" y="0"/>
            <a:ext cx="1816200" cy="25923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6"/>
          <p:cNvSpPr/>
          <p:nvPr/>
        </p:nvSpPr>
        <p:spPr>
          <a:xfrm>
            <a:off x="2195640" y="260280"/>
            <a:ext cx="4681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ahoma"/>
              </a:rPr>
              <a:t>Всё в природе подлежит измерению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ahoma"/>
              </a:rPr>
              <a:t>всё может быть сосчита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3085ed"/>
                </a:solidFill>
                <a:latin typeface="Tahoma"/>
              </a:rPr>
              <a:t>Н.И.Лобач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3085ed"/>
                </a:solidFill>
                <a:latin typeface="Tahoma"/>
              </a:rPr>
              <a:t>(1792-185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042920" y="5300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ebeb"/>
                </a:solidFill>
                <a:latin typeface="Tahoma"/>
              </a:rPr>
              <a:t>Придумайте свою меру дл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0" y="0"/>
            <a:ext cx="9144000" cy="693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ebebeb"/>
                </a:solidFill>
                <a:latin typeface="Corbel"/>
              </a:rPr>
              <a:t>Старинные меры дли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ем и как измеряли длину раньше? Главной мерой длины у египтян служил </a:t>
            </a:r>
            <a:r>
              <a:rPr b="0" i="1" lang="ru-RU" sz="2000" spc="-1" strike="noStrike">
                <a:solidFill>
                  <a:srgbClr val="ebebeb"/>
                </a:solidFill>
                <a:latin typeface="Corbel"/>
              </a:rPr>
              <a:t>локоть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окоть делили на 7 «ладоней», «ладонь» на 4 «пальца». Как и многие другие народы, в качестве мерок длины египтяне использовали части человеческого тела. Но люди бывают разного роста, и локти у них не одинаковые. Египтяне это, конечно, понимали. Для того чтобы измерения получились точными и не происходило никакой путаницы, они придумали образцовые меры: локоть, ладонь и палец, общие для всего Египта. Теперь было неважно, какой длины руки у человека, который хотел что-нибудь измерить. Он мерил не своим, а «общим» локте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ebebeb"/>
                </a:solidFill>
                <a:latin typeface="Corbel"/>
              </a:rPr>
              <a:t>Дюйм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 голландского слова «большой палец». Дюйм ра­вен ширине большого пальца или длине трех зерен ячменя -2,54 с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ebebeb"/>
                </a:solidFill>
                <a:latin typeface="Corbel"/>
              </a:rPr>
              <a:t>Аршин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то слово пришло на Русь в Х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Х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VI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веках из вос­точных языков. Тогда купцы привозили удивительные ткани: тончайшие китайские шелка, индийскую парчу, сделанную из настоящих золотых и серебряных нитей, персидский бархат. Ткани продавали, и их необходимо было отмерять. Восточные купцы, отмеряя, натягивали ткань на собственную согнутую руку - от локтя до плеча. Это и называлось мерить аршина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ebebeb"/>
                </a:solidFill>
                <a:latin typeface="Corbel"/>
              </a:rPr>
              <a:t>Ярд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нглийский король Генрих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ввел новую единицу дли­ны - ярд. Он приказал считать ярдом расстояние между носом и большим пальцем вытянутой ру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ebebeb"/>
                </a:solidFill>
                <a:latin typeface="Corbel"/>
              </a:rPr>
              <a:t>Метр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ыл определен как одна 40-миллионная доля длины меридиана в 1791 году учеными Франции. Название «метр» произошло от греческого слова «метрон» - ме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39640" y="1557360"/>
            <a:ext cx="49672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085ed"/>
                </a:solidFill>
                <a:latin typeface="Corbel"/>
              </a:rPr>
              <a:t>Нельзя быть математиком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085ed"/>
                </a:solidFill>
                <a:latin typeface="Corbel"/>
              </a:rPr>
              <a:t>не будучи в то же время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085ed"/>
                </a:solidFill>
                <a:latin typeface="Corbel"/>
              </a:rPr>
              <a:t>поэтом в душ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085ed"/>
                </a:solidFill>
                <a:latin typeface="Corbel"/>
              </a:rPr>
              <a:t>С.В.Ковалевск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085ed"/>
                </a:solidFill>
                <a:latin typeface="Corbel"/>
              </a:rPr>
              <a:t>(1850-1891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7" name="Picture 4" descr="Ковалевская"/>
          <p:cNvPicPr/>
          <p:nvPr/>
        </p:nvPicPr>
        <p:blipFill>
          <a:blip r:embed="rId1"/>
          <a:stretch/>
        </p:blipFill>
        <p:spPr>
          <a:xfrm>
            <a:off x="5572080" y="0"/>
            <a:ext cx="3571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17272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ff9933"/>
                </a:solidFill>
                <a:latin typeface="Corbel"/>
              </a:rPr>
              <a:t>Р</a:t>
            </a:r>
            <a:br>
              <a:rPr sz="4900"/>
            </a:br>
            <a:r>
              <a:rPr b="1" lang="ru-RU" sz="4900" spc="-1" strike="noStrike">
                <a:solidFill>
                  <a:srgbClr val="ff9933"/>
                </a:solidFill>
                <a:latin typeface="Corbel"/>
              </a:rPr>
              <a:t>А</a:t>
            </a:r>
            <a:br>
              <a:rPr sz="4900"/>
            </a:br>
            <a:r>
              <a:rPr b="1" lang="ru-RU" sz="4900" spc="-1" strike="noStrike">
                <a:solidFill>
                  <a:srgbClr val="ff9933"/>
                </a:solidFill>
                <a:latin typeface="Corbel"/>
              </a:rPr>
              <a:t>З</a:t>
            </a:r>
            <a:br>
              <a:rPr sz="4900"/>
            </a:br>
            <a:r>
              <a:rPr b="1" lang="ru-RU" sz="4900" spc="-1" strike="noStrike">
                <a:solidFill>
                  <a:srgbClr val="ff9933"/>
                </a:solidFill>
                <a:latin typeface="Corbel"/>
              </a:rPr>
              <a:t>М</a:t>
            </a:r>
            <a:br>
              <a:rPr sz="4900"/>
            </a:br>
            <a:r>
              <a:rPr b="1" lang="ru-RU" sz="4900" spc="-1" strike="noStrike">
                <a:solidFill>
                  <a:srgbClr val="ff9933"/>
                </a:solidFill>
                <a:latin typeface="Corbel"/>
              </a:rPr>
              <a:t>И</a:t>
            </a:r>
            <a:br>
              <a:rPr sz="4900"/>
            </a:br>
            <a:r>
              <a:rPr b="1" lang="ru-RU" sz="4900" spc="-1" strike="noStrike">
                <a:solidFill>
                  <a:srgbClr val="ff9933"/>
                </a:solidFill>
                <a:latin typeface="Corbel"/>
              </a:rPr>
              <a:t>Н</a:t>
            </a:r>
            <a:br>
              <a:rPr sz="4900"/>
            </a:br>
            <a:r>
              <a:rPr b="1" lang="ru-RU" sz="4900" spc="-1" strike="noStrike">
                <a:solidFill>
                  <a:srgbClr val="ff9933"/>
                </a:solidFill>
                <a:latin typeface="Corbel"/>
              </a:rPr>
              <a:t>К</a:t>
            </a:r>
            <a:br>
              <a:rPr sz="4900"/>
            </a:br>
            <a:r>
              <a:rPr b="1" lang="ru-RU" sz="4900" spc="-1" strike="noStrike">
                <a:solidFill>
                  <a:srgbClr val="ff9933"/>
                </a:solidFill>
                <a:latin typeface="Corbel"/>
              </a:rPr>
              <a:t>А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0" name="Picture 4" descr="шкатмат"/>
          <p:cNvPicPr/>
          <p:nvPr/>
        </p:nvPicPr>
        <p:blipFill>
          <a:blip r:embed="rId1"/>
          <a:stretch/>
        </p:blipFill>
        <p:spPr>
          <a:xfrm>
            <a:off x="4068720" y="117360"/>
            <a:ext cx="495612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94464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254160" indent="-25416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80c34f"/>
                </a:solidFill>
                <a:latin typeface="Corbel"/>
              </a:rPr>
              <a:t>Что находится между городом и селом 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54160" indent="-25416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9933"/>
                </a:solidFill>
                <a:latin typeface="Corbel"/>
              </a:rPr>
              <a:t>Что можно увидеть с закрытыми глазами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54160" indent="-25416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80c34f"/>
                </a:solidFill>
                <a:latin typeface="Corbel"/>
              </a:rPr>
              <a:t>У семерых братьев по сестре. Сколько всего сестер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54160" indent="-25416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9933"/>
                </a:solidFill>
                <a:latin typeface="Corbel"/>
              </a:rPr>
              <a:t>Сын моего отца, а мне не брат. Кто это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54160" indent="-25416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80c34f"/>
                </a:solidFill>
                <a:latin typeface="Corbel"/>
              </a:rPr>
              <a:t>Почему часто ходят и никогда не ездят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254160" indent="-25416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9933"/>
                </a:solidFill>
                <a:latin typeface="Corbel"/>
              </a:rPr>
              <a:t>Как далеко в лес может забежать заяц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Corbel"/>
              </a:rPr>
              <a:t>	</a:t>
            </a:r>
            <a:r>
              <a:rPr b="1" lang="en-US" sz="5400" spc="-1" strike="noStrike">
                <a:solidFill>
                  <a:srgbClr val="ff00ff"/>
                </a:solidFill>
                <a:latin typeface="Corbel"/>
              </a:rPr>
              <a:t>I </a:t>
            </a:r>
            <a:r>
              <a:rPr b="1" lang="ru-RU" sz="5400" spc="-1" strike="noStrike">
                <a:solidFill>
                  <a:srgbClr val="ff00ff"/>
                </a:solidFill>
                <a:latin typeface="Corbel"/>
              </a:rPr>
              <a:t>тур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71280" y="1916280"/>
            <a:ext cx="27464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Corbel"/>
              </a:rPr>
              <a:t>ЗАГАДК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комнате 9 стульев. Расставь так, чтобы у каждой стены стояло по 3 стул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4" name="Picture 5" descr="РЕПКИ"/>
          <p:cNvPicPr/>
          <p:nvPr/>
        </p:nvPicPr>
        <p:blipFill>
          <a:blip r:embed="rId1"/>
          <a:stretch/>
        </p:blipFill>
        <p:spPr>
          <a:xfrm>
            <a:off x="4211640" y="333360"/>
            <a:ext cx="46497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25192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ff00ff"/>
                </a:solidFill>
                <a:latin typeface="Corbel"/>
              </a:rPr>
              <a:t>II</a:t>
            </a:r>
            <a:r>
              <a:rPr b="1" lang="ru-RU" sz="4900" spc="-1" strike="noStrike">
                <a:solidFill>
                  <a:srgbClr val="ff00ff"/>
                </a:solidFill>
                <a:latin typeface="Corbel"/>
              </a:rPr>
              <a:t> тур</a:t>
            </a:r>
            <a:br>
              <a:rPr sz="3600"/>
            </a:br>
            <a:r>
              <a:rPr b="1" lang="ru-RU" sz="3600" spc="-1" strike="noStrike">
                <a:solidFill>
                  <a:srgbClr val="30acec"/>
                </a:solidFill>
                <a:latin typeface="Corbel"/>
              </a:rPr>
              <a:t>Ч</a:t>
            </a:r>
            <a:br>
              <a:rPr sz="3600"/>
            </a:br>
            <a:r>
              <a:rPr b="1" lang="ru-RU" sz="3600" spc="-1" strike="noStrike">
                <a:solidFill>
                  <a:srgbClr val="30acec"/>
                </a:solidFill>
                <a:latin typeface="Corbel"/>
              </a:rPr>
              <a:t>А</a:t>
            </a:r>
            <a:br>
              <a:rPr sz="3600"/>
            </a:br>
            <a:r>
              <a:rPr b="1" lang="ru-RU" sz="3600" spc="-1" strike="noStrike">
                <a:solidFill>
                  <a:srgbClr val="30acec"/>
                </a:solidFill>
                <a:latin typeface="Corbel"/>
              </a:rPr>
              <a:t>Й</a:t>
            </a:r>
            <a:br>
              <a:rPr sz="3600"/>
            </a:br>
            <a:r>
              <a:rPr b="1" lang="ru-RU" sz="3600" spc="-1" strike="noStrike">
                <a:solidFill>
                  <a:srgbClr val="30acec"/>
                </a:solidFill>
                <a:latin typeface="Corbel"/>
              </a:rPr>
              <a:t>Н</a:t>
            </a:r>
            <a:br>
              <a:rPr sz="3600"/>
            </a:br>
            <a:r>
              <a:rPr b="1" lang="ru-RU" sz="3600" spc="-1" strike="noStrike">
                <a:solidFill>
                  <a:srgbClr val="30acec"/>
                </a:solidFill>
                <a:latin typeface="Corbel"/>
              </a:rPr>
              <a:t>В</a:t>
            </a:r>
            <a:br>
              <a:rPr sz="3600"/>
            </a:br>
            <a:r>
              <a:rPr b="1" lang="ru-RU" sz="3600" spc="-1" strike="noStrike">
                <a:solidFill>
                  <a:srgbClr val="30acec"/>
                </a:solidFill>
                <a:latin typeface="Corbel"/>
              </a:rPr>
              <a:t>О</a:t>
            </a:r>
            <a:br>
              <a:rPr sz="3600"/>
            </a:br>
            <a:r>
              <a:rPr b="1" lang="ru-RU" sz="3600" spc="-1" strike="noStrike">
                <a:solidFill>
                  <a:srgbClr val="30acec"/>
                </a:solidFill>
                <a:latin typeface="Corbel"/>
              </a:rPr>
              <a:t>Р</a:t>
            </a:r>
            <a:br>
              <a:rPr sz="3600"/>
            </a:br>
            <a:r>
              <a:rPr b="1" lang="ru-RU" sz="3600" spc="-1" strike="noStrike">
                <a:solidFill>
                  <a:srgbClr val="30acec"/>
                </a:solidFill>
                <a:latin typeface="Corbe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5694480"/>
            <a:ext cx="82296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этом чайнворде 18 слов. Найдите и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40000" y="0"/>
            <a:ext cx="59040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ff00ff"/>
                </a:solidFill>
                <a:latin typeface="Corbel"/>
              </a:rPr>
              <a:t>III</a:t>
            </a:r>
            <a:r>
              <a:rPr b="1" lang="ru-RU" sz="4300" spc="-1" strike="noStrike">
                <a:solidFill>
                  <a:srgbClr val="ff00ff"/>
                </a:solidFill>
                <a:latin typeface="Corbel"/>
              </a:rPr>
              <a:t> тур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9236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17f551"/>
                </a:solidFill>
                <a:latin typeface="Corbel"/>
              </a:rPr>
              <a:t>	</a:t>
            </a:r>
            <a:r>
              <a:rPr b="1" lang="ru-RU" sz="5400" spc="-1" strike="noStrike">
                <a:solidFill>
                  <a:srgbClr val="17f551"/>
                </a:solidFill>
                <a:latin typeface="Corbel"/>
              </a:rPr>
              <a:t>ЗАДАЧА –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17f551"/>
                </a:solidFill>
                <a:latin typeface="Corbel"/>
              </a:rPr>
              <a:t>	</a:t>
            </a:r>
            <a:r>
              <a:rPr b="1" lang="ru-RU" sz="5400" spc="-1" strike="noStrike">
                <a:solidFill>
                  <a:srgbClr val="17f551"/>
                </a:solidFill>
                <a:latin typeface="Corbel"/>
              </a:rPr>
              <a:t>СМЕКАЛК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Буханка хлеба весит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полкилограмм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и полбухан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Сколько весит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ffff99"/>
                </a:solidFill>
                <a:latin typeface="Corbel"/>
              </a:rPr>
              <a:t>целая буханка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0" name="Picture 5" descr="ОchkariК"/>
          <p:cNvPicPr/>
          <p:nvPr/>
        </p:nvPicPr>
        <p:blipFill>
          <a:blip r:embed="rId1"/>
          <a:stretch/>
        </p:blipFill>
        <p:spPr>
          <a:xfrm>
            <a:off x="6067440" y="0"/>
            <a:ext cx="3076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53989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17f551"/>
                </a:solidFill>
                <a:latin typeface="Corbel"/>
              </a:rPr>
              <a:t>Конкурс капитанов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920" y="1557000"/>
            <a:ext cx="6769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dbed2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dbed2f"/>
                </a:solidFill>
                <a:latin typeface="Corbel"/>
              </a:rPr>
              <a:t>Тремя линиями надо отдел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dbed2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dbed2f"/>
                </a:solidFill>
                <a:latin typeface="Corbel"/>
              </a:rPr>
              <a:t>фигуры друг от дру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3" name="Picture 11" descr="фигурки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042920" y="2852640"/>
            <a:ext cx="7129440" cy="3816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гаРфилД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Corbel"/>
              </a:rPr>
              <a:t>IV</a:t>
            </a:r>
            <a:r>
              <a:rPr b="1" lang="ru-RU" sz="5400" spc="-1" strike="noStrike">
                <a:solidFill>
                  <a:srgbClr val="ff00ff"/>
                </a:solidFill>
                <a:latin typeface="Corbel"/>
              </a:rPr>
              <a:t> тур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48428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06920" y="0"/>
          <a:ext cx="4537080" cy="4608360"/>
        </p:xfrm>
        <a:graphic>
          <a:graphicData uri="http://schemas.openxmlformats.org/drawingml/2006/table">
            <a:tbl>
              <a:tblPr/>
              <a:tblGrid>
                <a:gridCol w="647640"/>
                <a:gridCol w="649440"/>
                <a:gridCol w="647640"/>
                <a:gridCol w="647640"/>
                <a:gridCol w="647640"/>
                <a:gridCol w="649440"/>
                <a:gridCol w="64764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bebeb"/>
                      </a:solidFill>
                    </a:lnR>
                    <a:lnT>
                      <a:noFill/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bebeb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>
                      <a:noFill/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bebeb"/>
                      </a:solidFill>
                    </a:lnR>
                    <a:lnT>
                      <a:noFill/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bebeb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bebeb"/>
                      </a:solidFill>
                    </a:lnR>
                    <a:lnT>
                      <a:noFill/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bebeb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bebeb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bebeb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>
                      <a:noFill/>
                    </a:lnR>
                    <a:lnT w="13680">
                      <a:solidFill>
                        <a:srgbClr val="ebebe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bebe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bebeb"/>
                      </a:solidFill>
                    </a:lnR>
                    <a:lnT>
                      <a:noFill/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bebe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bebeb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 w="13680">
                      <a:solidFill>
                        <a:srgbClr val="ebebeb"/>
                      </a:solidFill>
                    </a:lnR>
                    <a:lnT w="13680">
                      <a:solidFill>
                        <a:srgbClr val="ebebeb"/>
                      </a:solidFill>
                    </a:lnT>
                    <a:lnB w="13680">
                      <a:solidFill>
                        <a:srgbClr val="ebebeb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ebeb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25"/>
          <p:cNvSpPr/>
          <p:nvPr/>
        </p:nvSpPr>
        <p:spPr>
          <a:xfrm>
            <a:off x="177840" y="4389840"/>
            <a:ext cx="86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В строках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1. Сотня лет. 2. Число, которое делят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3. Название числа, в котором 4 десят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В столбцах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: 4. Часть суток. 5. Сумма длин сторон прямоугольника. 6. Одна из равных час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Picture 347" descr="Волк_Ёж_совА"/>
          <p:cNvPicPr/>
          <p:nvPr/>
        </p:nvPicPr>
        <p:blipFill>
          <a:blip r:embed="rId1"/>
          <a:stretch/>
        </p:blipFill>
        <p:spPr>
          <a:xfrm>
            <a:off x="0" y="1052640"/>
            <a:ext cx="45720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Corbel"/>
              </a:rPr>
              <a:t>V</a:t>
            </a:r>
            <a:r>
              <a:rPr b="1" lang="ru-RU" sz="5400" spc="-1" strike="noStrike">
                <a:solidFill>
                  <a:srgbClr val="ff00ff"/>
                </a:solidFill>
                <a:latin typeface="Corbel"/>
              </a:rPr>
              <a:t> тур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320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Самый внимательны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2" name="Picture 5" descr="пришельцЫ"/>
          <p:cNvPicPr/>
          <p:nvPr/>
        </p:nvPicPr>
        <p:blipFill>
          <a:blip r:embed="rId1"/>
          <a:stretch/>
        </p:blipFill>
        <p:spPr>
          <a:xfrm>
            <a:off x="1042920" y="1268280"/>
            <a:ext cx="79758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4:33:50Z</dcterms:created>
  <dc:creator>НИКИТА</dc:creator>
  <dc:description/>
  <dc:language>en-US</dc:language>
  <cp:lastModifiedBy>пк</cp:lastModifiedBy>
  <dcterms:modified xsi:type="dcterms:W3CDTF">2018-02-09T21:33:00Z</dcterms:modified>
  <cp:revision>15</cp:revision>
  <dc:subject/>
  <dc:title>К В М  </dc:title>
</cp:coreProperties>
</file>