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6BA-5902-4FF0-A6B8-6F1A88C2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DF5-2EA4-47E1-A23F-77D20C41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8C9-6B8A-456D-A644-3A8B963D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BDD-6130-439D-A74D-EEB0CF98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9C318-DF38-40C6-BEDC-0E62EAE0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77E5E-B593-4636-AA52-351EFB28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C4D7E-47AD-47C6-910C-FBFF8EEB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112B3-5B92-464C-89E4-0AF72D30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23F15-89B4-480E-A894-25EBDF18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C1966-CEBB-4C44-88ED-78157B7B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77DC9-C92A-48EB-B5FE-C9F0BF9E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BAA-DD47-40DB-9CBF-80AAE990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FF9E9-7143-4664-AFCA-C179ED64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8C2DA-2CEB-491F-BFFF-9921350F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12E2F-2AEA-4F43-8734-FF239E5A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BB149-F015-4C9E-B3F4-B1D38513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980B4-9A3D-4B1D-9C30-31FC06DC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7C12-844D-4422-AD4B-9AC0176E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E469-1D16-438C-B6CD-DEA2C2FD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72F2C-8CDA-4323-AF46-F1ABC4EB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D6E13-FF0C-4A5F-8CFB-6F5AA23E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ECB1-EC68-4800-BB89-95D88BDD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E40-E1ED-44CF-8195-21DDBCC4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6E2CB-CC60-4E69-82D5-43EFD0CB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AB8AD-E407-46C0-8D97-572E1806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7C849-0B79-4CDF-90A5-1ACD08BC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AF60-0094-4221-864E-03346BDE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EADF-3AFB-45C2-8C7E-EBE98A8D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E2A46-E675-4B5B-A7DC-F3E33DB1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76E75-C147-41EB-AC34-866E08EE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3C8DC0-AD67-4657-AB84-DD52E51E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6D99F-A20C-45E5-ABC4-6FF1C0CF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3FED2-234D-47D4-80F7-788369FF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7C5-0046-4397-A1AC-FCB4C2FA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FB549-1C13-4C77-B3FF-00B63B24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9D42A2-E53D-4BA3-9384-53E99F7E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2D8CC-750D-4B6D-A1CD-7DBB5558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30A15C-3C97-492D-8590-46CD8548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7DE83D-380D-4297-811E-BA11B96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1E6AA2-EC4C-41DE-80D2-16DD367B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B81D71-82F9-4733-B3E1-FF09CE4F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9E8799-36B1-4E88-8670-E52205FF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1FE9F9-6327-4830-A9E2-EB833479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60BAB-B10D-429E-A988-32DAC55A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D386-ED95-48A4-B368-D0198DCB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7880F-E470-4013-B713-B3F99ACF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6C812-0508-44C3-968A-586F42DC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1E9CC-B50B-4DC1-B6C6-A5168E8B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CAC47-5D2A-46D5-821D-D19A3A92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7F461-81B2-4B60-837D-D3686401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E2998-AAE8-4541-B147-93AA0C23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0D6B8-EC1C-4AF6-8235-B1E61056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BFBAA-EAAB-4664-AFDE-3449361F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D14CA-A303-4F07-867B-E6AC46D5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E7182-505E-474A-B279-33F1FEAB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7A9-89DB-43E6-B07C-B976E634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3B61F-42C5-44F0-8DDD-1FD5B151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71C-D122-4513-8033-06BDE21A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4F8-EF87-4F67-9F66-FA1B7525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182-E061-412B-88C2-CD69ED6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B519-861E-413D-B9BE-8E2769AFC3A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1C34-3B30-40B5-8BF5-6C0340C6C74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63AF-F922-4A96-BA60-056EDF56292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76B0-830C-440E-80D8-E58EBCEECFD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3B3A-FD38-42C2-8646-B74AA7A0DEC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1036800" y="828720"/>
            <a:ext cx="7070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4"/>
          <p:cNvGraphicFramePr/>
          <p:nvPr/>
        </p:nvGraphicFramePr>
        <p:xfrm>
          <a:off x="525600" y="291960"/>
          <a:ext cx="8092800" cy="572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291960"/>
                    <a:ext cx="80928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Object 4"/>
          <p:cNvGraphicFramePr/>
          <p:nvPr/>
        </p:nvGraphicFramePr>
        <p:xfrm>
          <a:off x="457200" y="304920"/>
          <a:ext cx="8228160" cy="57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2281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2560" y="1523880"/>
            <a:ext cx="698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понятие комбинации геометрических тел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принципами изображения взаимного расположения тел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ространственные представления геометрических тел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методы расчета площадей поверхностей и объемов геометрических тел с учетом подготовки к ЕГЭ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86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7"/>
          <p:cNvGraphicFramePr/>
          <p:nvPr/>
        </p:nvGraphicFramePr>
        <p:xfrm>
          <a:off x="457200" y="506520"/>
          <a:ext cx="8228160" cy="52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06520"/>
                    <a:ext cx="8228160" cy="52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Object 4"/>
          <p:cNvGraphicFramePr/>
          <p:nvPr/>
        </p:nvGraphicFramePr>
        <p:xfrm>
          <a:off x="900000" y="549360"/>
          <a:ext cx="7311960" cy="57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49360"/>
                    <a:ext cx="731196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13"/>
          <p:cNvGraphicFramePr/>
          <p:nvPr/>
        </p:nvGraphicFramePr>
        <p:xfrm>
          <a:off x="457200" y="447840"/>
          <a:ext cx="8229600" cy="54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7840"/>
                    <a:ext cx="822960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Object 10"/>
          <p:cNvGraphicFramePr/>
          <p:nvPr/>
        </p:nvGraphicFramePr>
        <p:xfrm>
          <a:off x="826920" y="549360"/>
          <a:ext cx="7483680" cy="57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549360"/>
                    <a:ext cx="748368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Object 10"/>
          <p:cNvGraphicFramePr/>
          <p:nvPr/>
        </p:nvGraphicFramePr>
        <p:xfrm>
          <a:off x="755640" y="549360"/>
          <a:ext cx="7550280" cy="57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755028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Object 11"/>
          <p:cNvGraphicFramePr/>
          <p:nvPr/>
        </p:nvGraphicFramePr>
        <p:xfrm>
          <a:off x="539640" y="549360"/>
          <a:ext cx="8033040" cy="57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803304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7"/>
          <p:cNvGraphicFramePr/>
          <p:nvPr/>
        </p:nvGraphicFramePr>
        <p:xfrm>
          <a:off x="684360" y="620640"/>
          <a:ext cx="7748280" cy="57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20640"/>
                    <a:ext cx="774828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8:14:14Z</dcterms:created>
  <dc:creator>Admin</dc:creator>
  <dc:description/>
  <dc:language>en-US</dc:language>
  <cp:lastModifiedBy>Елена Жалыбина</cp:lastModifiedBy>
  <dcterms:modified xsi:type="dcterms:W3CDTF">2016-04-03T10:48:34Z</dcterms:modified>
  <cp:revision>19</cp:revision>
  <dc:subject/>
  <dc:title>Задачи на комбинации многогранников,  цилиндра, конуса и шара</dc:title>
</cp:coreProperties>
</file>