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919-9E78-4EA1-B2EF-EB735006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3BB-82B3-4D5B-A32D-8CC3B418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EBB-DF5D-43DE-9352-BF8430DA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673-4EF6-4BB6-819B-716D8ABE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F60B-B7AF-4DCE-83C6-9A6C3DEA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3AB6-DFF9-4299-848E-151E0A65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6476-9757-4165-ABFF-19C80DFF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74F9-730A-4840-9644-A5591374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FB84-BCD2-4224-A087-4F4CD4BE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2159-F1F5-45B9-9D40-B769D6C9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C596-74EF-4DC7-999C-29E5300B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7C9-5363-4E8C-8034-83742E26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B10E-0797-49CF-A77D-F5B4D054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AFAC-8198-4D0D-AD3C-BF020A39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3CBB-AF21-464D-8E52-5A384FAD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7044-0E7E-435D-A5CC-77E9EBCB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7350-CB43-46D4-9E20-071D018B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1AC-D9D0-4308-93E3-3A46C15B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44A-CB67-40CE-BF59-8B4D0322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C8F-45F3-4629-A923-59B84BA8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9E5-41CB-4F59-A6CD-0D4E272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8D2-6FA6-4021-BEAF-795F846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9EE-6E4B-45D9-8C55-04898BC2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AA3-052D-4A64-801E-00FD4AD4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CE55-6490-4586-8A31-AB70ED3364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038A-9A3E-4B06-B9E7-CCA076A3201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4000" y="2565000"/>
            <a:ext cx="64767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ff99"/>
                </a:solidFill>
                <a:uFillTx/>
                <a:latin typeface="Times New Roman"/>
              </a:rPr>
              <a:t>«Художественный гобелен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ff66"/>
                </a:solidFill>
                <a:latin typeface="Signature"/>
              </a:rPr>
              <a:t>Автор</a:t>
            </a:r>
            <a:r>
              <a:rPr b="0" i="1" lang="ru-RU" sz="2800" spc="-1" strike="noStrike">
                <a:solidFill>
                  <a:srgbClr val="ccff66"/>
                </a:solidFill>
                <a:latin typeface="Times New Roman"/>
              </a:rPr>
              <a:t>:</a:t>
            </a:r>
            <a:r>
              <a:rPr b="0" i="1" lang="ru-RU" sz="2800" spc="-1" strike="noStrike">
                <a:solidFill>
                  <a:srgbClr val="ccff66"/>
                </a:solidFill>
                <a:latin typeface="Signature"/>
              </a:rPr>
              <a:t> Бубликова Елена Владимиров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Педагогическая целесообраз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ff66"/>
                </a:solidFill>
                <a:latin typeface="Times New Roman"/>
              </a:rPr>
              <a:t>Программа отвечает потребности общества в формировании компетентной, творческой личности. Освоение детьми основных разделов программы способствует развитию таких качеств, как воображение, аккуратность, настойчивость, терпение; формирование эстетического вкуса, культуры одежды, бытовой культуры</a:t>
            </a:r>
            <a:r>
              <a:rPr b="0" lang="en-US" sz="3000" spc="-1" strike="noStrike">
                <a:solidFill>
                  <a:srgbClr val="ccff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Ожидаемые результаты после полного курса обуч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33564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66"/>
                </a:solidFill>
                <a:latin typeface="Times New Roman"/>
              </a:rPr>
              <a:t>учащиеся будут знать художественный гобелен как вид декоративно-прикладного искусства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66"/>
                </a:solidFill>
                <a:latin typeface="Times New Roman"/>
              </a:rPr>
              <a:t>будут знать историю возникновения и стилистические особенности художественного гобелена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66"/>
                </a:solidFill>
                <a:latin typeface="Times New Roman"/>
              </a:rPr>
              <a:t>полностью овладеют технологическим процессом ручного ткачества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66"/>
                </a:solidFill>
                <a:latin typeface="Times New Roman"/>
              </a:rPr>
              <a:t>овладеют всеми видами и приёмами работы с нетканым и тканым гобеленом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66"/>
                </a:solidFill>
                <a:latin typeface="Times New Roman"/>
              </a:rPr>
              <a:t>сумеют правильно подобрать инструменты и материалы для ткачества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66"/>
                </a:solidFill>
                <a:latin typeface="Times New Roman"/>
              </a:rPr>
              <a:t>смогут создавать собственные композиции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66"/>
                </a:solidFill>
                <a:latin typeface="Times New Roman"/>
              </a:rPr>
              <a:t>овладеют умением проявлять свою индивидуальность; смогут выработать свой творческий почерк;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66"/>
                </a:solidFill>
                <a:latin typeface="Times New Roman"/>
              </a:rPr>
              <a:t>смогут подготовить свои работы для выставки и объективно их оценивать</a:t>
            </a:r>
            <a:r>
              <a:rPr b="0" lang="en-US" sz="2200" spc="-1" strike="noStrike">
                <a:solidFill>
                  <a:srgbClr val="ccff66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Методическое обеспеч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Times New Roman"/>
              </a:rPr>
              <a:t>Занятия по курсу «Художественный гобелен» проводятся в форме бесед и просмотра видео материала (теоретическая часть) и практических работ для освоения знаний и навыков на практике (практическая часть). Для лучшего усвоения материала и развития творчества используется просмотр слайдов, видео фильмов, показ готовых изделий, раздаточный материал – схемы, таблицы, чертежи, образцы переплетений и д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Times New Roman"/>
              </a:rPr>
              <a:t>Теория предмета излагается по мере необходимости, а также при ознакомлении учащихся с новыми материалами, приемами работы и темами. Особенность методики занятий заключается в том, что приемы работы и знания передаются ученикам непосредственно в процессе работы с материало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Times New Roman"/>
              </a:rPr>
              <a:t>После каждой темы устраивают просмотры работ учащихся, проводится анализ выполненных работ с целью прогнозирования возможных ошибок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Проверка результатов обучения осуществляется посредством текущей и итоговой аттест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Результаты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Picture 4" descr="IMG_3822"/>
          <p:cNvPicPr/>
          <p:nvPr/>
        </p:nvPicPr>
        <p:blipFill>
          <a:blip r:embed="rId1"/>
          <a:stretch/>
        </p:blipFill>
        <p:spPr>
          <a:xfrm>
            <a:off x="623880" y="15987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IMG_3824"/>
          <p:cNvPicPr/>
          <p:nvPr/>
        </p:nvPicPr>
        <p:blipFill>
          <a:blip r:embed="rId2"/>
          <a:stretch/>
        </p:blipFill>
        <p:spPr>
          <a:xfrm>
            <a:off x="4392720" y="15987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IMG_3838"/>
          <p:cNvPicPr/>
          <p:nvPr/>
        </p:nvPicPr>
        <p:blipFill>
          <a:blip r:embed="rId3"/>
          <a:stretch/>
        </p:blipFill>
        <p:spPr>
          <a:xfrm>
            <a:off x="622440" y="3922560"/>
            <a:ext cx="2896920" cy="2173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IMG_4307"/>
          <p:cNvPicPr/>
          <p:nvPr/>
        </p:nvPicPr>
        <p:blipFill>
          <a:blip r:embed="rId4"/>
          <a:stretch/>
        </p:blipFill>
        <p:spPr>
          <a:xfrm>
            <a:off x="4392720" y="3922560"/>
            <a:ext cx="28969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Результаты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Эскиз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в материале (ткачество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Picture 4" descr="IMG_4379"/>
          <p:cNvPicPr/>
          <p:nvPr/>
        </p:nvPicPr>
        <p:blipFill>
          <a:blip r:embed="rId3"/>
          <a:stretch/>
        </p:blipFill>
        <p:spPr>
          <a:xfrm>
            <a:off x="3851280" y="1484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IMG_4378"/>
          <p:cNvPicPr/>
          <p:nvPr/>
        </p:nvPicPr>
        <p:blipFill>
          <a:blip r:embed="rId4"/>
          <a:stretch/>
        </p:blipFill>
        <p:spPr>
          <a:xfrm>
            <a:off x="3851280" y="3860640"/>
            <a:ext cx="289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Результаты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08000" y="191628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Эскиз  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в материале                                          (войлок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4" descr="IMG_0834"/>
          <p:cNvPicPr/>
          <p:nvPr/>
        </p:nvPicPr>
        <p:blipFill>
          <a:blip r:embed="rId3"/>
          <a:stretch/>
        </p:blipFill>
        <p:spPr>
          <a:xfrm>
            <a:off x="539640" y="155736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IMG_4306"/>
          <p:cNvPicPr/>
          <p:nvPr/>
        </p:nvPicPr>
        <p:blipFill>
          <a:blip r:embed="rId4"/>
          <a:stretch/>
        </p:blipFill>
        <p:spPr>
          <a:xfrm>
            <a:off x="900000" y="3860640"/>
            <a:ext cx="20066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4" descr="IMG_3444"/>
          <p:cNvPicPr/>
          <p:nvPr/>
        </p:nvPicPr>
        <p:blipFill>
          <a:blip r:embed="rId1"/>
          <a:stretch/>
        </p:blipFill>
        <p:spPr>
          <a:xfrm>
            <a:off x="250920" y="1125360"/>
            <a:ext cx="3616200" cy="2713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IMG_4009"/>
          <p:cNvPicPr/>
          <p:nvPr/>
        </p:nvPicPr>
        <p:blipFill>
          <a:blip r:embed="rId2"/>
          <a:stretch/>
        </p:blipFill>
        <p:spPr>
          <a:xfrm>
            <a:off x="3995640" y="3860640"/>
            <a:ext cx="3618000" cy="2713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6"/>
          <p:cNvSpPr/>
          <p:nvPr/>
        </p:nvSpPr>
        <p:spPr>
          <a:xfrm>
            <a:off x="755640" y="3333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Результаты работ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7010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24"/>
              </a:spcBef>
              <a:buSzPct val="1029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ccff66"/>
                </a:solidFill>
                <a:latin typeface="Times New Roman"/>
              </a:rPr>
              <a:t>Никогда не перестанут привлекать людей древние ремесла. Никакие блага цивилизации не заглушат потребность в творчестве и удивление перед возможностью создать нечто самому, своими руками, практически из ничего...</a:t>
            </a:r>
            <a:endParaRPr b="0" lang="en-US" sz="3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63520" y="692280"/>
            <a:ext cx="7386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Times New Roman"/>
              </a:rPr>
              <a:t>Гобелен</a:t>
            </a:r>
            <a:r>
              <a:rPr b="0" lang="ru-RU" sz="2800" spc="-1" strike="noStrike">
                <a:solidFill>
                  <a:srgbClr val="ccff66"/>
                </a:solidFill>
                <a:latin typeface="Times New Roman"/>
              </a:rPr>
              <a:t> – прекрасное древнее, но не стареющее рукоделие. Эта область традиционного народного искусства живет и развивается и в наши дни. Сегодня искусство создания гобеленов возрождается и процветает. Новые материалы вносят новые нотки в традиционный процесс ткачества, позволяя создать поистине уникальные вещи. Изучив приемы изготовления изделий, можно создать изысканные изделия интерьера своими руками, будь то абстрактная или сюжетная композиц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71080" y="2534760"/>
            <a:ext cx="72421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600" spc="-1" strike="noStrike">
                <a:solidFill>
                  <a:srgbClr val="ccff66"/>
                </a:solidFill>
                <a:latin typeface="Times New Roman"/>
              </a:rPr>
              <a:t>Спасибо за внимание!</a:t>
            </a:r>
            <a:endParaRPr b="0" lang="en-US" sz="5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7386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Программа представляет собой постепенный, поэтапный процесс обучения технике тканого и нетканого гобелена. Начиная с представления исторической справки, педагог не только расширяет знания детей о мире, о народных промыслах, но ещё и заинтересовывает ребенка в процессе обучения, ученик словно выступает преемником собственных предков, перенимая технику гобеле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Цель программ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раскрытие творческого потенциала ребёнка посредством занятий художественным гобелено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22440"/>
            <a:ext cx="204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ccff66"/>
              </a:solidFill>
              <a:latin typeface="Times New Roman"/>
            </a:endParaRPr>
          </a:p>
        </p:txBody>
      </p:sp>
      <p:graphicFrame>
        <p:nvGraphicFramePr>
          <p:cNvPr id="199" name="Object 10"/>
          <p:cNvGraphicFramePr/>
          <p:nvPr/>
        </p:nvGraphicFramePr>
        <p:xfrm>
          <a:off x="4186080" y="1598760"/>
          <a:ext cx="331020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6080" y="1598760"/>
                    <a:ext cx="331020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2"/>
          <p:cNvGraphicFramePr/>
          <p:nvPr/>
        </p:nvGraphicFramePr>
        <p:xfrm>
          <a:off x="4208400" y="5073480"/>
          <a:ext cx="1090800" cy="10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8400" y="5073480"/>
                    <a:ext cx="10908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Diagram 24"/>
          <p:cNvGrpSpPr/>
          <p:nvPr/>
        </p:nvGrpSpPr>
        <p:grpSpPr>
          <a:xfrm>
            <a:off x="1171800" y="1552320"/>
            <a:ext cx="5505120" cy="3352680"/>
            <a:chOff x="1171800" y="1552320"/>
            <a:chExt cx="5505120" cy="3352680"/>
          </a:xfrm>
        </p:grpSpPr>
        <p:sp>
          <p:nvSpPr>
            <p:cNvPr id="204" name="_s1028"/>
            <p:cNvSpPr/>
            <p:nvPr/>
          </p:nvSpPr>
          <p:spPr>
            <a:xfrm>
              <a:off x="3073320" y="2147760"/>
              <a:ext cx="1702080" cy="1701720"/>
            </a:xfrm>
            <a:prstGeom prst="ellipse">
              <a:avLst/>
            </a:prstGeom>
            <a:solidFill>
              <a:srgbClr val="79af7d">
                <a:alpha val="50000"/>
              </a:srgbClr>
            </a:solidFill>
            <a:ln w="468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1029"/>
            <p:cNvSpPr/>
            <p:nvPr/>
          </p:nvSpPr>
          <p:spPr>
            <a:xfrm>
              <a:off x="3270240" y="1552320"/>
              <a:ext cx="13082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66"/>
                  </a:solidFill>
                  <a:latin typeface="Arial"/>
                </a:rPr>
                <a:t>обучающие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_s1030"/>
            <p:cNvSpPr/>
            <p:nvPr/>
          </p:nvSpPr>
          <p:spPr>
            <a:xfrm>
              <a:off x="3633840" y="3119040"/>
              <a:ext cx="1701720" cy="1702080"/>
            </a:xfrm>
            <a:prstGeom prst="ellipse">
              <a:avLst/>
            </a:prstGeom>
            <a:solidFill>
              <a:srgbClr val="f0b854">
                <a:alpha val="50000"/>
              </a:srgbClr>
            </a:solidFill>
            <a:ln w="4680">
              <a:solidFill>
                <a:srgbClr val="f0b8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_s1031"/>
            <p:cNvSpPr/>
            <p:nvPr/>
          </p:nvSpPr>
          <p:spPr>
            <a:xfrm>
              <a:off x="5369040" y="4479840"/>
              <a:ext cx="13078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66"/>
                  </a:solidFill>
                  <a:latin typeface="Arial"/>
                </a:rPr>
                <a:t>воспитательные</a:t>
              </a:r>
              <a:endParaRPr b="0" lang="en-US" sz="2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_s1032"/>
            <p:cNvSpPr/>
            <p:nvPr/>
          </p:nvSpPr>
          <p:spPr>
            <a:xfrm>
              <a:off x="2511360" y="3117600"/>
              <a:ext cx="1702080" cy="1701720"/>
            </a:xfrm>
            <a:prstGeom prst="ellipse">
              <a:avLst/>
            </a:prstGeom>
            <a:solidFill>
              <a:srgbClr val="dc893e">
                <a:alpha val="50000"/>
              </a:srgbClr>
            </a:solidFill>
            <a:ln w="4680">
              <a:solidFill>
                <a:srgbClr val="dc89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_s1033"/>
            <p:cNvSpPr/>
            <p:nvPr/>
          </p:nvSpPr>
          <p:spPr>
            <a:xfrm>
              <a:off x="1171800" y="4479840"/>
              <a:ext cx="13078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66"/>
                  </a:solidFill>
                  <a:latin typeface="Arial"/>
                </a:rPr>
                <a:t>развивающие</a:t>
              </a:r>
              <a:endParaRPr b="0" lang="en-US" sz="2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Обучающие 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66"/>
                </a:solidFill>
                <a:latin typeface="Times New Roman"/>
              </a:rPr>
              <a:t>познакомить с историей гобелена, традициями ручного ткачества и художественного войлока;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66"/>
                </a:solidFill>
                <a:latin typeface="Times New Roman"/>
              </a:rPr>
              <a:t>раскрыть значимость народного искусства в сфере современного декоративно-прикладного искусства;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66"/>
                </a:solidFill>
                <a:latin typeface="Times New Roman"/>
              </a:rPr>
              <a:t>обучить техническим приёмам нетканого и тканого гобелена;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66"/>
                </a:solidFill>
                <a:latin typeface="Times New Roman"/>
              </a:rPr>
              <a:t>познакомить учащихся с законами цветоведения и колористики;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66"/>
                </a:solidFill>
                <a:latin typeface="Times New Roman"/>
              </a:rPr>
              <a:t>изучить основные принципы построения декоративной композиции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Развивающие 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010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66"/>
                </a:solidFill>
                <a:latin typeface="Times New Roman"/>
              </a:rPr>
              <a:t>развивать интерес к народному и декоративно-прикладному искусству, развить чувство преемственности к предыдущим поколениям и чувство патриотизма;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66"/>
                </a:solidFill>
                <a:latin typeface="Times New Roman"/>
              </a:rPr>
              <a:t>развивать творческие способности и стремление ребят к творческому познанию и самовыражению;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66"/>
                </a:solidFill>
                <a:latin typeface="Times New Roman"/>
              </a:rPr>
              <a:t>развивать у учащихся художественный образ мышления, в том числе внимания, памяти, фантазии, воображения;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66"/>
                </a:solidFill>
                <a:latin typeface="Times New Roman"/>
              </a:rPr>
              <a:t>содействовать гармоничному развитию личности, совершенствованию её духовно-нравственных качеств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Воспитательные 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воспитывать уважение к культурному наследию своего народа, привитие интереса и любви к художественному гобелену, как виду художественного творчеств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воспитывать терпение, волю, трудолюбие в достижении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воспитывать стремление к самостоятельному творчеств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Times New Roman"/>
              </a:rPr>
              <a:t>Актуальность программ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010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ff66"/>
                </a:solidFill>
                <a:latin typeface="Times New Roman"/>
              </a:rPr>
              <a:t>Через приобщение детей к искусству художественного гобелена, которое основано на народных традициях, оказывается влияние на формирование их художественного вкуса; развитие творческих качеств личности; открываются пути для дальнейшего совершенствования и в других областях культуры и искусства, что способствует гармоничному развитию личности в целом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28:21Z</dcterms:created>
  <dc:creator>x</dc:creator>
  <dc:description/>
  <dc:language>en-US</dc:language>
  <cp:lastModifiedBy>Пользователь</cp:lastModifiedBy>
  <dcterms:modified xsi:type="dcterms:W3CDTF">2018-02-08T22:53:40Z</dcterms:modified>
  <cp:revision>19</cp:revision>
  <dc:subject/>
  <dc:title>Образовательная программа дополнительного образования детей</dc:title>
</cp:coreProperties>
</file>