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C579-0841-4387-8D6D-A18AF026BE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CC36-B745-40FE-BFDC-1ED0564D9C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E66C-EB6B-4392-9459-BF722523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97DA-B2B3-4B87-923D-A94788A2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2C39-023B-4734-A362-4BC375C7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8320-C928-4841-B877-0B74F173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F691-E755-49A6-9798-A24EC796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BC88-167A-4F87-9B7E-3C785CF2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B66D-A1B3-4116-AA33-49C9DB73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4BA5-0B3F-4626-B84F-92CC169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5024-F18C-4096-9431-BBA6C84A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DEC0-753E-49C9-96CD-825B7AF7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B6A9-5A05-4BB5-86D3-08491C0C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D078-0DB1-41F9-B86C-83EC6299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8360-9C42-40BE-A06F-09AB6401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B3BB-6A2B-4319-9B8D-83F693EA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C259-622A-4755-BFB8-F2448CA8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F517-07F9-408F-81FA-839E49E6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3C05-C1AD-4907-975E-1C665466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2E36-5813-44AE-A884-A378C18E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2C24-7F11-41E5-9EE6-CEC115E3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EA84-AAB4-4E69-B989-57060379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34F8-A93D-47E2-8527-0A99C3A9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7A26-30DA-48A8-9B60-174C434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8B0D-0DEB-4C84-B8AD-38A2DA1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2C38-2FA4-4108-A0E8-7AEDD30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0188-F663-4FDC-A381-F1E3214111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A447-6E40-4DE4-B790-9A84A2E2F5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3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8000" y="1828800"/>
            <a:ext cx="6950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внеурочной деятельности в начальной шк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5"/>
          <p:cNvSpPr/>
          <p:nvPr/>
        </p:nvSpPr>
        <p:spPr>
          <a:xfrm>
            <a:off x="642960" y="4714920"/>
            <a:ext cx="82296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Администрация МБОУ  СОШ № 1 г.Шагон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/начальная школа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856800"/>
            <a:ext cx="65865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СПОРТИВНО-ОЗДОРОВ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500040" y="2000160"/>
          <a:ext cx="8229600" cy="4479840"/>
        </p:xfrm>
        <a:graphic>
          <a:graphicData uri="http://schemas.openxmlformats.org/drawingml/2006/table">
            <a:tbl>
              <a:tblPr/>
              <a:tblGrid>
                <a:gridCol w="2055960"/>
                <a:gridCol w="2057400"/>
                <a:gridCol w="2058840"/>
                <a:gridCol w="205740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участие в оздоровительных процеду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ые спортив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урниры и оздоровительны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екты школьн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Пятно 2 29"/>
          <p:cNvSpPr/>
          <p:nvPr/>
        </p:nvSpPr>
        <p:spPr>
          <a:xfrm>
            <a:off x="0" y="571680"/>
            <a:ext cx="2286000" cy="1143000"/>
          </a:xfrm>
          <a:prstGeom prst="irregularSeal2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571680" y="2071800"/>
          <a:ext cx="8229600" cy="4479840"/>
        </p:xfrm>
        <a:graphic>
          <a:graphicData uri="http://schemas.openxmlformats.org/drawingml/2006/table">
            <a:tbl>
              <a:tblPr/>
              <a:tblGrid>
                <a:gridCol w="2055600"/>
                <a:gridCol w="2057400"/>
                <a:gridCol w="2059200"/>
                <a:gridCol w="20574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ая пр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Т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(коллективное творческое д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99840" y="92844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СОЦИАЛЬНОГО ТВОРЧЕ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ятно 2 28"/>
          <p:cNvSpPr/>
          <p:nvPr/>
        </p:nvSpPr>
        <p:spPr>
          <a:xfrm>
            <a:off x="0" y="571680"/>
            <a:ext cx="2286000" cy="1143000"/>
          </a:xfrm>
          <a:prstGeom prst="irregularSeal2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8760" y="2428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комплексные образовательные программы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предполагающие последовательный переход от воспитательных результатов первого к результатам третьего уровня в различных видах внеур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тематические образовательные программы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направленные на получение воспитательных результатов в определенном проблемном поле и использующие при этом возможности различных видов внеурочной деятельности (например, образовательная программа патриотического воспитания, образовательная программа воспитания толерантности и т.п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28760" y="15717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8760" y="2428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образовательные программы, ориентированные на достижение результатов определен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Такие программы могут иметь возрастную привязку,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для 1-2-го класса – образовательная программа, ориентированная на приобретение школьником социальных знаний в различных видах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для 2-3-го класса – образовательная программа, формирующая позитивное отношение к базовым ценнос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для 4-го класса – образовательная программа, дающая ребенку опыт самостоятельного общественного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428760" y="15717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760" y="25714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образовательные программы по конкретным видам внеур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возрастные образовательные программы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(образовательная программа внеурочной деятельности младших школьников; образовательная программа внеурочной деятельности подростков; образовательная программа внеурочной деятельности старшеклассник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индивидуальная образовательная программа младшего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28760" y="15717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760" y="2428920"/>
            <a:ext cx="85010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разработка и осуществление совместных программ и проектов, отдельных дел и акций, направленных на решение воспитательных задач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кооперация ресурсов и обмен ресурсами (интеллектуальными, кадровыми, информационными, финансовыми, материально-техническими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предоставление услуг (консультативных, информационных, технических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взаимообучение специалистов, обмен передовым опыт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совместная экспертиза качества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28760" y="171468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Механизмы интег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ВНЕУРОЧНАЯ ДЕЯТЕЛЬНОСТ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tand_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428760" y="1428840"/>
          <a:ext cx="8229600" cy="5214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7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аучно-познава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оенно-патрио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щественно-полезная   де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Игров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Познавательн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Проблемно-ценностное общ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Досугово-развлекательная деятельность (досуговое общение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Художественное творчество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Социальное творчество (социально преобразующая добровольческая деятельность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рудовая (производственная)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Спортивно-оздоровительная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0"/>
          <p:cNvSpPr/>
          <p:nvPr/>
        </p:nvSpPr>
        <p:spPr>
          <a:xfrm rot="10800000">
            <a:off x="6372000" y="2565360"/>
            <a:ext cx="2592360" cy="2341440"/>
          </a:xfrm>
          <a:custGeom>
            <a:avLst/>
            <a:gdLst>
              <a:gd name="textAreaLeft" fmla="*/ 405000 w 2592360"/>
              <a:gd name="textAreaRight" fmla="*/ 2268360 w 2592360"/>
              <a:gd name="textAreaTop" fmla="*/ 585360 h 2341440"/>
              <a:gd name="textAreaBottom" fmla="*/ 1756080 h 2341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cc"/>
          </a:solidFill>
          <a:ln w="144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 rot="16200000">
            <a:off x="3577320" y="4638960"/>
            <a:ext cx="1592280" cy="2844720"/>
          </a:xfrm>
          <a:custGeom>
            <a:avLst/>
            <a:gdLst>
              <a:gd name="textAreaLeft" fmla="*/ 248760 w 1592280"/>
              <a:gd name="textAreaRight" fmla="*/ 1393560 w 1592280"/>
              <a:gd name="textAreaTop" fmla="*/ 711000 h 2844720"/>
              <a:gd name="textAreaBottom" fmla="*/ 2133720 h 28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95280" y="2421000"/>
            <a:ext cx="2556000" cy="2484360"/>
          </a:xfrm>
          <a:custGeom>
            <a:avLst/>
            <a:gdLst>
              <a:gd name="textAreaLeft" fmla="*/ 399240 w 2556000"/>
              <a:gd name="textAreaRight" fmla="*/ 2236680 w 2556000"/>
              <a:gd name="textAreaTop" fmla="*/ 621000 h 2484360"/>
              <a:gd name="textAreaBottom" fmla="*/ 1863360 h 248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ff"/>
          </a:solidFill>
          <a:ln w="144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342900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клад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300720" y="335772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клад друж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кру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348000" y="566100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к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Мальчикбезфона"/>
          <p:cNvPicPr/>
          <p:nvPr/>
        </p:nvPicPr>
        <p:blipFill>
          <a:blip r:embed="rId1"/>
          <a:stretch/>
        </p:blipFill>
        <p:spPr>
          <a:xfrm>
            <a:off x="3348000" y="1808280"/>
            <a:ext cx="1774800" cy="3600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2"/>
          <p:cNvSpPr/>
          <p:nvPr/>
        </p:nvSpPr>
        <p:spPr>
          <a:xfrm rot="16200000">
            <a:off x="3469320" y="-293040"/>
            <a:ext cx="1592280" cy="2844720"/>
          </a:xfrm>
          <a:custGeom>
            <a:avLst/>
            <a:gdLst>
              <a:gd name="textAreaLeft" fmla="*/ 248760 w 1592280"/>
              <a:gd name="textAreaRight" fmla="*/ 1393560 w 1592280"/>
              <a:gd name="textAreaTop" fmla="*/ 711000 h 2844720"/>
              <a:gd name="textAreaBottom" fmla="*/ 2133720 h 28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276720" y="9079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Личностный 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rot="16200000">
            <a:off x="4387680" y="2747520"/>
            <a:ext cx="1592280" cy="1512720"/>
          </a:xfrm>
          <a:custGeom>
            <a:avLst/>
            <a:gdLst>
              <a:gd name="textAreaLeft" fmla="*/ 248760 w 1592280"/>
              <a:gd name="textAreaRight" fmla="*/ 1393560 w 1592280"/>
              <a:gd name="textAreaTop" fmla="*/ 378000 h 1512720"/>
              <a:gd name="textAreaBottom" fmla="*/ 1134720 h 1512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14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00720" y="321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амо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79280" y="620640"/>
            <a:ext cx="28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азличение результатов и эфф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stand_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76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ВОСПИТАТЕЛЬНЫЕ РЕЗУЛЬТАТЫ И ЭФФЕКТЫ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НЕУРОЧНОЙ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8"/>
          <p:cNvSpPr/>
          <p:nvPr/>
        </p:nvSpPr>
        <p:spPr>
          <a:xfrm>
            <a:off x="428760" y="1785960"/>
            <a:ext cx="8229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– влияние того или иного духовно-нравственного приобретения  на процесс развития личности ребенка (</a:t>
            </a: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последствие результата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81741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– приобретение школьником социального знания (знания об общественных норм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об устройстве общ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о социально одобряемых и неодобряемых формах поведения в обществе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14400" y="5572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Достигается во взаимодействии со взрослым (педагог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8390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Второй уровень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Достигается в дружественной детской среде (коллекти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06472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Третий уровень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Достигается во взаимодействии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социальными су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Каждому уровню воспитательного результата соответствует своя образовательная форма.</a:t>
            </a:r>
            <a:br>
              <a:rPr sz="2800"/>
            </a:br>
            <a:r>
              <a:rPr b="1" lang="ru-RU" sz="2800" spc="-1" strike="noStrike">
                <a:solidFill>
                  <a:srgbClr val="1818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71680" y="2428920"/>
            <a:ext cx="8207280" cy="3786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1"/>
          <p:cNvSpPr/>
          <p:nvPr/>
        </p:nvSpPr>
        <p:spPr>
          <a:xfrm>
            <a:off x="2500200" y="3429000"/>
            <a:ext cx="5234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ff"/>
                </a:solidFill>
                <a:latin typeface="Arial"/>
              </a:rPr>
              <a:t>3-й уровень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3143160" y="4572000"/>
            <a:ext cx="50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ff"/>
                </a:solidFill>
                <a:latin typeface="Arial"/>
              </a:rPr>
              <a:t>1-й уровень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2857680" y="4000680"/>
            <a:ext cx="4873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ff"/>
                </a:solidFill>
                <a:latin typeface="Arial"/>
              </a:rPr>
              <a:t>2-й уровень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65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7"/>
          <p:cNvSpPr/>
          <p:nvPr/>
        </p:nvSpPr>
        <p:spPr>
          <a:xfrm>
            <a:off x="1214280" y="2000160"/>
            <a:ext cx="73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Форсирование результатов недопустим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71480" y="928800"/>
            <a:ext cx="6086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ХУДОЖЕСТВЕНН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428760" y="2000160"/>
          <a:ext cx="8229600" cy="4479840"/>
        </p:xfrm>
        <a:graphic>
          <a:graphicData uri="http://schemas.openxmlformats.org/drawingml/2006/table">
            <a:tbl>
              <a:tblPr/>
              <a:tblGrid>
                <a:gridCol w="2057400"/>
                <a:gridCol w="2054160"/>
                <a:gridCol w="2058840"/>
                <a:gridCol w="20592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детских объединений художествен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акции и прое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иков 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0" name="Пятно 2 28"/>
          <p:cNvSpPr/>
          <p:nvPr/>
        </p:nvSpPr>
        <p:spPr>
          <a:xfrm>
            <a:off x="0" y="571680"/>
            <a:ext cx="2357280" cy="1143000"/>
          </a:xfrm>
          <a:prstGeom prst="irregularSeal2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1:08:53Z</dcterms:created>
  <dc:creator>USER</dc:creator>
  <dc:description/>
  <dc:language>en-US</dc:language>
  <cp:lastModifiedBy>user</cp:lastModifiedBy>
  <dcterms:modified xsi:type="dcterms:W3CDTF">2018-02-07T10:06:32Z</dcterms:modified>
  <cp:revision>59</cp:revision>
  <dc:subject/>
  <dc:title>Слайд 1</dc:title>
</cp:coreProperties>
</file>