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174-226D-4DD2-BA38-65E8FC5D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32F-EE85-411D-9AE2-D3A4A10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310-0521-4055-88C5-B71908C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318-6011-4C13-8318-9D61D981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328-C353-4826-8E91-FE396F3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690-1132-4CB2-B237-2446EC0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209-13B2-4A08-B395-3C015315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F81-B557-4AA4-A737-3265D2CD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8FE-4399-4C2F-84F0-7BC242D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89-EE11-46B1-870B-2964412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687-5439-430F-AEE5-AF5AE0B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942-9DFF-40AA-8950-455F28E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D65F-A9FE-4378-A85D-60C563ADD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1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1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hyperlink" Target="file:///&#1087;&#1088;&#1086;&#1075;&#1088;&#1072;&#1084;&#1084;&#1099;%20&#1042;&#1059;&#1044;.ppt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Cambria"/>
              </a:rPr>
              <a:t>Организация </a:t>
            </a:r>
            <a:br>
              <a:rPr sz="3400"/>
            </a:br>
            <a:r>
              <a:rPr b="1" lang="ru-RU" sz="3400" spc="-1" strike="noStrike">
                <a:solidFill>
                  <a:srgbClr val="000066"/>
                </a:solidFill>
                <a:latin typeface="Cambria"/>
              </a:rPr>
              <a:t>внеурочной деятельности </a:t>
            </a:r>
            <a:br>
              <a:rPr sz="3400"/>
            </a:br>
            <a:r>
              <a:rPr b="1" lang="ru-RU" sz="3400" spc="-1" strike="noStrike">
                <a:solidFill>
                  <a:srgbClr val="000066"/>
                </a:solidFill>
                <a:latin typeface="Cambria"/>
              </a:rPr>
              <a:t>учащихся школы </a:t>
            </a:r>
            <a:r>
              <a:rPr b="1" lang="en-US" sz="3400" spc="-1" strike="noStrike">
                <a:solidFill>
                  <a:srgbClr val="000066"/>
                </a:solidFill>
                <a:latin typeface="Cambria"/>
              </a:rPr>
              <a:t>I</a:t>
            </a:r>
            <a:r>
              <a:rPr b="1" lang="ru-RU" sz="3400" spc="-1" strike="noStrike">
                <a:solidFill>
                  <a:srgbClr val="000066"/>
                </a:solidFill>
                <a:latin typeface="Cambria"/>
              </a:rPr>
              <a:t> ступени </a:t>
            </a:r>
            <a:br>
              <a:rPr sz="3400"/>
            </a:br>
            <a:r>
              <a:rPr b="1" lang="ru-RU" sz="3400" spc="-1" strike="noStrike">
                <a:solidFill>
                  <a:srgbClr val="000066"/>
                </a:solidFill>
                <a:latin typeface="Cambria"/>
              </a:rPr>
              <a:t>в соответствии с требованиями ФГО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6048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ФГОС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п. 17 дополнить абзацами)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"/>
          <p:cNvPicPr/>
          <p:nvPr/>
        </p:nvPicPr>
        <p:blipFill>
          <a:blip r:embed="rId9"/>
          <a:stretch/>
        </p:blipFill>
        <p:spPr>
          <a:xfrm>
            <a:off x="7380360" y="907920"/>
            <a:ext cx="1307880" cy="2016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5" name="AutoShape 18"/>
          <p:cNvSpPr/>
          <p:nvPr/>
        </p:nvSpPr>
        <p:spPr>
          <a:xfrm>
            <a:off x="611280" y="2060640"/>
            <a:ext cx="6481800" cy="410508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55640" y="2205000"/>
            <a:ext cx="62643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В целях обеспечения индивидуальных потребностей обучающихся в образовательной программе НОО предусматри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учебные курсы, обеспечивающие различные интересы обучающихся, в том числе этнокульту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внеурочная деятельност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09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Исключено из ФГОС</a:t>
            </a: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п. 19.3)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5" descr=""/>
          <p:cNvPicPr/>
          <p:nvPr/>
        </p:nvPicPr>
        <p:blipFill>
          <a:blip r:embed="rId9"/>
          <a:stretch/>
        </p:blipFill>
        <p:spPr>
          <a:xfrm>
            <a:off x="7451640" y="1413000"/>
            <a:ext cx="1262160" cy="19447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Rectangle 16"/>
          <p:cNvSpPr/>
          <p:nvPr/>
        </p:nvSpPr>
        <p:spPr>
          <a:xfrm>
            <a:off x="468360" y="162864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ГОС 6.12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личество учебных занятий за 4 учебных года не может составлять менее 2904 часов и более 321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mbria"/>
              </a:rPr>
              <a:t>Время, отводимое на внеурочную деятельность, составляет до 135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755640" y="4149720"/>
            <a:ext cx="7920000" cy="201600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900000" y="4292640"/>
            <a:ext cx="7632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едакция от 26.11.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Количество учебных занятий за 4 учебных года не может составлять менее 2904 часов и более 321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ФГОС </a:t>
            </a: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п. 19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11280" y="1844640"/>
            <a:ext cx="6265800" cy="309708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6048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Формы организации образовательного процесса, чередование учебной и внеурочной деятельности в рамках реализации ООП НОО определяет образовательное учре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7" descr=""/>
          <p:cNvPicPr/>
          <p:nvPr/>
        </p:nvPicPr>
        <p:blipFill>
          <a:blip r:embed="rId10"/>
          <a:stretch/>
        </p:blipFill>
        <p:spPr>
          <a:xfrm>
            <a:off x="7236000" y="1052640"/>
            <a:ext cx="1355400" cy="20890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07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ФГОС 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п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539640" y="1413000"/>
            <a:ext cx="6408720" cy="468000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633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Внеурочная деятельность организуется по направлениям развития личности (</a:t>
            </a:r>
            <a:r>
              <a:rPr b="0" i="1" lang="ru-RU" sz="2400" spc="-1" strike="noStrike">
                <a:solidFill>
                  <a:srgbClr val="000066"/>
                </a:solidFill>
                <a:latin typeface="Cambria"/>
              </a:rPr>
              <a:t>спортивно-оздоровитель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mbria"/>
              </a:rPr>
              <a:t>духовно-нравствен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mbria"/>
              </a:rPr>
              <a:t>социаль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mbria"/>
              </a:rPr>
              <a:t>общеинтеллектуальное, </a:t>
            </a:r>
            <a:r>
              <a:rPr b="1" i="1" lang="ru-RU" sz="24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mbria"/>
              </a:rPr>
              <a:t>общекультурное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ambria"/>
              </a:rPr>
              <a:t>в том числе через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такие формы, как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"/>
          <p:cNvPicPr/>
          <p:nvPr/>
        </p:nvPicPr>
        <p:blipFill>
          <a:blip r:embed="rId10"/>
          <a:stretch/>
        </p:blipFill>
        <p:spPr>
          <a:xfrm>
            <a:off x="7308720" y="907920"/>
            <a:ext cx="1355760" cy="20894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21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Прямоугольник 2"/>
          <p:cNvSpPr/>
          <p:nvPr/>
        </p:nvSpPr>
        <p:spPr>
          <a:xfrm>
            <a:off x="1403280" y="692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68360" y="1341360"/>
          <a:ext cx="8215200" cy="4700520"/>
        </p:xfrm>
        <a:graphic>
          <a:graphicData uri="http://schemas.openxmlformats.org/drawingml/2006/table">
            <a:tbl>
              <a:tblPr/>
              <a:tblGrid>
                <a:gridCol w="3628800"/>
                <a:gridCol w="4586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85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433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ственно полезная  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85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660066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Туристско-краеведческ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d6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3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1"/>
          <p:cNvSpPr/>
          <p:nvPr/>
        </p:nvSpPr>
        <p:spPr>
          <a:xfrm>
            <a:off x="266760" y="5493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Базисный образовательный план начальной школы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1535040"/>
          <a:ext cx="8067600" cy="4516560"/>
        </p:xfrm>
        <a:graphic>
          <a:graphicData uri="http://schemas.openxmlformats.org/drawingml/2006/table">
            <a:tbl>
              <a:tblPr/>
              <a:tblGrid>
                <a:gridCol w="3448080"/>
                <a:gridCol w="965160"/>
                <a:gridCol w="965160"/>
                <a:gridCol w="965160"/>
                <a:gridCol w="896760"/>
                <a:gridCol w="827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правления /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часов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Художественно-эстет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учно-познав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енно-патриот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щественно полез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ТОГ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45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mbria"/>
              </a:rPr>
              <a:t>Использование раздела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Cambria"/>
              </a:rPr>
              <a:t>«Внеурочная деятельность»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539640" y="1413000"/>
            <a:ext cx="7848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Внеурочная деятельность включается в вариативную часть БУПа и на нее отводится 10 часов в нед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2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Школа вправе сама определять, под какие виды внеурочной деятельности отдать эти ча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2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Часы, отводимые на внеурочную деятельность, используются по желанию учащихся</a:t>
            </a:r>
            <a:r>
              <a:rPr b="1" lang="ru-RU" sz="22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2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Аудиторных занятий не должно быть более 5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2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Внеурочная деятельность должна быть строго ориентирована на воспитательные результ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2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Cambria"/>
              </a:rPr>
              <a:t>Школе предлагается ориентироваться на 5 направлений внеурочной деятельности: спортивно-оздоровительное, художественно-эстетическое, научно-познавательное, военно-патриотическое, общественно-полезную и проектную 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42" descr="Рисунок2"/>
          <p:cNvPicPr/>
          <p:nvPr/>
        </p:nvPicPr>
        <p:blipFill>
          <a:blip r:embed="rId9"/>
          <a:stretch/>
        </p:blipFill>
        <p:spPr>
          <a:xfrm>
            <a:off x="7236000" y="2060640"/>
            <a:ext cx="1403280" cy="2158920"/>
          </a:xfrm>
          <a:prstGeom prst="rect">
            <a:avLst/>
          </a:prstGeom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58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Городское 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353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66"/>
                </a:solidFill>
                <a:latin typeface="Cambria"/>
                <a:ea typeface="Times New Roman"/>
              </a:rPr>
              <a:t>ВОСПИТАТЕЛЬНЫЕ РЕЗУЛЬТАТЫ И ЭФФЕКТ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ambria"/>
                <a:ea typeface="Times New Roman"/>
              </a:rPr>
              <a:t>ВНЕУРОЧНОЙ </a:t>
            </a: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mbria"/>
              </a:rPr>
              <a:t>Воспитательный результат внеурочной деятельности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– непосредственное духовно-нравственное </a:t>
            </a:r>
            <a:r>
              <a:rPr b="0" lang="ru-RU" sz="2600" spc="-1" strike="noStrike" u="sng">
                <a:solidFill>
                  <a:srgbClr val="000066"/>
                </a:solidFill>
                <a:uFillTx/>
                <a:latin typeface="Cambria"/>
              </a:rPr>
              <a:t>приобретение ребенка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благодаря его участию в том или ином виде внеуроч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Cambria"/>
              </a:rPr>
              <a:t>Воспитательный эффект внеурочной деятельности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– </a:t>
            </a:r>
            <a:r>
              <a:rPr b="0" lang="ru-RU" sz="2600" spc="-1" strike="noStrike" u="sng">
                <a:solidFill>
                  <a:srgbClr val="000066"/>
                </a:solidFill>
                <a:uFillTx/>
                <a:latin typeface="Cambria"/>
              </a:rPr>
              <a:t>влияние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того или иного духовно-нравственного </a:t>
            </a:r>
            <a:r>
              <a:rPr b="0" lang="ru-RU" sz="2600" spc="-1" strike="noStrike" u="sng">
                <a:solidFill>
                  <a:srgbClr val="000066"/>
                </a:solidFill>
                <a:uFillTx/>
                <a:latin typeface="Cambria"/>
              </a:rPr>
              <a:t>приобретения  на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lang="ru-RU" sz="2600" spc="-1" strike="noStrike" u="sng">
                <a:solidFill>
                  <a:srgbClr val="000066"/>
                </a:solidFill>
                <a:uFillTx/>
                <a:latin typeface="Cambria"/>
              </a:rPr>
              <a:t>процесс развития личности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 ребенка (</a:t>
            </a:r>
            <a:r>
              <a:rPr b="1" i="1" lang="ru-RU" sz="2600" spc="-1" strike="noStrike">
                <a:solidFill>
                  <a:srgbClr val="000066"/>
                </a:solidFill>
                <a:latin typeface="Cambria"/>
              </a:rPr>
              <a:t>последствие результата</a:t>
            </a:r>
            <a:r>
              <a:rPr b="0" lang="ru-RU" sz="2600" spc="-1" strike="noStrike">
                <a:solidFill>
                  <a:srgbClr val="000066"/>
                </a:solidFill>
                <a:latin typeface="Cambri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70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14"/>
          <p:cNvSpPr/>
          <p:nvPr/>
        </p:nvSpPr>
        <p:spPr>
          <a:xfrm>
            <a:off x="395280" y="1341360"/>
            <a:ext cx="4319640" cy="1295640"/>
          </a:xfrm>
          <a:prstGeom prst="pie">
            <a:avLst/>
          </a:prstGeom>
          <a:gradFill rotWithShape="0">
            <a:gsLst>
              <a:gs pos="0">
                <a:srgbClr val="767672"/>
              </a:gs>
              <a:gs pos="50000">
                <a:srgbClr val="fffff7"/>
              </a:gs>
              <a:gs pos="100000">
                <a:srgbClr val="76767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знает и понимае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бщественную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395280" y="2637000"/>
            <a:ext cx="5761080" cy="1295280"/>
          </a:xfrm>
          <a:prstGeom prst="pie">
            <a:avLst/>
          </a:prstGeom>
          <a:gradFill rotWithShape="0">
            <a:gsLst>
              <a:gs pos="0">
                <a:srgbClr val="767672"/>
              </a:gs>
              <a:gs pos="50000">
                <a:srgbClr val="fffff7"/>
              </a:gs>
              <a:gs pos="100000">
                <a:srgbClr val="76767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ценит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бщественную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395280" y="4005360"/>
            <a:ext cx="7850160" cy="1295280"/>
          </a:xfrm>
          <a:prstGeom prst="pie">
            <a:avLst/>
          </a:prstGeom>
          <a:gradFill rotWithShape="0">
            <a:gsLst>
              <a:gs pos="0">
                <a:srgbClr val="767672"/>
              </a:gs>
              <a:gs pos="50000">
                <a:srgbClr val="fffff7"/>
              </a:gs>
              <a:gs pos="100000">
                <a:srgbClr val="76767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амостоятельно действуе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обществен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324000" y="62064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35640" y="1628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478800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Webdings"/>
                <a:ea typeface="Webdings"/>
              </a:rPr>
              <a:t>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6732720" y="2924280"/>
            <a:ext cx="64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6551280" y="321300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6443640" y="2852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6948360" y="2708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7164360" y="278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8244000" y="4292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Webdings"/>
                <a:ea typeface="Webdings"/>
              </a:rPr>
              <a:t>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324000" y="530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Arial Narrow"/>
              </a:rPr>
              <a:t>Каждому уровню воспитательного результата соответствует своя образовательная 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319320" y="595008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 Narrow"/>
              </a:rPr>
              <a:t>Форсирование результатов недопуст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294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Обобщение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Критерии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Актуальность заявленн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2. Полнота рас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3. Новизна и оригинальность способов решения обозначе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4. Убедительность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5. Практическая 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844" descr="Рисунок2"/>
          <p:cNvPicPr/>
          <p:nvPr/>
        </p:nvPicPr>
        <p:blipFill>
          <a:blip r:embed="rId9"/>
          <a:stretch/>
        </p:blipFill>
        <p:spPr>
          <a:xfrm>
            <a:off x="2603520" y="981000"/>
            <a:ext cx="1454040" cy="22320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31" descr=""/>
          <p:cNvPicPr/>
          <p:nvPr/>
        </p:nvPicPr>
        <p:blipFill>
          <a:blip r:embed="rId10"/>
          <a:stretch/>
        </p:blipFill>
        <p:spPr>
          <a:xfrm>
            <a:off x="4664160" y="981000"/>
            <a:ext cx="1460520" cy="23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7" descr="o"/>
          <p:cNvPicPr/>
          <p:nvPr/>
        </p:nvPicPr>
        <p:blipFill>
          <a:blip r:embed="rId11"/>
          <a:stretch/>
        </p:blipFill>
        <p:spPr>
          <a:xfrm>
            <a:off x="6732720" y="981000"/>
            <a:ext cx="1476360" cy="23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7" descr="jj"/>
          <p:cNvPicPr/>
          <p:nvPr/>
        </p:nvPicPr>
        <p:blipFill>
          <a:blip r:embed="rId12"/>
          <a:stretch/>
        </p:blipFill>
        <p:spPr>
          <a:xfrm>
            <a:off x="1692360" y="3573360"/>
            <a:ext cx="1493640" cy="23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Picture 9" descr="ou"/>
          <p:cNvPicPr/>
          <p:nvPr/>
        </p:nvPicPr>
        <p:blipFill>
          <a:blip r:embed="rId13"/>
          <a:stretch/>
        </p:blipFill>
        <p:spPr>
          <a:xfrm>
            <a:off x="5724360" y="3573360"/>
            <a:ext cx="1451160" cy="22338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Picture 16" descr=""/>
          <p:cNvPicPr/>
          <p:nvPr/>
        </p:nvPicPr>
        <p:blipFill>
          <a:blip r:embed="rId14"/>
          <a:stretch/>
        </p:blipFill>
        <p:spPr>
          <a:xfrm>
            <a:off x="539640" y="981000"/>
            <a:ext cx="1403640" cy="21607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14"/>
          <p:cNvSpPr/>
          <p:nvPr/>
        </p:nvSpPr>
        <p:spPr>
          <a:xfrm>
            <a:off x="611280" y="112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1835280" y="981000"/>
            <a:ext cx="6840360" cy="1511280"/>
          </a:xfrm>
          <a:custGeom>
            <a:avLst/>
            <a:gdLst>
              <a:gd name="textAreaLeft" fmla="*/ 97920 w 6840360"/>
              <a:gd name="textAreaRight" fmla="*/ 6742440 w 684036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97748" h="21600">
                <a:moveTo>
                  <a:pt x="0" y="0"/>
                </a:moveTo>
                <a:lnTo>
                  <a:pt x="97748" y="0"/>
                </a:lnTo>
                <a:lnTo>
                  <a:pt x="97748" y="21600"/>
                </a:lnTo>
                <a:lnTo>
                  <a:pt x="0" y="21600"/>
                </a:lnTo>
                <a:close/>
              </a:path>
              <a:path fill="lightenLess" w="97748" h="21600">
                <a:moveTo>
                  <a:pt x="0" y="0"/>
                </a:moveTo>
                <a:lnTo>
                  <a:pt x="97748" y="0"/>
                </a:lnTo>
                <a:lnTo>
                  <a:pt x="96348" y="1400"/>
                </a:lnTo>
                <a:lnTo>
                  <a:pt x="1400" y="1400"/>
                </a:lnTo>
                <a:close/>
              </a:path>
              <a:path fill="darken" w="97748" h="21600">
                <a:moveTo>
                  <a:pt x="97748" y="0"/>
                </a:moveTo>
                <a:lnTo>
                  <a:pt x="97748" y="21600"/>
                </a:lnTo>
                <a:lnTo>
                  <a:pt x="96348" y="20200"/>
                </a:lnTo>
                <a:lnTo>
                  <a:pt x="96348" y="1400"/>
                </a:lnTo>
                <a:close/>
              </a:path>
              <a:path fill="darkenLess" w="97748" h="21600">
                <a:moveTo>
                  <a:pt x="97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348" y="20200"/>
                </a:lnTo>
                <a:close/>
              </a:path>
              <a:path fill="lighten" w="97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mbria"/>
              </a:rPr>
              <a:t>Соотнесите формы достиж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mbria"/>
              </a:rPr>
              <a:t>воспитательных результа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mbria"/>
              </a:rPr>
              <a:t>с уровнями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4360" y="2852640"/>
          <a:ext cx="7991280" cy="1920960"/>
        </p:xfrm>
        <a:graphic>
          <a:graphicData uri="http://schemas.openxmlformats.org/drawingml/2006/table">
            <a:tbl>
              <a:tblPr/>
              <a:tblGrid>
                <a:gridCol w="2469960"/>
                <a:gridCol w="2641680"/>
                <a:gridCol w="28796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Приобретение школьником  социальных </a:t>
                      </a: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  <a:ea typeface="Times New Roman"/>
                        </a:rPr>
                        <a:t>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Формирование </a:t>
                      </a: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  <a:ea typeface="Times New Roman"/>
                        </a:rPr>
                        <a:t>ценностного отношения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к социальной реа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Получение </a:t>
                      </a: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  <a:ea typeface="Times New Roman"/>
                        </a:rPr>
                        <a:t>опыта самостоятельного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 Narrow"/>
                          <a:ea typeface="Times New Roman"/>
                        </a:rPr>
                        <a:t> общественного </a:t>
                      </a: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Arial Narrow"/>
                          <a:ea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611280" y="1628640"/>
          <a:ext cx="792144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Text Box 33"/>
          <p:cNvSpPr/>
          <p:nvPr/>
        </p:nvSpPr>
        <p:spPr>
          <a:xfrm>
            <a:off x="2696400" y="83664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611280" y="2852640"/>
            <a:ext cx="2592360" cy="2592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afdff"/>
              </a:gs>
              <a:gs pos="100000">
                <a:srgbClr val="3399ff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  роле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акц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3203640" y="2852640"/>
            <a:ext cx="2808360" cy="2592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4dcff"/>
              </a:gs>
              <a:gs pos="100000">
                <a:srgbClr val="0066ff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 дел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акц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6012000" y="2852640"/>
            <a:ext cx="2520720" cy="2592360"/>
          </a:xfrm>
          <a:prstGeom prst="rect">
            <a:avLst/>
          </a:prstGeom>
          <a:gradFill rotWithShape="0">
            <a:gsLst>
              <a:gs pos="0">
                <a:srgbClr val="002152"/>
              </a:gs>
              <a:gs pos="50000">
                <a:srgbClr val="0066ff"/>
              </a:gs>
              <a:gs pos="100000">
                <a:srgbClr val="002152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d9"/>
                </a:solidFill>
                <a:latin typeface="Arial Narrow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d9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d9"/>
                </a:solidFill>
                <a:latin typeface="Arial Narrow"/>
              </a:rPr>
              <a:t>моделиру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d9"/>
                </a:solidFill>
                <a:latin typeface="Arial Narrow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35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611280" y="1268280"/>
          <a:ext cx="8064360" cy="1584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66364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33"/>
          <p:cNvSpPr/>
          <p:nvPr/>
        </p:nvSpPr>
        <p:spPr>
          <a:xfrm>
            <a:off x="2197080" y="69228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Позна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4"/>
          <p:cNvSpPr/>
          <p:nvPr/>
        </p:nvSpPr>
        <p:spPr>
          <a:xfrm>
            <a:off x="611280" y="2565360"/>
            <a:ext cx="2592360" cy="3672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озна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бесе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факультати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5"/>
          <p:cNvSpPr/>
          <p:nvPr/>
        </p:nvSpPr>
        <p:spPr>
          <a:xfrm>
            <a:off x="3203640" y="2565360"/>
            <a:ext cx="2808360" cy="367200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50000">
                <a:srgbClr val="ffd9e5"/>
              </a:gs>
              <a:gs pos="100000">
                <a:srgbClr val="ff6699"/>
              </a:gs>
            </a:gsLst>
            <a:lin ang="5400000"/>
          </a:gra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Дид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теат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бщ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мотр зн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интеллекту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клу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«Что? Где? Когд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6"/>
          <p:cNvSpPr/>
          <p:nvPr/>
        </p:nvSpPr>
        <p:spPr>
          <a:xfrm>
            <a:off x="6012000" y="2565360"/>
            <a:ext cx="2663640" cy="3672000"/>
          </a:xfrm>
          <a:prstGeom prst="rect">
            <a:avLst/>
          </a:prstGeom>
          <a:gradFill rotWithShape="0">
            <a:gsLst>
              <a:gs pos="0">
                <a:srgbClr val="76002f"/>
              </a:gs>
              <a:gs pos="50000">
                <a:srgbClr val="ff0066"/>
              </a:gs>
              <a:gs pos="100000">
                <a:srgbClr val="76002f"/>
              </a:gs>
            </a:gsLst>
            <a:lin ang="5400000"/>
          </a:gra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Дет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исследователь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проек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внешко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а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позна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(конферен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интеллекту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марафоны и т.п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шко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 Narrow"/>
              </a:rPr>
              <a:t>музей-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51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611280" y="148428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33"/>
          <p:cNvSpPr/>
          <p:nvPr/>
        </p:nvSpPr>
        <p:spPr>
          <a:xfrm>
            <a:off x="2124000" y="765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роблемно-ценностное общение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4"/>
          <p:cNvSpPr/>
          <p:nvPr/>
        </p:nvSpPr>
        <p:spPr>
          <a:xfrm>
            <a:off x="611280" y="2852640"/>
            <a:ext cx="2592360" cy="2592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Э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бе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3203640" y="2852640"/>
            <a:ext cx="2808360" cy="25923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edfaed"/>
              </a:gs>
              <a:gs pos="100000">
                <a:srgbClr val="33cc33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Деб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тем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6012000" y="2852640"/>
            <a:ext cx="2593800" cy="2592360"/>
          </a:xfrm>
          <a:prstGeom prst="rect">
            <a:avLst/>
          </a:prstGeom>
          <a:gradFill rotWithShape="0">
            <a:gsLst>
              <a:gs pos="0">
                <a:srgbClr val="42a421"/>
              </a:gs>
              <a:gs pos="50000">
                <a:srgbClr val="66ff33"/>
              </a:gs>
              <a:gs pos="100000">
                <a:srgbClr val="42a421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робл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ценно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дискус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 участ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не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экспе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67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6" name=""/>
          <p:cNvGraphicFramePr/>
          <p:nvPr/>
        </p:nvGraphicFramePr>
        <p:xfrm>
          <a:off x="611280" y="155736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33"/>
          <p:cNvSpPr/>
          <p:nvPr/>
        </p:nvSpPr>
        <p:spPr>
          <a:xfrm>
            <a:off x="1070640" y="620640"/>
            <a:ext cx="67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Досугово-развлек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(досуговое общ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ультпох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теат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узе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це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5bf"/>
              </a:gs>
              <a:gs pos="100000">
                <a:srgbClr val="ff9900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це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нсцениро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аздн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огонь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уро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ласса 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6"/>
          <p:cNvSpPr/>
          <p:nvPr/>
        </p:nvSpPr>
        <p:spPr>
          <a:xfrm>
            <a:off x="601200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b66d00"/>
              </a:gs>
              <a:gs pos="50000">
                <a:srgbClr val="ff9900"/>
              </a:gs>
              <a:gs pos="100000">
                <a:srgbClr val="b66d00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сугов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влек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кции уч-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окружаю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школу социу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благотвор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це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астроли шко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амодеятельно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8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2" name=""/>
          <p:cNvGraphicFramePr/>
          <p:nvPr/>
        </p:nvGraphicFramePr>
        <p:xfrm>
          <a:off x="611280" y="155736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 Box 33"/>
          <p:cNvSpPr/>
          <p:nvPr/>
        </p:nvSpPr>
        <p:spPr>
          <a:xfrm>
            <a:off x="2133720" y="7650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Художествен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3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Кру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художе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a1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Художе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выстав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фести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искус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пектак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в классе,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601200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b0b000"/>
              </a:gs>
              <a:gs pos="50000">
                <a:srgbClr val="ffff00"/>
              </a:gs>
              <a:gs pos="100000">
                <a:srgbClr val="b0b0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Художе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а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в окружаю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шк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ци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399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Г 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8" name=""/>
          <p:cNvGraphicFramePr/>
          <p:nvPr/>
        </p:nvGraphicFramePr>
        <p:xfrm>
          <a:off x="611280" y="155736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Text Box 33"/>
          <p:cNvSpPr/>
          <p:nvPr/>
        </p:nvSpPr>
        <p:spPr>
          <a:xfrm>
            <a:off x="689040" y="765000"/>
            <a:ext cx="784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Социальное твор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mbria"/>
              </a:rPr>
              <a:t>(социально преобразующая добровольческая дея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fd9f6"/>
              </a:gs>
              <a:gs pos="100000">
                <a:srgbClr val="ff33cc"/>
              </a:gs>
            </a:gsLst>
            <a:lin ang="5400000"/>
          </a:gra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оци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р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инициати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учас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 соци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акц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рганиз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взрослы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fa1e8"/>
              </a:gs>
              <a:gs pos="100000">
                <a:srgbClr val="ff33cc"/>
              </a:gs>
            </a:gsLst>
            <a:lin ang="5400000"/>
          </a:gra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КТ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коллекти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твор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д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5940360" y="2852640"/>
            <a:ext cx="2664000" cy="3240360"/>
          </a:xfrm>
          <a:prstGeom prst="rect">
            <a:avLst/>
          </a:prstGeom>
          <a:gradFill rotWithShape="0">
            <a:gsLst>
              <a:gs pos="0">
                <a:srgbClr val="981e7a"/>
              </a:gs>
              <a:gs pos="50000">
                <a:srgbClr val="ff33cc"/>
              </a:gs>
              <a:gs pos="100000">
                <a:srgbClr val="981e7a"/>
              </a:gs>
            </a:gsLst>
            <a:lin ang="5400000"/>
          </a:gra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оци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15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611280" y="155736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Text Box 33"/>
          <p:cNvSpPr/>
          <p:nvPr/>
        </p:nvSpPr>
        <p:spPr>
          <a:xfrm>
            <a:off x="689040" y="76500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Трудовая (производственная)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няти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струирова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у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ехн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ворч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ма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ме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fcf"/>
              </a:gs>
              <a:gs pos="100000">
                <a:srgbClr val="ff5050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рудовые десан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южетно-роле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ые иг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(«Почта», «Фабрика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«Город мастеров» 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детск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изводстве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бригада по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уководств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зросл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6"/>
          <p:cNvSpPr/>
          <p:nvPr/>
        </p:nvSpPr>
        <p:spPr>
          <a:xfrm>
            <a:off x="601200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983030"/>
              </a:gs>
              <a:gs pos="50000">
                <a:srgbClr val="ff5050"/>
              </a:gs>
              <a:gs pos="100000">
                <a:srgbClr val="983030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тско-взросл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бразов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31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0" name=""/>
          <p:cNvGraphicFramePr/>
          <p:nvPr/>
        </p:nvGraphicFramePr>
        <p:xfrm>
          <a:off x="611280" y="1557360"/>
          <a:ext cx="799308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92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3"/>
          <p:cNvSpPr/>
          <p:nvPr/>
        </p:nvSpPr>
        <p:spPr>
          <a:xfrm>
            <a:off x="689040" y="76500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Спортивно-оздорови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портив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ек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беседы о ЗО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участ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здорови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процед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98e5e5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Шко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пор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турнир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здоро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а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6"/>
          <p:cNvSpPr/>
          <p:nvPr/>
        </p:nvSpPr>
        <p:spPr>
          <a:xfrm>
            <a:off x="601200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238d8d"/>
              </a:gs>
              <a:gs pos="50000">
                <a:srgbClr val="33cccc"/>
              </a:gs>
              <a:gs pos="100000">
                <a:srgbClr val="238d8d"/>
              </a:gs>
            </a:gsLst>
            <a:lin ang="5400000"/>
          </a:gra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Спортив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здоро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а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школьнико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окружаю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школу социум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47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6" name=""/>
          <p:cNvGraphicFramePr/>
          <p:nvPr/>
        </p:nvGraphicFramePr>
        <p:xfrm>
          <a:off x="611280" y="1557360"/>
          <a:ext cx="8064360" cy="14637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663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11280" y="2852640"/>
          <a:ext cx="7921440" cy="2592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52072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Text Box 33"/>
          <p:cNvSpPr/>
          <p:nvPr/>
        </p:nvSpPr>
        <p:spPr>
          <a:xfrm>
            <a:off x="689040" y="76500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Туристско-краевед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4"/>
          <p:cNvSpPr/>
          <p:nvPr/>
        </p:nvSpPr>
        <p:spPr>
          <a:xfrm>
            <a:off x="611280" y="2852640"/>
            <a:ext cx="2592360" cy="324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3f9e2"/>
              </a:gs>
              <a:gs pos="100000">
                <a:srgbClr val="99cc00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кскурс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урис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езд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евед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5"/>
          <p:cNvSpPr/>
          <p:nvPr/>
        </p:nvSpPr>
        <p:spPr>
          <a:xfrm>
            <a:off x="3203640" y="2852640"/>
            <a:ext cx="2808360" cy="3240360"/>
          </a:xfrm>
          <a:prstGeom prst="rect">
            <a:avLst/>
          </a:prstGeom>
          <a:solidFill>
            <a:srgbClr val="99cc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урист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х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евед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л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6"/>
          <p:cNvSpPr/>
          <p:nvPr/>
        </p:nvSpPr>
        <p:spPr>
          <a:xfrm>
            <a:off x="6012000" y="2852640"/>
            <a:ext cx="2663640" cy="3240360"/>
          </a:xfrm>
          <a:prstGeom prst="rect">
            <a:avLst/>
          </a:prstGeom>
          <a:gradFill rotWithShape="0">
            <a:gsLst>
              <a:gs pos="0">
                <a:srgbClr val="6d9200"/>
              </a:gs>
              <a:gs pos="50000">
                <a:srgbClr val="99cc00"/>
              </a:gs>
              <a:gs pos="100000">
                <a:srgbClr val="6d9200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уристс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евед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кспеди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исков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евед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кспеди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Шко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евед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9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69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92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</a:rPr>
              <a:t>Внеурочная деятельность учащихся</a:t>
            </a:r>
            <a:r>
              <a:rPr b="0" lang="ru-RU" sz="3200" spc="-1" strike="noStrike">
                <a:solidFill>
                  <a:srgbClr val="000066"/>
                </a:solidFill>
                <a:latin typeface="Cambri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32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7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бъединяет все виды деятельности школьников (кроме учебной), в которых возможно и целесообразно решение задач их воспитания и соци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mbria"/>
              </a:rPr>
              <a:t>(Д.В. Григорьев, П.В. Степанов, Центр теории воспитания ИТИП РАО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ou"/>
          <p:cNvPicPr/>
          <p:nvPr/>
        </p:nvPicPr>
        <p:blipFill>
          <a:blip r:embed="rId9"/>
          <a:stretch/>
        </p:blipFill>
        <p:spPr>
          <a:xfrm>
            <a:off x="6372360" y="2060640"/>
            <a:ext cx="1873080" cy="28828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6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2"/>
          <p:cNvSpPr/>
          <p:nvPr/>
        </p:nvSpPr>
        <p:spPr>
          <a:xfrm>
            <a:off x="468360" y="98100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Выделение трех уровней результатов ВУД позво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95280" y="177336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азрабатывать образовательные программы ВУД с четким и внятным представлением о результа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одбирать такие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УД, которые гарантируют достижение результата определенного уров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ыстраивать логику перехода от результатов одного уровня к другом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агностировать результативность и эффективность В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оценивать качество программ ВУД (по тому, на достижение какого результата они претендуют, соответствует ли избранные формы предполагаемым результатам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75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2"/>
          <p:cNvSpPr/>
          <p:nvPr/>
        </p:nvSpPr>
        <p:spPr>
          <a:xfrm>
            <a:off x="468360" y="6922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428760" y="157176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95280" y="2276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1-2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2-3-го класса – образовательная программа, формирующая позитивное отношение к базовым цен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488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2"/>
          <p:cNvSpPr/>
          <p:nvPr/>
        </p:nvSpPr>
        <p:spPr>
          <a:xfrm>
            <a:off x="395280" y="765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428760" y="157176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28760" y="2133720"/>
            <a:ext cx="82296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комплексны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Arial Narrow"/>
              </a:rPr>
              <a:t>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тематически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Arial Narrow"/>
              </a:rPr>
              <a:t>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8">
            <a:hlinkClick r:id="rId9"/>
          </p:cNvPr>
          <p:cNvSpPr/>
          <p:nvPr/>
        </p:nvSpPr>
        <p:spPr>
          <a:xfrm>
            <a:off x="7596360" y="5445000"/>
            <a:ext cx="1042920" cy="898560"/>
          </a:xfrm>
          <a:custGeom>
            <a:avLst/>
            <a:gdLst>
              <a:gd name="textAreaLeft" fmla="*/ 57960 w 1042920"/>
              <a:gd name="textAreaRight" fmla="*/ 984960 w 1042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5069" h="21600">
                <a:moveTo>
                  <a:pt x="0" y="0"/>
                </a:moveTo>
                <a:lnTo>
                  <a:pt x="25069" y="0"/>
                </a:lnTo>
                <a:lnTo>
                  <a:pt x="25069" y="21600"/>
                </a:lnTo>
                <a:lnTo>
                  <a:pt x="0" y="21600"/>
                </a:lnTo>
                <a:close/>
              </a:path>
              <a:path fill="lightenLess" w="25069" h="21600">
                <a:moveTo>
                  <a:pt x="0" y="0"/>
                </a:moveTo>
                <a:lnTo>
                  <a:pt x="25069" y="0"/>
                </a:lnTo>
                <a:lnTo>
                  <a:pt x="23669" y="1400"/>
                </a:lnTo>
                <a:lnTo>
                  <a:pt x="1400" y="1400"/>
                </a:lnTo>
                <a:close/>
              </a:path>
              <a:path fill="darken" w="25069" h="21600">
                <a:moveTo>
                  <a:pt x="25069" y="0"/>
                </a:moveTo>
                <a:lnTo>
                  <a:pt x="25069" y="21600"/>
                </a:lnTo>
                <a:lnTo>
                  <a:pt x="23669" y="20200"/>
                </a:lnTo>
                <a:lnTo>
                  <a:pt x="23669" y="1400"/>
                </a:lnTo>
                <a:close/>
              </a:path>
              <a:path fill="darkenLess" w="25069" h="21600">
                <a:moveTo>
                  <a:pt x="25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9" y="20200"/>
                </a:lnTo>
                <a:close/>
              </a:path>
              <a:path fill="lighten" w="25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069" h="21600">
                <a:moveTo>
                  <a:pt x="7008" y="3985"/>
                </a:moveTo>
                <a:lnTo>
                  <a:pt x="14005" y="3985"/>
                </a:lnTo>
                <a:lnTo>
                  <a:pt x="18061" y="7484"/>
                </a:lnTo>
                <a:lnTo>
                  <a:pt x="18061" y="17615"/>
                </a:lnTo>
                <a:lnTo>
                  <a:pt x="7008" y="17615"/>
                </a:lnTo>
                <a:close/>
              </a:path>
              <a:path fill="darken" w="25069" h="21600">
                <a:moveTo>
                  <a:pt x="14005" y="3985"/>
                </a:moveTo>
                <a:lnTo>
                  <a:pt x="18061" y="7484"/>
                </a:lnTo>
                <a:lnTo>
                  <a:pt x="14005" y="748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502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"/>
          <p:cNvSpPr/>
          <p:nvPr/>
        </p:nvSpPr>
        <p:spPr>
          <a:xfrm>
            <a:off x="46836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mbria"/>
              </a:rPr>
              <a:t>Методический конструктор</a:t>
            </a:r>
            <a:r>
              <a:rPr b="0" lang="ru-RU" sz="44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513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3"/>
          <p:cNvSpPr/>
          <p:nvPr/>
        </p:nvSpPr>
        <p:spPr>
          <a:xfrm>
            <a:off x="395280" y="981000"/>
            <a:ext cx="83152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ервый элемент конструкто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9 видов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68360" y="2492280"/>
            <a:ext cx="82090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Второй элемент конструкто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воспитательные результаты внеуроч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395280" y="4221000"/>
            <a:ext cx="8424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Третий элемент конструкто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формы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2"/>
          <p:cNvSpPr/>
          <p:nvPr/>
        </p:nvSpPr>
        <p:spPr>
          <a:xfrm flipV="1">
            <a:off x="6804000" y="1267200"/>
            <a:ext cx="1428840" cy="863640"/>
          </a:xfrm>
          <a:custGeom>
            <a:avLst/>
            <a:gdLst>
              <a:gd name="textAreaLeft" fmla="*/ 0 w 1428840"/>
              <a:gd name="textAreaRight" fmla="*/ 1224720 w 1428840"/>
              <a:gd name="textAreaTop" fmla="*/ 57492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5420" y="0"/>
                </a:moveTo>
                <a:lnTo>
                  <a:pt x="9240" y="7200"/>
                </a:lnTo>
                <a:lnTo>
                  <a:pt x="12326" y="7200"/>
                </a:lnTo>
                <a:lnTo>
                  <a:pt x="12326" y="14381"/>
                </a:lnTo>
                <a:lnTo>
                  <a:pt x="0" y="14381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0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3"/>
          <p:cNvSpPr/>
          <p:nvPr/>
        </p:nvSpPr>
        <p:spPr>
          <a:xfrm flipV="1">
            <a:off x="6877080" y="3212280"/>
            <a:ext cx="1428840" cy="863640"/>
          </a:xfrm>
          <a:custGeom>
            <a:avLst/>
            <a:gdLst>
              <a:gd name="textAreaLeft" fmla="*/ 0 w 1428840"/>
              <a:gd name="textAreaRight" fmla="*/ 1224720 w 1428840"/>
              <a:gd name="textAreaTop" fmla="*/ 57492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5420" y="0"/>
                </a:moveTo>
                <a:lnTo>
                  <a:pt x="9240" y="7200"/>
                </a:lnTo>
                <a:lnTo>
                  <a:pt x="12326" y="7200"/>
                </a:lnTo>
                <a:lnTo>
                  <a:pt x="12326" y="14381"/>
                </a:lnTo>
                <a:lnTo>
                  <a:pt x="0" y="14381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0" y="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5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mbria"/>
              </a:rPr>
              <a:t>Внеурочная деятельн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Внеурочная деятельность в рамках ДО – </a:t>
            </a:r>
            <a:r>
              <a:rPr b="1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целенаправленный процесс воспитания, развития личности и обучения</a:t>
            </a:r>
            <a:r>
              <a:rPr b="0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 посредством реализации дополнительных образовательных программ, оказания дополнительных образовательных услуг и информационно-образовательной деятельности за пределами основных образовательных программ в интересах человека,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Основное предназначение ДО – </a:t>
            </a:r>
            <a:r>
              <a:rPr b="1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удовлетворение</a:t>
            </a:r>
            <a:r>
              <a:rPr b="0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 постоянно изменяющихся индивидуальных  социокультурных и образовательных </a:t>
            </a:r>
            <a:r>
              <a:rPr b="1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потребностей</a:t>
            </a:r>
            <a:r>
              <a:rPr b="0" i="1" lang="ru-RU" sz="2400" spc="-1" strike="noStrike">
                <a:solidFill>
                  <a:srgbClr val="000066"/>
                </a:solidFill>
                <a:latin typeface="Candara"/>
                <a:ea typeface="Tahoma"/>
              </a:rPr>
              <a:t>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0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риказ Минобрнауки РФ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от 26.11.2010 г. N 1241 г. Моск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3860640"/>
            <a:ext cx="51829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 Narrow"/>
              </a:rPr>
              <a:t>Опубликовано 16.02.2011 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 Narrow"/>
              </a:rPr>
              <a:t>Вступает в силу 27.02.2011 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 Narrow"/>
              </a:rPr>
              <a:t>Зарегистрирован в Минюсте РФ 4.02.2011 г. Регистрационный N 197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46836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mbria"/>
              </a:rPr>
              <a:t>"О внесении изменений в ФГОС НОО, утвержденный приказом Министерства образования и науки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mbria"/>
              </a:rPr>
              <a:t>от 6.10.2009 г. N 37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"/>
          <p:cNvPicPr/>
          <p:nvPr/>
        </p:nvPicPr>
        <p:blipFill>
          <a:blip r:embed="rId9"/>
          <a:stretch/>
        </p:blipFill>
        <p:spPr>
          <a:xfrm>
            <a:off x="6659640" y="3068640"/>
            <a:ext cx="1635120" cy="25210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0"/>
          <p:cNvGrpSpPr/>
          <p:nvPr/>
        </p:nvGrpSpPr>
        <p:grpSpPr>
          <a:xfrm>
            <a:off x="54000" y="25560"/>
            <a:ext cx="9153360" cy="6868800"/>
            <a:chOff x="54000" y="25560"/>
            <a:chExt cx="9153360" cy="6868800"/>
          </a:xfrm>
        </p:grpSpPr>
        <p:sp>
          <p:nvSpPr>
            <p:cNvPr id="108" name="Rectangle 3"/>
            <p:cNvSpPr/>
            <p:nvPr/>
          </p:nvSpPr>
          <p:spPr>
            <a:xfrm>
              <a:off x="54000" y="2556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8969400" y="2556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54000" y="665496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54000" y="2556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>
              <a:off x="54000" y="635004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 rot="10800000">
              <a:off x="8740800" y="2556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 rot="5400000">
              <a:off x="92160" y="-1260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"/>
            <p:cNvSpPr/>
            <p:nvPr/>
          </p:nvSpPr>
          <p:spPr>
            <a:xfrm rot="16056600">
              <a:off x="8702280" y="638784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511200" y="45180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0643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mbria"/>
              </a:rPr>
              <a:t>Приказ Минобрнауки РФ от 26.11.2010 г. N 12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539640" y="1413000"/>
            <a:ext cx="6624720" cy="475272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0"/>
          <a:stretch/>
        </p:blipFill>
        <p:spPr>
          <a:xfrm>
            <a:off x="7380360" y="1413000"/>
            <a:ext cx="130644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Rectangle 18"/>
          <p:cNvSpPr/>
          <p:nvPr/>
        </p:nvSpPr>
        <p:spPr>
          <a:xfrm>
            <a:off x="684360" y="1557360"/>
            <a:ext cx="63356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12760"/>
                <a:tab algn="l" pos="425520"/>
                <a:tab algn="l" pos="638280"/>
                <a:tab algn="l" pos="851040"/>
                <a:tab algn="l" pos="1063800"/>
                <a:tab algn="l" pos="1276200"/>
                <a:tab algn="l" pos="1488960"/>
                <a:tab algn="l" pos="1701720"/>
                <a:tab algn="l" pos="1914480"/>
                <a:tab algn="l" pos="2127240"/>
                <a:tab algn="l" pos="2340000"/>
                <a:tab algn="l" pos="255276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соответствии с п. 5.2.7 Положения о Минобрнауки РФ, утвержденного постановлением Правительства РФ от 15 мая 2010 г. N 337 (Собрание законодательства РФ, 2010, N 21, ст. 2603; N 26, ст. 335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12760"/>
                <a:tab algn="l" pos="425520"/>
                <a:tab algn="l" pos="638280"/>
                <a:tab algn="l" pos="851040"/>
                <a:tab algn="l" pos="1063800"/>
                <a:tab algn="l" pos="1276200"/>
                <a:tab algn="l" pos="1488960"/>
                <a:tab algn="l" pos="1701720"/>
                <a:tab algn="l" pos="1914480"/>
                <a:tab algn="l" pos="2127240"/>
                <a:tab algn="l" pos="2340000"/>
                <a:tab algn="l" pos="255276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унктом 7 Правил разработки и утверждения ФГОС, утвержденных постановлением Правительства РФ от 24 февраля 2009 г. N 142 (Собрание законодательства РФ, 2009, N 9, ст. 1110)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казыва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212760"/>
                <a:tab algn="l" pos="425520"/>
                <a:tab algn="l" pos="638280"/>
                <a:tab algn="l" pos="851040"/>
                <a:tab algn="l" pos="1063800"/>
                <a:tab algn="l" pos="1276200"/>
                <a:tab algn="l" pos="1488960"/>
                <a:tab algn="l" pos="1701720"/>
                <a:tab algn="l" pos="1914480"/>
                <a:tab algn="l" pos="2127240"/>
                <a:tab algn="l" pos="2340000"/>
                <a:tab algn="l" pos="255276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Arial Narrow"/>
              </a:rPr>
              <a:t>Утвердить прилагаемые изменения, которые вносятся в ФГОС НОО, утвержденный приказом Министерства образования и науки РФ от 6.10.2009 г. N 373 (зарегистрирован Министерством юстиции РФ 22.12.2009 г., регистрационный N 15785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12760"/>
                <a:tab algn="l" pos="425520"/>
                <a:tab algn="l" pos="638280"/>
                <a:tab algn="l" pos="851040"/>
                <a:tab algn="l" pos="1063800"/>
                <a:tab algn="l" pos="1276200"/>
                <a:tab algn="l" pos="1488960"/>
                <a:tab algn="l" pos="1701720"/>
                <a:tab algn="l" pos="1914480"/>
                <a:tab algn="l" pos="2127240"/>
                <a:tab algn="l" pos="2340000"/>
                <a:tab algn="l" pos="255276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12760"/>
                <a:tab algn="l" pos="425520"/>
                <a:tab algn="l" pos="638280"/>
                <a:tab algn="l" pos="851040"/>
                <a:tab algn="l" pos="1063800"/>
                <a:tab algn="l" pos="1276200"/>
                <a:tab algn="l" pos="1488960"/>
                <a:tab algn="l" pos="1701720"/>
                <a:tab algn="l" pos="1914480"/>
                <a:tab algn="l" pos="2127240"/>
                <a:tab algn="l" pos="2340000"/>
                <a:tab algn="l" pos="2552760"/>
                <a:tab algn="l" pos="2765520"/>
                <a:tab algn="l" pos="2978280"/>
                <a:tab algn="l" pos="3191040"/>
                <a:tab algn="l" pos="3403440"/>
                <a:tab algn="l" pos="3616200"/>
                <a:tab algn="l" pos="3828960"/>
                <a:tab algn="l" pos="4041720"/>
                <a:tab algn="l" pos="4254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нистр А. Фурс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22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изменения в  ФГОС</a:t>
            </a:r>
            <a:r>
              <a:rPr b="0" lang="ru-RU" sz="32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(п.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9"/>
          <a:stretch/>
        </p:blipFill>
        <p:spPr>
          <a:xfrm>
            <a:off x="6804000" y="1700280"/>
            <a:ext cx="1728720" cy="2663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3" name="AutoShape 19"/>
          <p:cNvSpPr/>
          <p:nvPr/>
        </p:nvSpPr>
        <p:spPr>
          <a:xfrm>
            <a:off x="539640" y="2133720"/>
            <a:ext cx="5977080" cy="33829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597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п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сновная образовательная программа начального общего образования реализуется ОУ </a:t>
            </a:r>
            <a:r>
              <a:rPr b="1" i="1" lang="ru-RU" sz="2800" spc="-1" strike="noStrike">
                <a:solidFill>
                  <a:srgbClr val="000066"/>
                </a:solidFill>
                <a:latin typeface="Cambria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mbria"/>
              </a:rPr>
              <a:t>учебный план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mbria"/>
              </a:rPr>
              <a:t>внеурочную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3012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ФГОС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п. 17 дополнить абзацами)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9"/>
          <a:stretch/>
        </p:blipFill>
        <p:spPr>
          <a:xfrm>
            <a:off x="7451640" y="907920"/>
            <a:ext cx="1262160" cy="19447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AutoShape 17"/>
          <p:cNvSpPr/>
          <p:nvPr/>
        </p:nvSpPr>
        <p:spPr>
          <a:xfrm>
            <a:off x="539640" y="1628640"/>
            <a:ext cx="6480360" cy="4392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265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«</a:t>
            </a: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Реализация ООП НОО осуществляется самим ОУ.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При отсутствии возможности для реализации внеурочной деятельности ОУ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 в рамках соответствующих государственных (муниципальных) заданий, формируемых учредителем, использует возможности образовательных учреждений и ОУ допобразования детей, организаций культуры и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53360" cy="6868800"/>
            <a:chOff x="0" y="0"/>
            <a:chExt cx="9153360" cy="6868800"/>
          </a:xfrm>
        </p:grpSpPr>
        <p:sp>
          <p:nvSpPr>
            <p:cNvPr id="150" name="Rectangle 3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8915400" y="0"/>
              <a:ext cx="228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5724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>
              <a:off x="0" y="6324480"/>
              <a:ext cx="457200" cy="5335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4d4d4d"/>
              </a:solidFill>
              <a:miter/>
            </a:ln>
            <a:effectLst>
              <a:outerShdw dist="107932" dir="189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rot="10800000">
              <a:off x="8686800" y="0"/>
              <a:ext cx="457200" cy="5335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81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 rot="5400000">
              <a:off x="38160" y="-38160"/>
              <a:ext cx="457200" cy="5335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 rot="16056600">
              <a:off x="8648280" y="6362280"/>
              <a:ext cx="457200" cy="5335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d4d4d"/>
              </a:solidFill>
              <a:miter/>
            </a:ln>
            <a:effectLst>
              <a:outerShdw dist="107932" dir="135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457200" y="426240"/>
              <a:ext cx="82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66"/>
                  </a:solidFill>
                  <a:latin typeface="Arial"/>
                </a:rPr>
                <a:t>методическое объединение учителей начальных классов (1 классы) № 4 от 31.03..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3012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mbria"/>
              </a:rPr>
              <a:t>ФГОС </a:t>
            </a:r>
            <a:r>
              <a:rPr b="0" lang="ru-RU" sz="2400" spc="-1" strike="noStrike">
                <a:solidFill>
                  <a:srgbClr val="000066"/>
                </a:solidFill>
                <a:latin typeface="Arial Narrow"/>
              </a:rPr>
              <a:t>(п. 17 дополнить абзацами)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9"/>
          <a:stretch/>
        </p:blipFill>
        <p:spPr>
          <a:xfrm>
            <a:off x="7308720" y="981000"/>
            <a:ext cx="1262160" cy="19447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AutoShape 18"/>
          <p:cNvSpPr/>
          <p:nvPr/>
        </p:nvSpPr>
        <p:spPr>
          <a:xfrm>
            <a:off x="539640" y="1773360"/>
            <a:ext cx="6480360" cy="3960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57240">
            <a:solidFill>
              <a:srgbClr val="808080"/>
            </a:solidFill>
            <a:miter/>
          </a:ln>
          <a:effectLst>
            <a:outerShdw dist="107932" dir="135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84360" y="1989000"/>
            <a:ext cx="61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В период каникул </a:t>
            </a:r>
            <a:r>
              <a:rPr b="1" lang="ru-RU" sz="2800" spc="-1" strike="noStrike">
                <a:solidFill>
                  <a:srgbClr val="000066"/>
                </a:solidFill>
                <a:latin typeface="Cambria"/>
              </a:rPr>
              <a:t>используются 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возможности организаций отдыха детей и их оздоровления, тематических лагерных смен, летних школ, создаваемых на базе ОУ и ОУ дополнительного образовани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1:54:12Z</dcterms:created>
  <dc:creator>User</dc:creator>
  <dc:description/>
  <dc:language>en-US</dc:language>
  <cp:lastModifiedBy>user</cp:lastModifiedBy>
  <dcterms:modified xsi:type="dcterms:W3CDTF">2018-02-25T06:55:01Z</dcterms:modified>
  <cp:revision>21</cp:revision>
  <dc:subject/>
  <dc:title>Слайд 1</dc:title>
</cp:coreProperties>
</file>