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4FB-6578-4FB1-8F97-CC1DFA41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92D-DC52-4C8B-8947-4DB183F9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A46-08C3-4151-B412-A6D5FCDB1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4C5-4480-4F8A-A8E3-237E53AC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62FE-BBF7-49A1-B888-5CADBBC0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939-3F2D-4D33-8FBC-D1DF4EB0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C829-469D-478B-8066-0431A0B3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1144-54B5-4663-9EF1-9819F3BC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7185-DFD3-4755-AF11-A88E84FF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DEE7-7C95-48ED-A74A-FD4C5966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77A2-2832-4A5D-ACEB-2A6E6594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624-5352-4FAF-8F1F-CBF767E9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9A5C-CCFD-412D-89F7-C76DAF01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B480-C9EB-4742-8814-38E3D4AB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E60F-AA0B-4616-9844-A2E3A0B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5D61-72A5-48D7-94F9-7C629ADA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AABB-CD6B-47BF-83FD-99FB43FC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550F-C0D4-43E1-8AC7-F6FD6A8F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552-75EE-4A17-B18A-0CDCC14F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BB3-7F81-4DEC-9B74-D85C1573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FC3-96B8-49A1-8CE0-FEB8909D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EC6-A28C-48AC-9CBD-64F93FB5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1A2-C094-48A6-B0A2-33F99A8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E251-785A-4B3D-80ED-BB9417EF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2E0D-46AD-4486-98CD-2E4EA2E1DA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2A2E-11E7-4D10-8174-7671B01537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1268280"/>
            <a:ext cx="683748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Сочинение-рассуждени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лгоритм написания сочинения-рассуждения (часть 2) при подготовке к ЕГЭ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1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0" y="1915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читайте, как вы обозначили проблем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форме вопроса, то позиция должна звучать как ответ на вопро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о формуле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проблема + существительное в родительном падеже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 это существительное должно прозвучать в обозначении авторской позиц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втором проблема может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ставл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лож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ссмотр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ыдвину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атрону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ня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формулир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сслед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анализиров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ше, которые помогут сформулировать проблем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 Над этим вопросом задумывается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а интересует вопрос: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? Над этой проблемой предлагает поразмышлять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0" y="144720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Что значит «прокомментировать» пробл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одумать о т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сколько актуа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, о чем пишет автор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у и в каких ситуациях приходится сталкиваться с подобной проблем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возможно, то можно коснуться «истории вопроса», т.е. коротко рассказать о том, как эту проблему рассматривали, пытались решить другие авторы, есть ли по этому вопросу иная точка зрения, не совпадающая с авторской. Необходимо изложить собственные мысли по данной проблеме с учетом авторских аспектов, так как комментарий должен объяснить авторский взгляд на поставленный вопр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ют определённые виды комментарие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контексту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концептуальны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69840" y="694080"/>
            <a:ext cx="9074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жде чем ответить на вопрос как комментировать необходимо подумать о т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акой категории относится избранная автором проблем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сколько она злободн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Что делает её злободнев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адиционна ли эта проблема или н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радиционна, то какие точки зрения есть по её повод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нова, то что стало причиной её появления, жизнеспособна ли она, объясни, что позволяет сделать такие вы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удалось автору привлечь внимание читателя к данной проблем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характеризует автора выбор данной проблемы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(настоящий гражданин своего Отечества, не безразличный наблюдатель, а человек активной жизненной позиции, интернационалист, глубокий знаток человеческой душ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0" y="389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чему важно уметь комментировать основную проблему текст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озволяет увидеть, что интересует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ируя проблему, вы показываете и своё восприятие того, что волнует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й позволит вам глубже посмотреть на поставленную пробле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ируя основную проблему можно воспользоваться этими речевыми оборотам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блема заставила мен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няться её глубоким изучени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С горечью понять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Иронично относиться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Отразить гармонию (дисгармонию) мира, человеческих отношений, связь поколений(или её отсутствие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Испытать потребность в чём – либ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77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облема может заставить читател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убоко задумать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уждать вместе с автором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учше понять себя и окружающи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 понять трагизм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ьёзно размышлять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итичнее относиться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-иному посмотреть на…     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елиться мыслями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Эта проблема актуальна, потому что каждый из нас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читав текст, я пришел к выводу (я понял, я пришел к заключению, я понял позицию автор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ибегая к эпитетам… автор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Читая текст, мы наблюда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Антитеза – главный прие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11253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комментарии не должно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а исходного текста или его ча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уждений по поводу всех проблем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ментариев о действиях героев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егать повторов слова «проблем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ть выражений «проблема о том, что…»,  «проблема того, что..»,  «проблема о мужестве и стойкости..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отметить, что в этой части сочинения также возможны как минимум два способа изложения материал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от частных фактов к формулировке проблем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от формулировки проблемы к комментар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63684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Определяем авторскую позицию (идея текст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 этом необходимо сказать о том, как автор решает заявленную проблему, как аргументирует свою позицию («за»), какова, в итоге, цель написания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роблема текста – это вопрос, то позиция автора – это ответ на вопрос, как автор на него отвечает. Формулируя проблему в виде вопроса, вы должны знать, как автор на него отвечает. От вас не требуется сформулировать позицию автора вообще, а показать его мнение по выделенной и прокомментированной вами пробле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ская позиция в публицистическом стиле, скорее всего, будет обозначена прямо, и ее легко можно обнаружить. Лучше не цитировать целиком предложение, в котором отражена авторская позиция, а процитировать частично или пересказать (чтобы не снизили бал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екст художественный, то авторская позиция может быть  прямо не заявлена. Здесь важно обратить внимание, как она заявлена: прямо или косвенно; использование средств выразительности; призывность; оценочность; доступность; простота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"/>
          <p:cNvSpPr/>
          <p:nvPr/>
        </p:nvSpPr>
        <p:spPr>
          <a:xfrm>
            <a:off x="0" y="174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мож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вящать свою стать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ть заявленную пробл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онально воздействовать на читател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лать читателя своим союзник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но воссоздавать картину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делять ключевые проблемы(мысли, слова, мотив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но представлять суть проблемы, которая его волну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вать положительное или отрицательное отношение к чему-либ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глубину проблем (чувств, идеи, раздумий, обобщений, размышлени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рывать сущность поставленных проблее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о формулировать (выражать)мыс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26028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читателя задуматься над проблемой (темой, идее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ать злободневность рассматриваемой им проблемы (тем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положительное или отрицательное отношение к поднятой пробл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таться найти причины негативных (позитивных) явл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чёркивать остроту поставленной пробл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ть глубину и актуальность пробл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аться к традициям русской жизни, литературы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ражать мнение большин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таться понять, поч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овать ряд убедительных аргумен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буждать искать истин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аться объяснить, поче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нять в статье проблему, которая кажется наиболее актуальн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сделать переоценку отношений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ить ряд нравственных вопросов, требующих незамедлительного отв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мочь нам увидеть традиционную тему по– новом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ать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очнять некоторые момен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сать интересно и ново о старых проблем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вить перед нами цель – найти решение сложных жизненных вопрос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вести в качестве примера цита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ь строгим судьёй негативным явлениям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50920" y="187560"/>
            <a:ext cx="8351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оритм написа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чинения-рассу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ы, над которыми размышляет авто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нтар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вление позиции авто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ственное мнение (согласие или несогласие с позицией автора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арг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ой аргумен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(заключение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мереваться найти ответы на сложные жизненные вопро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ставить нас самим решать сложные жизненные вопросы (делать нравственный выбор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глашать к разговору о непростых проблемах нашей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бедительно доказывать, используя конкретные приме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ь новую жизнь старой тем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ть положительное или отрицательное читательское отношение к поднятым проблем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черкнуть истинное положение вещ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ронически (саркастически, возмущённо, восхищённо и т.д.) повествовать о событиях и героя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зывать образец поведения, отношения к жиз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ворить с тревогой о наболевших проблемах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11253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 заявить о своёй гражданской позиции по отношению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ывать нас к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ять истинную картину происходяще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стремится реализовать цел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делиться с вами своими размышлениями, передать вам свою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заинтересованность данной темой, проблем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Эмоционально воздействовать на ва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Найти в вас единомышленни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140040"/>
            <a:ext cx="91440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9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е образцы для комментирования авторской позици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обр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восхищает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ажается ..., удивляет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приглашает вместе с ним полюбоваться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нтересом наблюдает за те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ясь (чем-то), создает словесную картину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добрый друг и мудрый советчик, автор беседует с нами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йтральная позиция (констатация факто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размышляет о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овно приглашает читателя к диалогу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лится своими мыслями, наблюдениями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вит перед читателями важную, злободневную проблему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ытается объяснить сложные философские понятия (сложные жизненные понятия) и т.п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ицание, осужд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с болью в сердце пишет о том, что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ечью говорит о… у автора вызывает негодование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не может мириться с те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горькой иронией пишет о том ...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е эмоциональное, взволнованное рассуждение автор заканчивает не менее тревожным выводом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27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иш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счит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 утвержд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убеждён, что…, и подобная уверенность имеет свои основ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у важно убедить читателя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Бесспорно мнение автора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Автор подводит читателя к мысли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втор стремиться донести до читателя мысль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шая проблему, автор приходит к выводу: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… –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 этих словах, по – моему, отражена основная проблема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… –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это высказывание точно отражает мысль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зиция автора очевидна: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… – </a:t>
            </a: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такова позиция авто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… –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вот идея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Автор убеждает читателя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6228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Выражение собственного отношения к данной проблем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ывая, приводим 2 аргумента, обращаясь к примерам из читательского или жизненного  опыта. Собственное мнение должно быть высказано корректно. Ваши аргументы не должны повторять то, что прозвучало в исходном текст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опайтесь в памяти, вспомните, что читали об этом, какие литературные  ассоциации у вас вызывает. Очень важно, чтобы ваши аргументы подтверждали, доказывали вашу точку зрения, а не были просто иллюстрацией на ту же тему. Поэтому при каждом аргументе формулируйте, что вы доказываете приведенным пример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 доказать, почему вы так думаете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Я (не) согласен с автором, потому что …, и счита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рудно не согласиться с позицией автора, ведь действительн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Вряд ли можно усомниться в авторской правот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0" y="622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идет строгое сочинение-рассужд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зи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ац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аргумент начинать с нового абзац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ить примеры, ссылаясь на  примеры из художественной литературы, авторитетных людей или из своей жизни и жизни окружающи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льзя не согласить с автором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С автором можно поспорить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прав в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Однако его мысль о … вызывает сомн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 автором трудно (не) согласи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Позиция автора близка (понятна ) мн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Я (не) разделяю точку зрения автор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Я разделяю негодование (неприятие, восторг) автора и дума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Мне приходит на ум история, услышанная (прочитанная, которая произошла со мной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Arial"/>
              </a:rPr>
              <a:t>Мое мнение подтверждает  и такой факт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40680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аблоны: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довольствием прочитал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льзя остаться равнодушны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сожалени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ует отметить, что бесспорность авторской позици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вызывает сомнений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убедительно доказыв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, по – моему, не совсем прав, утверждая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а зрения автора, конечно, интересна, но я считаю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мой взгляд, автор несколько категоричен в своих суждения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1197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читаю, что не совсем справедливо автор говорит о том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 справедливо отмечает,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ие оценки справедливы и точны. Действительно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позиция по данному вопросу совпадает с моей точкой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первых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-вторых,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им образом,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0" y="25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быть точ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ы быть развёрнутыми и убедительны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гу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должны доказывать вашу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 можно ввести аргументы в изложение собственной позици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словосочета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мся к (факту, воспоминаниям кого – либо, научным данным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чно привести такой пример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можно доказать следующим образом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верждением сказанному может служит следующий факт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у ещё один пример, доказывающий мою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легко убедиться, обратившись 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вводных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…  Допусти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видетельству кого-либо,… Предположим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-первых, …, во-вторых, … и т.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мощью союзов и придаточной част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у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того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тому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язи с тем чт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6922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Речевые образцы для выражения собственного мнения о прочитанн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лючевые фразы к тексту на актуальную, злободневную тем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е раз задумывался о том, что… и поэтому тема текста близка и понятна м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и раньше я много думал о ..., интересной и неожиданной мне показалась мысль автора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 текста близка и понятна мне, потому что я и сам не раз испытывал подобные чувства (оказывался в такой ситуаци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...не может не волновать моих современников. Известный публицист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ей статье говорит о ... Ключевые фразы к научно-популярному текст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роках ...я изучал в разделе ..., поэтому проблема, о которой говорит автор текста, знакома мне (понятна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сложных научных понятиях автор говорит доступно, используя общенаучные термины (примеры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177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текс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начинаем с выявления темы (о чем текст). Для этого выделяем ключевые слова ( слова, относящиеся к одной теме, синонимичные слова и выражения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… – 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вот тема, к которой обращается автор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Этот текст (статья) о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обращается к актуальной теме – теме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Этот текст о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Автор посвящает стать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Что мы подразумеваем, произнося это слов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Каждый человек, наверное, хоть раз в жизни попадает в ситуацию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- В тексте говорится (повествуется, описывается, автор размышляет, рассуждает и т.п.)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192240"/>
            <a:ext cx="9144000" cy="62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96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делать свою точку зрения более доказательной, автор цитирует (ссылается на мнение) таких известных ..., как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кст сначала и показался мне сложным, но, прочитав его во второй раз, я понял, чт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наться, я никогда раньше не читал о ..., так что текст ...заинтересовал меня, я узнал много нового 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лючевые фразы к тексту на тему, далекую от интересов ученик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итав текст (автора), я поймал себя на мысли, что никогда раньше не задумывался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и неожиданной мне показалась мысль автора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небогатый жизненный опыт не позволяет мне выразить четкую позицию по данному вопросу. Но, прочитав текст, я задумался о том, что ... (я узнал, что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 никогда раньше не задумывался над этой проблемой, и, боюсь, моя позиция покажется расплывчатой. Поэтому я вынужден согласиться с автором, которому удалось доступно рассказать о 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5515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ы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за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ы быть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авдивыми, опираться на авторитетные источник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оступными, простыми, понятным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отражающими объективную реальность, соответствующими здравому смысл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гументы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«против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лжны убедить в том, что аргументация автора ошибоч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в случае несогласия с автором опровергающая аргументация потребует от вас определенного такта и подчеркнутой корректности. Рассмотрим возможные для этого случая обороты ре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Я не вполне согласен с позицией автора и считаю, что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Уважая автора текста, позволю себе не согласиться с его точкой зрения на данную проблему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омните важное правило аргументации: аргументы надо приводить в системе — по силе возрастания.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едовательно, конечный аргумент должен быть самым сильны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47844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аканчивать сочин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3 предложениями, дублирующими вступлен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чевые образцы для окончания сочинения по данному текст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чить сочинение надо фразой, которая подводит итог всему сказанному и логически связывает творческую работу ученика с прочитанным текст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читанный текст В. Астафьева помог мне утвердиться во мнении, что дружба в сочетании с любовью и заботой близких формирует личность человека. Кроме того, автор «заразил» меня своим оптимизмом: мне тоже хочется верить, что добрых людей в жизни больше, чем злы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buClr>
                <a:srgbClr val="00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2) Прочитав статью, я понял, как хрупок этот музейный мир, недолговечны его «экспонаты», которые часто подвергаются «потребительскому» отношению. Так давайте вместе позаботимся о том, чтобы эти вековые ценности сохранили свою значимость и для будущих покол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3) Статья С. Соловейчика задела меня за живое, побудила задуматься о том, что я благодарна своим родителям за мое воспитание: они привили мне веру в лучшее, и я надеюсь, что эта «функция души» поможет мне в жизн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9890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Не забывайте каждую часть начинать с новой стро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думывайте логику перехода от одного абзаца к другом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. Панова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обращается к актуальной теме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еме дружб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ужба…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Что мы подразумеваем, произнося это слово?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ёплые, сердечные отношения, духовную связь, общность интересов, симпатию. Дружба многолетняя, крепкая, нежная. Друг детства – почти брат. Ему доверяют, в доме он свой, близкий. Даже собаку мы называем друг человека и даём ей кличку Дружок. О дружбе пишут стихи, поют песни. Но со временем начинаем осознавать, что не всегда правильно мы понимали это слово, бравировали им. Так что же такое дружба?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Над этой проблемой задумывается автор текста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анова раскрывает эту проблему на примере своего жизненного опыта.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Она с горечью отмечает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неотложные дела не позволяли ей  быть с друзьями рядом, когда им это требовалось. Болезни, неудачи, переживания выпали на их долю в текущем году. А где была она, старый, надёжный друг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Риторические вопросы и восклицания, синтаксический параллелизм позволяют автору вовлечь читателя в обсуждение этого серьёзного вопроса. Она не оправдывает и не щадит себя, что позволяет понять не только важность, но и трагизм происходящег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Автор убеждена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ружба – это «неотложная, государственная и мировая работа». Никакие отговорки о занятости, важности выполняемой нами  работы не должны даже приходить в голову, если речь идёт о дружбе. Иначе ты не друг, а холодный, толстокожий обыватель. « Пусть у вас будет время!» - с жаром восклицает писательница, 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желая найти в нас единомышленни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447840" y="49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0" y="189000"/>
            <a:ext cx="9016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Я разделяю неприятие автором такого отношения</a:t>
            </a:r>
            <a:r>
              <a:rPr b="0" i="1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друзьям, дружбе и думаю, что каждый из нас мог бы «похвастаться» своей сердечностью, внимательностью к неудачам наших друзе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.С. Пушкин, как отмечают почти все его биографы, был счастлив в друзьях. Но почему же он остался один на один со своими бедами, почему никто не проявил участия, не понял трагедии поэта. И это привело Пушкина к гибели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лизкие друзья в Петербурге не сумели ничего предотвратить – они любили Пушкина, но, наверное, надо было ещё сильнее любить, чтобы не допустить его смерти, чем-то поступиться в жизни, проявить заботу, а не осуждать. «Знакомых тьма, - а друга нет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ром настоящей дружбы можно считать отношения Дэна и майора Глухарёва в фильме режиссёра В. Виноградова  «Глухарь». Они пронесли свою дружбу через все испытания, искушения, беды и радости. И на слова Насти, что Глухарёв не его семья, Дэн отвечает: «Ты ошибаешься, вот он и есть моя семья», вкладывая в эту фразу высокое понимание дружбы, духовного еди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рочитанный текст В. Пановой помог мне утвердиться во мнении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ружба – это, в первую очередь, забота о близких тебе людях, умение находить время для помощи делом или словом, а не произносить пустые слова о том, что дружба – это чудесное слово, освещающее нашу жизнь. Будьте внимательны к друзьям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емлетрясения… Тайфуны… Грады… Ливни.. Природные катаклизмы, обрушиваясь на Землю, приносят разрушение и смерть. Влияет ли человек на агрессивное поведение планеты своими необдуманными (безрассудными) социальными катастрофами?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Подобная проблема давно волнует умы человечества. Задумался над ней 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Г. Смирн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Автор размышляет над тем, нет л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прямой связи в поведении людей на вспышки противоречий в жизни общества, ссылаясь на конкретные примеры событий 2001 года. Действительно, можно увидеть прямую связь между локальными войнами на Балканах, на Кавказе и в Азии с бесконечным буйством природных стихий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Широко используя олицетворения (8, 9, 12, 13), автор стремится показать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человек и природа – единый организм, который взаимодействует на физическом уровн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Смирнов убеждён, что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существование зависимости Земли от человека возможно, но прежде всего природные несчастья – это результат деятельности человека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Текст очень эмоционален, что указывает на беспокойство и небезучастную позицию автор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Добрая, ласковая Земля противопоставлена жестокому и безжалостному человеку. 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Смирнов ссылается в своей статье на мнени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учёного Вернадского, который предложил гипотезу ноосферы и прямо указал, что именно человек вызывает дисбаланс в энергетическом поле планет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Я частично разделяю точку зрения автора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ир многогранен и сложен. Мы до сих пор не изучили процессы, протекающие на Земле, не можем предсказывать землетрясения, предвидеть, заранее предупредить о надвигающемся цун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но ли связать кровавые события в Сирии, Ливии, Египте со страшной катастрофой в Японии, наводнениями в Европе, Таиланде, с разрушительными землетрясениями в Турции. Древние люди объясняли подобные явления очень просто – гневом Богов. Мы тоже склонны видеть во всех обрушившихся на нас  несчастьях, в первую очередь, гнев Бож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этесса М. Пушкина пишет, что «наш ум – генератор зла, чёрным дням и войнам нет числа». Она напрямую связывает творимое человеком зло с тем, что «в морях кипит смертельный яд, а вместо снега и дождя – кислота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a50021"/>
                </a:solidFill>
                <a:latin typeface="Verdana"/>
              </a:rPr>
              <a:t>К сожалению, нужно признать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человек виновен в том, что происходит с нашей планетой. И если действительно есть ноосфера Вернадского, созданная интеллектом и трудом человека, то есть и силы, которые на неё влияют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0" y="98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наете что-либо об авторе, можно написать 2-3 пред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написать о позитивном впечатлении, которое произвел на вас текс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обрисовать типичную картину (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асто бывает так, что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ть сочинение можно конструкцией “именительный темы”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е эмоциональное начало особенно подходит для сочинений по текстам, в которых авторы обращаются к “вечным” темам. Вот пример подобного начала сочин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Любовь… О ней написаны тысячи книг и сняты сотни фильмов, о ней говорят и неискушенные подростки, и умудренные опытом люди… Наверное, эта тема интересует каждого из нас, поэтому текст N. тоже посвящен любви. 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чале сочинения можно рассказать о своих чувствах, мыслях, ассоциациях, которые вызвало первое прочтение текс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ше, которые помогут начать сочинен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Когда читаешь этот текст, представляешь себе (думаешь, чувствуешь, испытываешь, понимаешь и т. д. )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аверное, каждый из нас когда-то (задумывался, размышлял, наблюдал, чувствовал)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Прочитав текст, я снова (представил, вспомнил, подумал и т. д.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0" y="550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Что такое проблем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— это сложный теоретический или практический вопрос, требующий решения, исследования. Её  можно определить как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лож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руд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ж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ерьез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лубок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но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ла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ктуальн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злободнев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стр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зревш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философскую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олитическ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националь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ологическ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ьную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ждународну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 имеет свой объект, например,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ы вой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ми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эконом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полит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идеологи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, воспит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образ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36432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текстов, предлагаемых для анализа выпускникам ЕГЭ по русскому язы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и обществ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эк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 семь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ысл человеческой жизн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едназначение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ь поколений, проблема отцов и дет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дьба Родины, её прошлое, настоящее и будуще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хранения родного язы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хранения исторических корн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ь искусств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ратуры в жизни челове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6303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зможные проблем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памяти о своих истоках, о своём детстве (почему, повзрослев, человек ощущает связь с домом своего детства, с миром своего детств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е роли детства в жизни человека (почему детство – важнейший этап жизни человек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исторической памяти (зачем человеку хранить память о прошлом? Что значит любить свою семью и свою Родину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е отчего дома (почему нельзя забывать отчий дом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оценки такого периода жизни человека, как детство (действительно ли детство – «золотой» период жизни человека? Какова роль детства в становлении личности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83664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нравственной прочности  человека (почему именно в обыденных житейских ситуациях зачастую проявляется нравственная сущность человек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развития и сохранения русского языка (обогащается или портится русский язык благодаря заимствованиям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влияния человека на природу (какова степень влияния человека на природу и в чём заключаются возможные последствия этого влияния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восприятия человеком природы как живой материи (должен ли человек воспринимать природу как нечто живое, заботиться о ней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765000"/>
            <a:ext cx="9144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несправедливости социального устройства общества (естественно ли деление людей на богатых и нищих, правильно ли устроено общество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а отчуждённости мира богатых и сытых от мира бедных и голодных (думают ли сытые и богатые о тех, кто  не может позволить себе есть досыта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внутреннего противостояния искушению изобилием (могут ли дети из бедной семьи противостоять искушению изобилию и не озлобиться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е выбора профессии с учётом личных и общественных интересов (могут ли при выборе профессии совпадать личные и общественные интересы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Arial"/>
              </a:rPr>
              <a:t>Проблема ответственности человека перед самим собой и обществом (может ли человек быть свободным от общества, от других людей?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облеме коммерциализации культур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3:18:05Z</dcterms:created>
  <dc:creator>Ilya</dc:creator>
  <dc:description/>
  <dc:language>en-US</dc:language>
  <cp:lastModifiedBy>школа</cp:lastModifiedBy>
  <dcterms:modified xsi:type="dcterms:W3CDTF">2015-04-09T04:01:35Z</dcterms:modified>
  <cp:revision>17</cp:revision>
  <dc:subject/>
  <dc:title>Слайд 1</dc:title>
</cp:coreProperties>
</file>