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8.gif" ContentType="image/gif"/>
  <Override PartName="/ppt/media/image1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638-BCF3-443F-8B5C-2F903D0A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87B-C873-4DC1-BBCB-3ABA0491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C61-E0E0-4712-9F39-86F1F46B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673-8BCC-4715-9AB9-B9EA4C58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072-3B61-47CF-A437-A06A16C8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C6D-223A-4475-B84F-AFCA0A60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FFCA-41D8-4B42-AD7B-89FE2CD5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EBFC-3AFA-448C-B116-CD3EBE66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FA7-CAB0-433E-A3DF-C5A0B83C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8E2-EA13-444B-9D78-29FE9AD9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A584-82D0-4F79-B510-1DEBFDA8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C40-C001-449E-9942-3CC30025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6AA0-8CB5-4552-80BE-4D9274DE5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900igr.net/" TargetMode="External"/><Relationship Id="rId4" Type="http://schemas.openxmlformats.org/officeDocument/2006/relationships/hyperlink" Target="http://900igr.net/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1571760" y="2571840"/>
            <a:ext cx="62150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Влияни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компьютера на ребёнка: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за и против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AutoShape 9"/>
          <p:cNvSpPr/>
          <p:nvPr/>
        </p:nvSpPr>
        <p:spPr>
          <a:xfrm>
            <a:off x="250920" y="333360"/>
            <a:ext cx="2392200" cy="1871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0"/>
          <p:cNvSpPr/>
          <p:nvPr/>
        </p:nvSpPr>
        <p:spPr>
          <a:xfrm>
            <a:off x="6643800" y="285840"/>
            <a:ext cx="1944720" cy="18000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>
            <a:hlinkClick r:id="rId3"/>
          </p:cNvPr>
          <p:cNvSpPr/>
          <p:nvPr/>
        </p:nvSpPr>
        <p:spPr>
          <a:xfrm>
            <a:off x="3500280" y="6000840"/>
            <a:ext cx="1571760" cy="642960"/>
          </a:xfrm>
          <a:prstGeom prst="roundRect">
            <a:avLst>
              <a:gd name="adj" fmla="val 40486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</a:rPr>
              <a:t>г. Когал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3333cc"/>
                </a:solidFill>
                <a:uFillTx/>
                <a:latin typeface="Arial"/>
              </a:rPr>
              <a:t>2011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8">
            <a:hlinkClick r:id="rId4"/>
          </p:cNvPr>
          <p:cNvSpPr/>
          <p:nvPr/>
        </p:nvSpPr>
        <p:spPr>
          <a:xfrm>
            <a:off x="5572080" y="5438880"/>
            <a:ext cx="3510000" cy="928440"/>
          </a:xfrm>
          <a:prstGeom prst="roundRect">
            <a:avLst>
              <a:gd name="adj" fmla="val 40486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</a:rPr>
              <a:t>Подготовила: педагог дополнительного образования  МБОУ ДОД «ДДТ» Папуша И.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finance.rol.ru/files_jpg/1_1(58888).jpg"/>
          <p:cNvPicPr/>
          <p:nvPr/>
        </p:nvPicPr>
        <p:blipFill>
          <a:blip r:embed="rId5"/>
          <a:stretch/>
        </p:blipFill>
        <p:spPr>
          <a:xfrm>
            <a:off x="3500280" y="142920"/>
            <a:ext cx="2314800" cy="1977840"/>
          </a:xfrm>
          <a:prstGeom prst="rect">
            <a:avLst/>
          </a:prstGeom>
          <a:ln w="0">
            <a:noFill/>
          </a:ln>
        </p:spPr>
      </p:pic>
      <p:pic>
        <p:nvPicPr>
          <p:cNvPr id="47" name="i-main-pic" descr="Картинка 20 из 32161"/>
          <p:cNvPicPr/>
          <p:nvPr/>
        </p:nvPicPr>
        <p:blipFill>
          <a:blip r:embed="rId6"/>
          <a:stretch/>
        </p:blipFill>
        <p:spPr>
          <a:xfrm>
            <a:off x="357120" y="4429080"/>
            <a:ext cx="26193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3"/>
          <p:cNvSpPr/>
          <p:nvPr/>
        </p:nvSpPr>
        <p:spPr>
          <a:xfrm>
            <a:off x="250920" y="189000"/>
            <a:ext cx="8607240" cy="11682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доровьесберегающие 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 работе  с  компьютер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14200" y="1428840"/>
            <a:ext cx="84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мнастика для ру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1" descr="1"/>
          <p:cNvPicPr/>
          <p:nvPr/>
        </p:nvPicPr>
        <p:blipFill>
          <a:blip r:embed="rId1"/>
          <a:stretch/>
        </p:blipFill>
        <p:spPr>
          <a:xfrm>
            <a:off x="4857840" y="2071800"/>
            <a:ext cx="1477800" cy="15127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88" name="Picture 22" descr="2"/>
          <p:cNvPicPr/>
          <p:nvPr/>
        </p:nvPicPr>
        <p:blipFill>
          <a:blip r:embed="rId2"/>
          <a:stretch/>
        </p:blipFill>
        <p:spPr>
          <a:xfrm>
            <a:off x="7072200" y="2071800"/>
            <a:ext cx="1427400" cy="15127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89" name="Picture 23" descr="3"/>
          <p:cNvPicPr/>
          <p:nvPr/>
        </p:nvPicPr>
        <p:blipFill>
          <a:blip r:embed="rId3"/>
          <a:stretch/>
        </p:blipFill>
        <p:spPr>
          <a:xfrm>
            <a:off x="4500720" y="4000680"/>
            <a:ext cx="1736640" cy="18000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90" name="Picture 24" descr="4"/>
          <p:cNvPicPr/>
          <p:nvPr/>
        </p:nvPicPr>
        <p:blipFill>
          <a:blip r:embed="rId4"/>
          <a:stretch/>
        </p:blipFill>
        <p:spPr>
          <a:xfrm>
            <a:off x="6429240" y="4000680"/>
            <a:ext cx="2536920" cy="17935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91" name="Прямоугольник 13"/>
          <p:cNvSpPr/>
          <p:nvPr/>
        </p:nvSpPr>
        <p:spPr>
          <a:xfrm>
            <a:off x="4857840" y="1428840"/>
            <a:ext cx="44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мнастика для гла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одержимое 1"/>
          <p:cNvSpPr/>
          <p:nvPr/>
        </p:nvSpPr>
        <p:spPr>
          <a:xfrm>
            <a:off x="285840" y="2000160"/>
            <a:ext cx="342900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яхните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жимайте пальцы в кулаки (10 р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ащайте кулаки  вокруг своей о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авливая одной рукой на пальцы другой руки со стороны ладони, как бы выворачивая ладонь и запястье наруж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1640" y="1500120"/>
            <a:ext cx="4357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филактика заболеваний позвоноч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оянно следить за своей осанкой, оптимально организовать своё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возможности заниматься спортом, делать заряд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можно чаще прерывать нахождение в одной позе, вставать из-за стола,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1"/>
          <p:cNvSpPr/>
          <p:nvPr/>
        </p:nvSpPr>
        <p:spPr>
          <a:xfrm>
            <a:off x="571680" y="3571920"/>
            <a:ext cx="314316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428760" y="285840"/>
            <a:ext cx="8258040" cy="115416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доровьесберегающие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работе с компьютер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Заболевания позвоночника"/>
          <p:cNvPicPr/>
          <p:nvPr/>
        </p:nvPicPr>
        <p:blipFill>
          <a:blip r:embed="rId1"/>
          <a:stretch/>
        </p:blipFill>
        <p:spPr>
          <a:xfrm>
            <a:off x="214200" y="1714680"/>
            <a:ext cx="2543400" cy="2543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3"/>
          <p:cNvPicPr/>
          <p:nvPr/>
        </p:nvPicPr>
        <p:blipFill>
          <a:blip r:embed="rId2"/>
          <a:stretch/>
        </p:blipFill>
        <p:spPr>
          <a:xfrm>
            <a:off x="1428840" y="4500720"/>
            <a:ext cx="2874960" cy="21621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42920" y="142920"/>
            <a:ext cx="8640720" cy="1008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авильная посадка за компьюте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-198900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C:\Documents and Settings\Admin\Рабочий стол\для презентации про компьютер\11384_b.jpg"/>
          <p:cNvPicPr/>
          <p:nvPr/>
        </p:nvPicPr>
        <p:blipFill>
          <a:blip r:embed="rId1"/>
          <a:stretch/>
        </p:blipFill>
        <p:spPr>
          <a:xfrm>
            <a:off x="285840" y="1428840"/>
            <a:ext cx="4667040" cy="350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"/>
          <p:cNvPicPr/>
          <p:nvPr/>
        </p:nvPicPr>
        <p:blipFill>
          <a:blip r:embed="rId2"/>
          <a:stretch/>
        </p:blipFill>
        <p:spPr>
          <a:xfrm>
            <a:off x="4336920" y="3214800"/>
            <a:ext cx="4807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0" y="0"/>
            <a:ext cx="8640720" cy="1008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филактика в комна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-198900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68360" y="21632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66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2286000" y="1305000"/>
            <a:ext cx="428616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можно чаще делайте влажную уборку помещения и проветривайте 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увеличения влажности можно ставить открытую емкость с водой, например аквариум, увлажнитель возд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 покупки компьютера, желательно включить и оставить его на несколько часов в проветриваемом помещении, так как новый пластик , из которого сделан корпус компьютера при нагревании выделяет очень большое количество вредных веще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C:\Documents and Settings\Admin\Рабочий стол\для презентации про компьютер\1274034854_93670610_1-----1274034854.jpg"/>
          <p:cNvPicPr/>
          <p:nvPr/>
        </p:nvPicPr>
        <p:blipFill>
          <a:blip r:embed="rId1"/>
          <a:stretch/>
        </p:blipFill>
        <p:spPr>
          <a:xfrm>
            <a:off x="6572160" y="42861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C:\Documents and Settings\Admin\Рабочий стол\для презентации про компьютер\1312864868_11.jpg1111.jpg"/>
          <p:cNvPicPr/>
          <p:nvPr/>
        </p:nvPicPr>
        <p:blipFill>
          <a:blip r:embed="rId2"/>
          <a:stretch/>
        </p:blipFill>
        <p:spPr>
          <a:xfrm>
            <a:off x="6786720" y="1285920"/>
            <a:ext cx="2047680" cy="2643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C:\Documents and Settings\Admin\Рабочий стол\для презентации про компьютер\i.jpeg555.jpeg"/>
          <p:cNvPicPr/>
          <p:nvPr/>
        </p:nvPicPr>
        <p:blipFill>
          <a:blip r:embed="rId3"/>
          <a:stretch/>
        </p:blipFill>
        <p:spPr>
          <a:xfrm>
            <a:off x="142920" y="4143240"/>
            <a:ext cx="1911240" cy="2538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C:\Documents and Settings\Admin\Рабочий стол\для презентации про компьютер\kompyuterny-stol-40.jpg"/>
          <p:cNvPicPr/>
          <p:nvPr/>
        </p:nvPicPr>
        <p:blipFill>
          <a:blip r:embed="rId4"/>
          <a:srcRect l="0" t="0" r="6798" b="0"/>
          <a:stretch/>
        </p:blipFill>
        <p:spPr>
          <a:xfrm>
            <a:off x="0" y="1143000"/>
            <a:ext cx="22860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142920" y="189000"/>
            <a:ext cx="8858160" cy="1008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ехники безопасности за компьют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-198900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4"/>
          <p:cNvSpPr/>
          <p:nvPr/>
        </p:nvSpPr>
        <p:spPr>
          <a:xfrm>
            <a:off x="397080" y="29257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3571920" y="1365480"/>
            <a:ext cx="5357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размещать на рабочем столе рядом с компьют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оронние предме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включать и не выключать компьютер без разрешения взросл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трогать провода и разъёмы соединительных ткан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льзя прикасаться к экрану монит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ть на клавиатуре чистыми сухими ру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бегать резких движений за компьютер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льзя самостоятельно устранять неполадки в работе компьютера, нужно немедленно обратиться к взросл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0" descr="C:\Documents and Settings\Admin\Рабочий стол\для презентации про компьютер\3_1.jpg"/>
          <p:cNvPicPr/>
          <p:nvPr/>
        </p:nvPicPr>
        <p:blipFill>
          <a:blip r:embed="rId1"/>
          <a:stretch/>
        </p:blipFill>
        <p:spPr>
          <a:xfrm>
            <a:off x="214200" y="2643120"/>
            <a:ext cx="29466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рослым  необходимо направить свои силы не на борьбу с компьютером, а на воспитание у ребенка правильного отношения к компьютеру, т.е. на воспитание  информационной культуры и прививать её нашим дет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о, чтобы в его жизни компьютер занял достойное место, наряду с общением с друзьями, с умными, понимающими взрослыми, книгами, музыкой, живописью, телевидением  и 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ая все нормы и правила работы за компьютером, родители помогут ребёнку оставаться здоров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214200" y="357120"/>
            <a:ext cx="8640720" cy="1008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250920" y="189000"/>
            <a:ext cx="8640720" cy="1008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-198900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68360" y="13820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П.Александрова. Медицинская энциклопе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лич Г.Л., Назарова Л.В./ Основы валеологии / С.-Петербург  МСМХС, 199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гиенические требования к видеодисплейным терминалам, персональным ЭВМ и организация работы. Санитарные правила и нормы. СанПиН 2.2.2. 542-9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рмилова И.А. Собираетесь в школу? Тренируйте глаза!/ Ермилова И.А.//Здоровье школьника – 2008 - №8, стр.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рмилова И.А.Ограничьте просмотр передач!/ Ермилова И.А.//Здоровье школьника – 2008 - №8, стр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ов С.В./ Валеология в школе и дома./ С.-Петербург «Союз», 1997г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И.Ревин. «Специфика зрения чело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А.Сурков. Энциклопедия.  О влиянии компьютерной техники на зрение чело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5840" y="357120"/>
            <a:ext cx="840096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ер может стать другом или заклятым врагом, может помочь в беде, а может добавить кучу проблем, может помочь найти единомышленников, а может привести к одиночеств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Admin\Рабочий стол\новый год 2012\8A9C2392-958F-48B6-A088-7EC2375606E5_s.jpg"/>
          <p:cNvPicPr/>
          <p:nvPr/>
        </p:nvPicPr>
        <p:blipFill>
          <a:blip r:embed="rId1"/>
          <a:stretch/>
        </p:blipFill>
        <p:spPr>
          <a:xfrm>
            <a:off x="2357280" y="3286080"/>
            <a:ext cx="39294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395280" y="2566080"/>
            <a:ext cx="59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ё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250920" y="189000"/>
            <a:ext cx="8640720" cy="1008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 пользе компьютера знае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-main-pic" descr="Картинка 8 из 574940"/>
          <p:cNvPicPr/>
          <p:nvPr/>
        </p:nvPicPr>
        <p:blipFill>
          <a:blip r:embed="rId1"/>
          <a:stretch/>
        </p:blipFill>
        <p:spPr>
          <a:xfrm>
            <a:off x="7040520" y="1357200"/>
            <a:ext cx="1911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Анимированный компьютер"/>
          <p:cNvPicPr/>
          <p:nvPr/>
        </p:nvPicPr>
        <p:blipFill>
          <a:blip r:embed="rId2"/>
          <a:stretch/>
        </p:blipFill>
        <p:spPr>
          <a:xfrm>
            <a:off x="3571920" y="2428920"/>
            <a:ext cx="2246400" cy="2260440"/>
          </a:xfrm>
          <a:prstGeom prst="rect">
            <a:avLst/>
          </a:prstGeom>
          <a:ln w="0">
            <a:noFill/>
          </a:ln>
        </p:spPr>
      </p:pic>
      <p:pic>
        <p:nvPicPr>
          <p:cNvPr id="54" name="i-main-pic" descr="Картинка 23 из 5521"/>
          <p:cNvPicPr/>
          <p:nvPr/>
        </p:nvPicPr>
        <p:blipFill>
          <a:blip r:embed="rId3"/>
          <a:stretch/>
        </p:blipFill>
        <p:spPr>
          <a:xfrm>
            <a:off x="2571840" y="4714920"/>
            <a:ext cx="2000160" cy="1895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i?id=118317704&amp;tov=6"/>
          <p:cNvPicPr/>
          <p:nvPr/>
        </p:nvPicPr>
        <p:blipFill>
          <a:blip r:embed="rId4"/>
          <a:stretch/>
        </p:blipFill>
        <p:spPr>
          <a:xfrm>
            <a:off x="6715080" y="4000680"/>
            <a:ext cx="2286000" cy="1722240"/>
          </a:xfrm>
          <a:prstGeom prst="rect">
            <a:avLst/>
          </a:prstGeom>
          <a:ln w="0">
            <a:noFill/>
          </a:ln>
        </p:spPr>
      </p:pic>
      <p:pic>
        <p:nvPicPr>
          <p:cNvPr id="56" name="i-main-pic" descr="Картинка 10 из 174355"/>
          <p:cNvPicPr/>
          <p:nvPr/>
        </p:nvPicPr>
        <p:blipFill>
          <a:blip r:embed="rId5"/>
          <a:stretch/>
        </p:blipFill>
        <p:spPr>
          <a:xfrm>
            <a:off x="210960" y="1500120"/>
            <a:ext cx="2289240" cy="2190960"/>
          </a:xfrm>
          <a:prstGeom prst="rect">
            <a:avLst/>
          </a:prstGeom>
          <a:ln w="0">
            <a:noFill/>
          </a:ln>
        </p:spPr>
      </p:pic>
      <p:pic>
        <p:nvPicPr>
          <p:cNvPr id="57" name="i-main-pic" descr="Картинка 26 из 23153"/>
          <p:cNvPicPr/>
          <p:nvPr/>
        </p:nvPicPr>
        <p:blipFill>
          <a:blip r:embed="rId6"/>
          <a:stretch/>
        </p:blipFill>
        <p:spPr>
          <a:xfrm>
            <a:off x="3643200" y="1357200"/>
            <a:ext cx="2233800" cy="1071720"/>
          </a:xfrm>
          <a:prstGeom prst="rect">
            <a:avLst/>
          </a:prstGeom>
          <a:ln w="0">
            <a:noFill/>
          </a:ln>
        </p:spPr>
      </p:pic>
      <p:pic>
        <p:nvPicPr>
          <p:cNvPr id="58" name="i-main-pic" descr="Картинка 40 из 174355"/>
          <p:cNvPicPr/>
          <p:nvPr/>
        </p:nvPicPr>
        <p:blipFill>
          <a:blip r:embed="rId7"/>
          <a:stretch/>
        </p:blipFill>
        <p:spPr>
          <a:xfrm>
            <a:off x="285840" y="4000680"/>
            <a:ext cx="2143080" cy="1606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Documents and Settings\Admin\Рабочий стол\для презентации про компьютер\i.jpeg3.jpeg"/>
          <p:cNvPicPr/>
          <p:nvPr/>
        </p:nvPicPr>
        <p:blipFill>
          <a:blip r:embed="rId8"/>
          <a:stretch/>
        </p:blipFill>
        <p:spPr>
          <a:xfrm>
            <a:off x="4714920" y="4786200"/>
            <a:ext cx="1833480" cy="18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340000" y="1571760"/>
            <a:ext cx="439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дячее положение в течение длительного врем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действие электромагнитного излучения монит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омление глаз, нагрузка на зр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грузка суставов ки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есс при потере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ет – зависим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рузка на псих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250920" y="189000"/>
            <a:ext cx="8640720" cy="1008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вредные факто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йствующие на ребёнка  за компьютером: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4"/>
          <p:cNvPicPr/>
          <p:nvPr/>
        </p:nvPicPr>
        <p:blipFill>
          <a:blip r:embed="rId1"/>
          <a:stretch/>
        </p:blipFill>
        <p:spPr>
          <a:xfrm>
            <a:off x="395280" y="1557360"/>
            <a:ext cx="1800360" cy="13539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63" name="Picture 10" descr="5"/>
          <p:cNvPicPr/>
          <p:nvPr/>
        </p:nvPicPr>
        <p:blipFill>
          <a:blip r:embed="rId2"/>
          <a:stretch/>
        </p:blipFill>
        <p:spPr>
          <a:xfrm>
            <a:off x="468360" y="3284640"/>
            <a:ext cx="1727280" cy="13050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64" name="Picture 11" descr="6"/>
          <p:cNvPicPr/>
          <p:nvPr/>
        </p:nvPicPr>
        <p:blipFill>
          <a:blip r:embed="rId3"/>
          <a:stretch/>
        </p:blipFill>
        <p:spPr>
          <a:xfrm>
            <a:off x="6948360" y="1628640"/>
            <a:ext cx="1729080" cy="13035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65" name="Picture 12" descr="7"/>
          <p:cNvPicPr/>
          <p:nvPr/>
        </p:nvPicPr>
        <p:blipFill>
          <a:blip r:embed="rId4"/>
          <a:stretch/>
        </p:blipFill>
        <p:spPr>
          <a:xfrm>
            <a:off x="3708360" y="5157720"/>
            <a:ext cx="1703520" cy="12859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66" name="Picture 13" descr="8"/>
          <p:cNvPicPr/>
          <p:nvPr/>
        </p:nvPicPr>
        <p:blipFill>
          <a:blip r:embed="rId5"/>
          <a:stretch/>
        </p:blipFill>
        <p:spPr>
          <a:xfrm>
            <a:off x="1116000" y="5157720"/>
            <a:ext cx="1595520" cy="12049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67" name="Picture 14" descr="9"/>
          <p:cNvPicPr/>
          <p:nvPr/>
        </p:nvPicPr>
        <p:blipFill>
          <a:blip r:embed="rId6"/>
          <a:stretch/>
        </p:blipFill>
        <p:spPr>
          <a:xfrm>
            <a:off x="6948360" y="3284640"/>
            <a:ext cx="1800360" cy="13586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68" name="Picture 15" descr="10"/>
          <p:cNvPicPr/>
          <p:nvPr/>
        </p:nvPicPr>
        <p:blipFill>
          <a:blip r:embed="rId7"/>
          <a:stretch/>
        </p:blipFill>
        <p:spPr>
          <a:xfrm>
            <a:off x="6443640" y="5084640"/>
            <a:ext cx="1814400" cy="13701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785880" y="1375200"/>
            <a:ext cx="6667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ест, пьет чай, готовит уроки у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л хотя бы одну ночь у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улял школу – сидел за компьют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ходит домой, и сразу к компьют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бывает в плохом, раздраженном настроении, не может ничем заняться, если компьютер сломал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конфликтует, угрожает, шантажирует в ответ на запрет сидеть за компьют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14200" y="214200"/>
            <a:ext cx="8640720" cy="1008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знаки  зависим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2286000" y="5500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аличие уже трех признаков свидетельствует о формировании 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C:\Documents and Settings\Admin\Рабочий стол\для презентации про компьютер\3323d15765d781172d1e6cce093.jpg"/>
          <p:cNvPicPr/>
          <p:nvPr/>
        </p:nvPicPr>
        <p:blipFill>
          <a:blip r:embed="rId1"/>
          <a:stretch/>
        </p:blipFill>
        <p:spPr>
          <a:xfrm>
            <a:off x="6500880" y="2071800"/>
            <a:ext cx="2286000" cy="17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642960" y="1538640"/>
            <a:ext cx="764388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ервая стад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интер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зья посоветовали приучать ребёнка к компьютеру, чтоб не мешал, постарше дети- «убить время», развлеч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торая стад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втяг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держание сопровождается настоящими «ломками»: и скучно, и грустно, и дела не идут на 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Третья стадия </a:t>
            </a:r>
            <a:r>
              <a:rPr b="0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— полная завис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ечно, дети с нарушенной психикой находят мир и покой в Интернете, потому что избавляются там от многих реальных проблем. Но и психически здоровые дети при чрезмерном увлечении Интернетом становятся зависимыми от него, а всякая зависимость в той или иной степени — нарушение псих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28760" y="274680"/>
            <a:ext cx="8258040" cy="115416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дии  зависи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428760" y="285840"/>
            <a:ext cx="8258040" cy="115416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дии  зависи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Documents and Settings\Admin\Рабочий стол\для презентации про компьютер\0-217874-calculatorbaiatnorthfoto1_25a49994d7.jpg"/>
          <p:cNvPicPr/>
          <p:nvPr/>
        </p:nvPicPr>
        <p:blipFill>
          <a:blip r:embed="rId1"/>
          <a:stretch/>
        </p:blipFill>
        <p:spPr>
          <a:xfrm>
            <a:off x="7643880" y="5143680"/>
            <a:ext cx="134784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уманивание  зрения (снижение остроты зр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дленная перефокусировка с ближних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альние и обратно (нарушение аккомодаци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ение предм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е утомление при чт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жение в глаз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и в области глазниц и лб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и при движении гла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раснение глазных ябл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и в области ше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и в руках (ки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и в области сп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и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мпьютер наносит вред человеку , тогда и только тогда, когда человек не соблюдет  санитарные правила и н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19840" y="276840"/>
            <a:ext cx="8104320" cy="116064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ды заболеваний при работе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 компьютеро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не опасен ли компьютер моему ребен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ремени можно проводить за 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мешает ли он нормальному развитию дет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просы, которые мы часто зада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Admin\Рабочий стол\новый год 2012\7816.jpg"/>
          <p:cNvPicPr/>
          <p:nvPr/>
        </p:nvPicPr>
        <p:blipFill>
          <a:blip r:embed="rId1"/>
          <a:stretch/>
        </p:blipFill>
        <p:spPr>
          <a:xfrm>
            <a:off x="6500880" y="4357800"/>
            <a:ext cx="23590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28760" y="157140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Средние ограничения по времени занятий для детского возраста приблизительно таков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три-четыре года ребенок может находиться у компьютера от 15 до 25 мину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ять-шесть лет - от 20 до 35 мину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емь-восемь лет - от 40 до 60 минут с перерывами через каждые 15-2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285840" y="428760"/>
            <a:ext cx="8640720" cy="1008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лько по вашему можно сидеть 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ьютером   ребён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Documents and Settings\Admin\Рабочий стол\новый год 2012\1_4215133795d74-71-1.jpg"/>
          <p:cNvPicPr/>
          <p:nvPr/>
        </p:nvPicPr>
        <p:blipFill>
          <a:blip r:embed="rId1"/>
          <a:stretch/>
        </p:blipFill>
        <p:spPr>
          <a:xfrm>
            <a:off x="7215120" y="3500280"/>
            <a:ext cx="164304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06:51Z</dcterms:created>
  <dc:creator>admin</dc:creator>
  <dc:description/>
  <dc:language>en-US</dc:language>
  <cp:lastModifiedBy>Admin</cp:lastModifiedBy>
  <dcterms:modified xsi:type="dcterms:W3CDTF">2011-11-22T20:27:17Z</dcterms:modified>
  <cp:revision>67</cp:revision>
  <dc:subject/>
  <dc:title>Слайд 1</dc:title>
</cp:coreProperties>
</file>