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37F-DC82-414F-B103-F00DE36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949-763F-4578-A2AD-62FED03D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F56-D538-4BC1-A935-DCBE6A3D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833-6346-4FB9-A82B-F5E8C2ED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FC8-3E1F-44E9-A83D-FB0F5042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620-B915-4F86-B11D-B0B7268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4EC-56DD-41CB-873B-DD71B58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228-2AE3-4C01-979B-A4BA65AC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331-9E0D-4DBC-831C-BC270DDE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3C1-7F97-43FC-8C35-05489A1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363-7B7D-4E08-AEE4-BFED95D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747-AD7B-4F0D-B00F-A6DEB69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FBF-4EAA-4DD9-8C01-04309E25B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_a97f3_980436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348000" y="105264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Традиции моей семь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3"/>
          <p:cNvPicPr/>
          <p:nvPr/>
        </p:nvPicPr>
        <p:blipFill>
          <a:blip r:embed="rId1"/>
          <a:stretch/>
        </p:blipFill>
        <p:spPr>
          <a:xfrm>
            <a:off x="-395280" y="0"/>
            <a:ext cx="9539280" cy="7848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3887640" y="3068640"/>
            <a:ext cx="5256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равствуйт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еня зовут Люба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IMG_20171206_200518.jpg"/>
          <p:cNvPicPr/>
          <p:nvPr/>
        </p:nvPicPr>
        <p:blipFill>
          <a:blip r:embed="rId2"/>
          <a:stretch/>
        </p:blipFill>
        <p:spPr>
          <a:xfrm>
            <a:off x="-420840" y="706320"/>
            <a:ext cx="5065920" cy="66643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7" descr="3"/>
          <p:cNvPicPr/>
          <p:nvPr/>
        </p:nvPicPr>
        <p:blipFill>
          <a:blip r:embed="rId1"/>
          <a:stretch/>
        </p:blipFill>
        <p:spPr>
          <a:xfrm>
            <a:off x="0" y="-500040"/>
            <a:ext cx="9539280" cy="784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39640" y="26028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о моя семья: папа, мама и сестрёнка Анют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429680" y="4357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Аню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928800" y="2000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215120" y="2286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285920" y="450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C:\Users\Наденька\Desktop\Новая папка (6)\тюлюфон\Новая папка\IMG_20170728_161034.jpg"/>
          <p:cNvPicPr/>
          <p:nvPr/>
        </p:nvPicPr>
        <p:blipFill>
          <a:blip r:embed="rId2"/>
          <a:stretch/>
        </p:blipFill>
        <p:spPr>
          <a:xfrm>
            <a:off x="1857240" y="1857240"/>
            <a:ext cx="5072040" cy="3803760"/>
          </a:xfrm>
          <a:prstGeom prst="rect">
            <a:avLst/>
          </a:prstGeom>
          <a:ln w="0">
            <a:noFill/>
          </a:ln>
        </p:spPr>
      </p:pic>
      <p:sp>
        <p:nvSpPr>
          <p:cNvPr id="54" name="Line 9"/>
          <p:cNvSpPr/>
          <p:nvPr/>
        </p:nvSpPr>
        <p:spPr>
          <a:xfrm>
            <a:off x="2071800" y="2357280"/>
            <a:ext cx="1944720" cy="719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2000160" y="4000680"/>
            <a:ext cx="1440000" cy="7920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5286240" y="2786040"/>
            <a:ext cx="1873440" cy="357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5857920" y="4142880"/>
            <a:ext cx="1582560" cy="365400"/>
          </a:xfrm>
          <a:prstGeom prst="line">
            <a:avLst/>
          </a:prstGeom>
          <a:ln w="38160">
            <a:solidFill>
              <a:srgbClr val="7030a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5" descr="3"/>
          <p:cNvPicPr/>
          <p:nvPr/>
        </p:nvPicPr>
        <p:blipFill>
          <a:blip r:embed="rId1"/>
          <a:stretch/>
        </p:blipFill>
        <p:spPr>
          <a:xfrm>
            <a:off x="755640" y="-7920"/>
            <a:ext cx="6553080" cy="629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6143760" y="407196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 ещё у меня есть бабушка и де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D:\Фотки\Cameraч\IMG_20160710_143401.jpg"/>
          <p:cNvPicPr/>
          <p:nvPr/>
        </p:nvPicPr>
        <p:blipFill>
          <a:blip r:embed="rId2"/>
          <a:stretch/>
        </p:blipFill>
        <p:spPr>
          <a:xfrm>
            <a:off x="214200" y="3214800"/>
            <a:ext cx="5048280" cy="314316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 flipH="1">
            <a:off x="5214960" y="4929120"/>
            <a:ext cx="1000080" cy="1143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 flipH="1" flipV="1">
            <a:off x="5285880" y="3286080"/>
            <a:ext cx="1000440" cy="928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5" descr="6460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50920" y="404640"/>
            <a:ext cx="561636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шей семье есть много традиций, которые есть, пожалуй, в каждой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азднуем семейные праз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ыходные ходим в ба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убботам наводим порядок, и весь труд делим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им вкусня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инаем вместе обсуждая прошедш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м за любимую хоккейную ком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в семье ложатся спать в 21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сть ещё одна традиция желать спокойной 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 и проводить отпуск: куда- нибудь путешествовать на своем автомобиле, даже если недалеко, но очень увлек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1337519527-9607691-christmas_background_637-mb_christmas-background_01_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5292720" y="177336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абушка придумала традицию – «за подарок стихотворение». Тот кому дарят подарок должен встать  на стульчик и рассказать стихотворение, даже взрослые… Теперь и мама с папой готовят стихотворение к празднику… Все новогодние праздники мы проводим вместе, катаемся с горок, на санк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059280" y="115920"/>
            <a:ext cx="60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, конечно же, празднуем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нуне праздника украшаем елку всей семьей, пишем письмо Деду Морозу… В Новогоднюю ночь под ёлкой появляются подарки для всех. А утром мы все вместе их открываем, едем к бабушке и дедушке, поздравляем их, а они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D:\Фотки\с алкатель\IMG_20160904_173825.jpg"/>
          <p:cNvPicPr/>
          <p:nvPr/>
        </p:nvPicPr>
        <p:blipFill>
          <a:blip r:embed="rId2"/>
          <a:stretch/>
        </p:blipFill>
        <p:spPr>
          <a:xfrm>
            <a:off x="6215040" y="5143680"/>
            <a:ext cx="2540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D:\Фотки\Люба\новогоднее\image.jpg"/>
          <p:cNvPicPr/>
          <p:nvPr/>
        </p:nvPicPr>
        <p:blipFill>
          <a:blip r:embed="rId3"/>
          <a:stretch/>
        </p:blipFill>
        <p:spPr>
          <a:xfrm>
            <a:off x="3357720" y="471492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D:\с мфйфуна\музыка\DCIM\Camera\IMG_20170101_190223.jpg"/>
          <p:cNvPicPr/>
          <p:nvPr/>
        </p:nvPicPr>
        <p:blipFill>
          <a:blip r:embed="rId4"/>
          <a:stretch/>
        </p:blipFill>
        <p:spPr>
          <a:xfrm>
            <a:off x="3500280" y="328608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D:\с мфйфуна\музыка\DCIM\Camera\IMG_20170101_192009.jpg"/>
          <p:cNvPicPr/>
          <p:nvPr/>
        </p:nvPicPr>
        <p:blipFill>
          <a:blip r:embed="rId5"/>
          <a:stretch/>
        </p:blipFill>
        <p:spPr>
          <a:xfrm>
            <a:off x="3286080" y="1857240"/>
            <a:ext cx="1857600" cy="139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:\с мфйфуна\музыка\DCIM\Camera\IMG_20161024_125923.jpg"/>
          <p:cNvPicPr/>
          <p:nvPr/>
        </p:nvPicPr>
        <p:blipFill>
          <a:blip r:embed="rId6"/>
          <a:stretch/>
        </p:blipFill>
        <p:spPr>
          <a:xfrm>
            <a:off x="357120" y="214200"/>
            <a:ext cx="221472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D:\с мфйфуна\музыка\DCIM\Camera\IMG_20170101_184412.jpg"/>
          <p:cNvPicPr/>
          <p:nvPr/>
        </p:nvPicPr>
        <p:blipFill>
          <a:blip r:embed="rId7"/>
          <a:stretch/>
        </p:blipFill>
        <p:spPr>
          <a:xfrm>
            <a:off x="214200" y="4357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D:\Фотки\Cameraч\IMG_20170104_140147.jpg"/>
          <p:cNvPicPr/>
          <p:nvPr/>
        </p:nvPicPr>
        <p:blipFill>
          <a:blip r:embed="rId8"/>
          <a:stretch/>
        </p:blipFill>
        <p:spPr>
          <a:xfrm>
            <a:off x="0" y="178596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3" descr="130931878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335640" y="321300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Мы здорово проводим время, видим много красивых мест… Это самое лучшее врем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2124000" y="33336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о есть в нашей семье традиция, которую я люблю больше всего! Каждое лето мама с папой отодвигают все заботы и проблемы в сторону и мы отправляемся в путешествие по различным местам на маш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211640" y="15717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 тогда мы по настоящему все вместе, нам никто и ничто не меш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D:\Фотки\с алкатель\IMG_20160703_140611.jpg"/>
          <p:cNvPicPr/>
          <p:nvPr/>
        </p:nvPicPr>
        <p:blipFill>
          <a:blip r:embed="rId2"/>
          <a:stretch/>
        </p:blipFill>
        <p:spPr>
          <a:xfrm>
            <a:off x="0" y="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C:\Users\Наденька\Pictures\фото\IMG_20170825_124854_HDR.jpg"/>
          <p:cNvPicPr/>
          <p:nvPr/>
        </p:nvPicPr>
        <p:blipFill>
          <a:blip r:embed="rId3"/>
          <a:stretch/>
        </p:blipFill>
        <p:spPr>
          <a:xfrm>
            <a:off x="0" y="18572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D:\Фотки\Отдых\лето 2015 год\Camera\IMG_20150806_115126.jpg"/>
          <p:cNvPicPr/>
          <p:nvPr/>
        </p:nvPicPr>
        <p:blipFill>
          <a:blip r:embed="rId4"/>
          <a:stretch/>
        </p:blipFill>
        <p:spPr>
          <a:xfrm>
            <a:off x="142920" y="364320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D:\Фотки\Отдых\лето 2015 год\Camera\IMG_20150804_110714.jpg"/>
          <p:cNvPicPr/>
          <p:nvPr/>
        </p:nvPicPr>
        <p:blipFill>
          <a:blip r:embed="rId5"/>
          <a:stretch/>
        </p:blipFill>
        <p:spPr>
          <a:xfrm>
            <a:off x="2357280" y="221472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D:\Фотки\Отдых\лето 2015 год\Photos\IMG0263A.jpg"/>
          <p:cNvPicPr/>
          <p:nvPr/>
        </p:nvPicPr>
        <p:blipFill>
          <a:blip r:embed="rId6"/>
          <a:stretch/>
        </p:blipFill>
        <p:spPr>
          <a:xfrm>
            <a:off x="5000760" y="4572000"/>
            <a:ext cx="171432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D:\Фотки\Отдых\лето 2015 год\тп\Фото-0001.jpg"/>
          <p:cNvPicPr/>
          <p:nvPr/>
        </p:nvPicPr>
        <p:blipFill>
          <a:blip r:embed="rId7"/>
          <a:stretch/>
        </p:blipFill>
        <p:spPr>
          <a:xfrm>
            <a:off x="2357280" y="4143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D:\Фотки\Отдых\2014 год\Фото2275.jpg"/>
          <p:cNvPicPr/>
          <p:nvPr/>
        </p:nvPicPr>
        <p:blipFill>
          <a:blip r:embed="rId8"/>
          <a:stretch/>
        </p:blipFill>
        <p:spPr>
          <a:xfrm>
            <a:off x="357120" y="5429160"/>
            <a:ext cx="1643040" cy="1231920"/>
          </a:xfrm>
          <a:prstGeom prst="rect">
            <a:avLst/>
          </a:prstGeom>
          <a:ln w="0">
            <a:noFill/>
          </a:ln>
        </p:spPr>
      </p:pic>
    </p:spTree>
  </p:cSld>
  <p:transition advTm="2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0_6a3c4_4ee138bc_XL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934920" y="3213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огда я вырасту, то обязательно буду продолжать поддерживать наши семейные традиции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130931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1" descr=""/>
          <p:cNvPicPr/>
          <p:nvPr/>
        </p:nvPicPr>
        <p:blipFill>
          <a:blip r:embed="rId2"/>
          <a:stretch/>
        </p:blipFill>
        <p:spPr>
          <a:xfrm>
            <a:off x="244440" y="2687760"/>
            <a:ext cx="8766360" cy="102528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1:42:21Z</dcterms:created>
  <dc:creator>IVT</dc:creator>
  <dc:description/>
  <dc:language>en-US</dc:language>
  <cp:lastModifiedBy>lll</cp:lastModifiedBy>
  <dcterms:modified xsi:type="dcterms:W3CDTF">2018-03-21T20:34:44Z</dcterms:modified>
  <cp:revision>10</cp:revision>
  <dc:subject/>
  <dc:title>Традиции моей семьи</dc:title>
</cp:coreProperties>
</file>