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jpeg" ContentType="image/jpeg"/>
  <Override PartName="/ppt/media/image26.png" ContentType="image/png"/>
  <Override PartName="/ppt/media/image2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851-563B-4FA8-9254-11D5BB6B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B40-E9BB-43C5-ADE9-7A2BC036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C04-1B5E-446F-920E-26026A32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2B10-4FE5-495E-9980-D6259748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0E8-1E85-4F86-A907-8EC6A0EF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757-DF85-4175-A1CC-8B254789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BDC-062D-4071-B048-6863D3BD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0E2-2B6E-46A9-AD3A-155788A0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3DB-0430-4A0B-A539-909C04FB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32B5-2B35-40A0-8F26-09DEF7D4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18E-E9D8-46C7-A6BC-231D8987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9C7-70C1-4841-9812-CAD529B5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88FF-6D8F-41ED-859E-2DAC8169D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_a97f3_980436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3348000" y="105264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Традиции моей семь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2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3"/>
          <p:cNvPicPr/>
          <p:nvPr/>
        </p:nvPicPr>
        <p:blipFill>
          <a:blip r:embed="rId1"/>
          <a:stretch/>
        </p:blipFill>
        <p:spPr>
          <a:xfrm>
            <a:off x="-395280" y="0"/>
            <a:ext cx="9539280" cy="7848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3887640" y="3068640"/>
            <a:ext cx="5256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дравствуйте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еня зовут Люба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IMG_20171206_200518.jpg"/>
          <p:cNvPicPr/>
          <p:nvPr/>
        </p:nvPicPr>
        <p:blipFill>
          <a:blip r:embed="rId2"/>
          <a:stretch/>
        </p:blipFill>
        <p:spPr>
          <a:xfrm>
            <a:off x="-420840" y="706320"/>
            <a:ext cx="5065920" cy="666432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7" descr="3"/>
          <p:cNvPicPr/>
          <p:nvPr/>
        </p:nvPicPr>
        <p:blipFill>
          <a:blip r:embed="rId1"/>
          <a:stretch/>
        </p:blipFill>
        <p:spPr>
          <a:xfrm>
            <a:off x="0" y="-500040"/>
            <a:ext cx="9539280" cy="784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39640" y="26028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то моя семья: папа, мама и сестрёнка Анют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7429680" y="4357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Аню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928800" y="2000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7215120" y="2286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285920" y="4500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C:\Users\Наденька\Desktop\Новая папка (6)\тюлюфон\Новая папка\IMG_20170728_161034.jpg"/>
          <p:cNvPicPr/>
          <p:nvPr/>
        </p:nvPicPr>
        <p:blipFill>
          <a:blip r:embed="rId2"/>
          <a:stretch/>
        </p:blipFill>
        <p:spPr>
          <a:xfrm>
            <a:off x="1857240" y="1857240"/>
            <a:ext cx="5072040" cy="3803760"/>
          </a:xfrm>
          <a:prstGeom prst="rect">
            <a:avLst/>
          </a:prstGeom>
          <a:ln w="0">
            <a:noFill/>
          </a:ln>
        </p:spPr>
      </p:pic>
      <p:sp>
        <p:nvSpPr>
          <p:cNvPr id="54" name="Line 9"/>
          <p:cNvSpPr/>
          <p:nvPr/>
        </p:nvSpPr>
        <p:spPr>
          <a:xfrm>
            <a:off x="2071800" y="2357280"/>
            <a:ext cx="1944720" cy="7192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V="1">
            <a:off x="2000160" y="4000680"/>
            <a:ext cx="1440000" cy="7920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H="1">
            <a:off x="5286240" y="2786040"/>
            <a:ext cx="1873440" cy="357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 flipV="1">
            <a:off x="5857920" y="4142880"/>
            <a:ext cx="1582560" cy="365400"/>
          </a:xfrm>
          <a:prstGeom prst="line">
            <a:avLst/>
          </a:prstGeom>
          <a:ln w="38160">
            <a:solidFill>
              <a:srgbClr val="7030a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5" descr="3"/>
          <p:cNvPicPr/>
          <p:nvPr/>
        </p:nvPicPr>
        <p:blipFill>
          <a:blip r:embed="rId1"/>
          <a:stretch/>
        </p:blipFill>
        <p:spPr>
          <a:xfrm>
            <a:off x="755640" y="-7920"/>
            <a:ext cx="6553080" cy="6291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6143760" y="4071960"/>
            <a:ext cx="266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А ещё у меня есть бабушка и дед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D:\Фотки\Cameraч\IMG_20160710_143401.jpg"/>
          <p:cNvPicPr/>
          <p:nvPr/>
        </p:nvPicPr>
        <p:blipFill>
          <a:blip r:embed="rId2"/>
          <a:stretch/>
        </p:blipFill>
        <p:spPr>
          <a:xfrm>
            <a:off x="214200" y="3214800"/>
            <a:ext cx="5048280" cy="3143160"/>
          </a:xfrm>
          <a:prstGeom prst="rect">
            <a:avLst/>
          </a:prstGeom>
          <a:ln w="0">
            <a:noFill/>
          </a:ln>
        </p:spPr>
      </p:pic>
      <p:sp>
        <p:nvSpPr>
          <p:cNvPr id="61" name="Line 10"/>
          <p:cNvSpPr/>
          <p:nvPr/>
        </p:nvSpPr>
        <p:spPr>
          <a:xfrm flipH="1">
            <a:off x="5214960" y="4929120"/>
            <a:ext cx="1000080" cy="1143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 flipH="1" flipV="1">
            <a:off x="5285880" y="3286080"/>
            <a:ext cx="1000440" cy="928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5" descr="64606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250920" y="404640"/>
            <a:ext cx="561636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шей семье есть много традиций, которые есть, пожалуй, в каждой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празднуем семейные празд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выходные ходим в ба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убботам наводим порядок, и весь труд делим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товим вкусня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инаем вместе обсуждая прошедши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м за любимую хоккейную кома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и в семье ложатся спать в 21.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есть ещё одна традиция желать спокойной 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 и проводить отпуск: куда- нибудь путешествовать на своем автомобиле, даже если недалеко, но очень увлека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3" descr="1337519527-9607691-christmas_background_637-mb_christmas-background_01_w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5292720" y="1773360"/>
            <a:ext cx="36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бабушка придумала традицию – «за подарок стихотворение». Тот кому дарят подарок должен встать  на стульчик и рассказать стихотворение, даже взрослые… Теперь и мама с папой готовят стихотворение к празднику… Все новогодние праздники мы проводим вместе, катаемся с горок, на санка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059280" y="115920"/>
            <a:ext cx="60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, конечно же, празднуем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нуне праздника украшаем елку всей семьей, пишем письмо Деду Морозу… В Новогоднюю ночь под ёлкой появляются подарки для всех. А утром мы все вместе их открываем, едем к бабушке и дедушке, поздравляем их, а они н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D:\Фотки\с алкатель\IMG_20160904_173825.jpg"/>
          <p:cNvPicPr/>
          <p:nvPr/>
        </p:nvPicPr>
        <p:blipFill>
          <a:blip r:embed="rId2"/>
          <a:stretch/>
        </p:blipFill>
        <p:spPr>
          <a:xfrm>
            <a:off x="6215040" y="5143680"/>
            <a:ext cx="2540160" cy="1428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D:\Фотки\Люба\новогоднее\image.jpg"/>
          <p:cNvPicPr/>
          <p:nvPr/>
        </p:nvPicPr>
        <p:blipFill>
          <a:blip r:embed="rId3"/>
          <a:stretch/>
        </p:blipFill>
        <p:spPr>
          <a:xfrm>
            <a:off x="3357720" y="4714920"/>
            <a:ext cx="2571480" cy="19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D:\с мфйфуна\музыка\DCIM\Camera\IMG_20170101_190223.jpg"/>
          <p:cNvPicPr/>
          <p:nvPr/>
        </p:nvPicPr>
        <p:blipFill>
          <a:blip r:embed="rId4"/>
          <a:stretch/>
        </p:blipFill>
        <p:spPr>
          <a:xfrm>
            <a:off x="3500280" y="3286080"/>
            <a:ext cx="1785960" cy="1339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D:\с мфйфуна\музыка\DCIM\Camera\IMG_20170101_192009.jpg"/>
          <p:cNvPicPr/>
          <p:nvPr/>
        </p:nvPicPr>
        <p:blipFill>
          <a:blip r:embed="rId5"/>
          <a:stretch/>
        </p:blipFill>
        <p:spPr>
          <a:xfrm>
            <a:off x="3286080" y="1857240"/>
            <a:ext cx="1857600" cy="1392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D:\с мфйфуна\музыка\DCIM\Camera\IMG_20161024_125923.jpg"/>
          <p:cNvPicPr/>
          <p:nvPr/>
        </p:nvPicPr>
        <p:blipFill>
          <a:blip r:embed="rId6"/>
          <a:stretch/>
        </p:blipFill>
        <p:spPr>
          <a:xfrm>
            <a:off x="357120" y="214200"/>
            <a:ext cx="2214720" cy="128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D:\с мфйфуна\музыка\DCIM\Camera\IMG_20170101_184412.jpg"/>
          <p:cNvPicPr/>
          <p:nvPr/>
        </p:nvPicPr>
        <p:blipFill>
          <a:blip r:embed="rId7"/>
          <a:stretch/>
        </p:blipFill>
        <p:spPr>
          <a:xfrm>
            <a:off x="214200" y="435780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D:\Фотки\Cameraч\IMG_20170104_140147.jpg"/>
          <p:cNvPicPr/>
          <p:nvPr/>
        </p:nvPicPr>
        <p:blipFill>
          <a:blip r:embed="rId8"/>
          <a:stretch/>
        </p:blipFill>
        <p:spPr>
          <a:xfrm>
            <a:off x="0" y="178596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p:transition advTm="11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3" descr="130931878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02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6335640" y="3213000"/>
            <a:ext cx="28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Мы здорово проводим время, видим много красивых мест… Это самое лучшее врем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2124000" y="333360"/>
            <a:ext cx="70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о есть в нашей семье традиция, которую я люблю больше всего! Каждое лето мама с папой отодвигают все заботы и проблемы в сторону и мы отправляемся в путешествие по различным местам на маш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211640" y="157176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 тогда мы по настоящему все вместе, нам никто и ничто не меш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D:\Фотки\с алкатель\IMG_20160703_140611.jpg"/>
          <p:cNvPicPr/>
          <p:nvPr/>
        </p:nvPicPr>
        <p:blipFill>
          <a:blip r:embed="rId2"/>
          <a:stretch/>
        </p:blipFill>
        <p:spPr>
          <a:xfrm>
            <a:off x="0" y="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C:\Users\Наденька\Pictures\фото\IMG_20170825_124854_HDR.jpg"/>
          <p:cNvPicPr/>
          <p:nvPr/>
        </p:nvPicPr>
        <p:blipFill>
          <a:blip r:embed="rId3"/>
          <a:stretch/>
        </p:blipFill>
        <p:spPr>
          <a:xfrm>
            <a:off x="0" y="185724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D:\Фотки\Отдых\лето 2015 год\Camera\IMG_20150806_115126.jpg"/>
          <p:cNvPicPr/>
          <p:nvPr/>
        </p:nvPicPr>
        <p:blipFill>
          <a:blip r:embed="rId4"/>
          <a:stretch/>
        </p:blipFill>
        <p:spPr>
          <a:xfrm>
            <a:off x="142920" y="3643200"/>
            <a:ext cx="2190600" cy="164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D:\Фотки\Отдых\лето 2015 год\Camera\IMG_20150804_110714.jpg"/>
          <p:cNvPicPr/>
          <p:nvPr/>
        </p:nvPicPr>
        <p:blipFill>
          <a:blip r:embed="rId5"/>
          <a:stretch/>
        </p:blipFill>
        <p:spPr>
          <a:xfrm>
            <a:off x="2357280" y="221472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0" descr="D:\Фотки\Отдых\лето 2015 год\Photos\IMG0263A.jpg"/>
          <p:cNvPicPr/>
          <p:nvPr/>
        </p:nvPicPr>
        <p:blipFill>
          <a:blip r:embed="rId6"/>
          <a:stretch/>
        </p:blipFill>
        <p:spPr>
          <a:xfrm>
            <a:off x="5000760" y="4572000"/>
            <a:ext cx="1714320" cy="2071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1" descr="D:\Фотки\Отдых\лето 2015 год\тп\Фото-0001.jpg"/>
          <p:cNvPicPr/>
          <p:nvPr/>
        </p:nvPicPr>
        <p:blipFill>
          <a:blip r:embed="rId7"/>
          <a:stretch/>
        </p:blipFill>
        <p:spPr>
          <a:xfrm>
            <a:off x="2357280" y="41432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2" descr="D:\Фотки\Отдых\2014 год\Фото2275.jpg"/>
          <p:cNvPicPr/>
          <p:nvPr/>
        </p:nvPicPr>
        <p:blipFill>
          <a:blip r:embed="rId8"/>
          <a:stretch/>
        </p:blipFill>
        <p:spPr>
          <a:xfrm>
            <a:off x="357120" y="5429160"/>
            <a:ext cx="1643040" cy="1231920"/>
          </a:xfrm>
          <a:prstGeom prst="rect">
            <a:avLst/>
          </a:prstGeom>
          <a:ln w="0">
            <a:noFill/>
          </a:ln>
        </p:spPr>
      </p:pic>
    </p:spTree>
  </p:cSld>
  <p:transition advTm="21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0_6a3c4_4ee138bc_XL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934920" y="3213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Когда я вырасту, то обязательно буду продолжать поддерживать наши семейные традиции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5" descr="130931878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1" descr=""/>
          <p:cNvPicPr/>
          <p:nvPr/>
        </p:nvPicPr>
        <p:blipFill>
          <a:blip r:embed="rId2"/>
          <a:stretch/>
        </p:blipFill>
        <p:spPr>
          <a:xfrm>
            <a:off x="244440" y="2687760"/>
            <a:ext cx="8766360" cy="102528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1:42:21Z</dcterms:created>
  <dc:creator>IVT</dc:creator>
  <dc:description/>
  <dc:language>en-US</dc:language>
  <cp:lastModifiedBy>lll</cp:lastModifiedBy>
  <dcterms:modified xsi:type="dcterms:W3CDTF">2018-03-21T20:34:44Z</dcterms:modified>
  <cp:revision>10</cp:revision>
  <dc:subject/>
  <dc:title>Традиции моей семьи</dc:title>
</cp:coreProperties>
</file>