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A09-DF58-48A4-B6DF-288DC0B1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164-96A3-4B5C-91BA-DE54982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F80-0212-4471-8470-7584F8D5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9DE-6994-4CFB-A35E-4AF496D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FE8E-5C02-4501-975D-8AE37482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1FA5-7ABC-428F-9394-38049B7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A8B0-E0C0-4006-8129-2126B31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F0A4-687A-4726-93F1-A00BAC6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A3A-203C-4F28-A74E-FAC0AE4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EA6-92EA-482A-BFD8-748276A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A7B-9A48-4197-B13D-101372F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9B7-AD69-4601-B026-446A43A4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544-0AB4-4A9A-BEBF-9AFD8ED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B362-1D87-42E8-BF56-CB991ED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A58C-FB8F-4F38-96F8-40E7BD2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FCCC-169C-4CEB-BA3A-6B6606FB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E9C5-68EB-44F4-81EE-5E0B5DA3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D28-9488-472B-B910-EB6C96E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F48-3BA7-4900-A95F-6A7A02F7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F99-E145-40A0-B8F3-55884167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9BD-F9AE-47DD-BF62-F434E1C4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61B-41C6-47CB-8214-02FEBC8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20F-6139-4D14-B402-BAFD54F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DD5-8118-4FAF-85B3-1288EC6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BC73C-7E2B-4FAD-BD7E-15802D04BF3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E2FAA1-D7C3-4F2F-9FBC-4EBA9FD75B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астер – класс «Открытка для мамы» 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Для работы нам понадобится: картон, разноцветные салфетки, шаблон «сердце», клей ПВА, ножницы, карандаш, степлер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D:\Вера\флешка\мастер-классы мои\подарок маме\IMG_20171121_182508.jpg"/>
          <p:cNvPicPr/>
          <p:nvPr/>
        </p:nvPicPr>
        <p:blipFill>
          <a:blip r:embed="rId1"/>
          <a:stretch/>
        </p:blipFill>
        <p:spPr>
          <a:xfrm>
            <a:off x="2547360" y="2259720"/>
            <a:ext cx="3800880" cy="3147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Берём два разных цвета салфетки, складываем два раз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D:\Вера\флешка\мастер-классы мои\подарок маме\IMG_20171121_182624.jpg"/>
          <p:cNvPicPr/>
          <p:nvPr/>
        </p:nvPicPr>
        <p:blipFill>
          <a:blip r:embed="rId1"/>
          <a:stretch/>
        </p:blipFill>
        <p:spPr>
          <a:xfrm>
            <a:off x="1656720" y="2246760"/>
            <a:ext cx="2274840" cy="2213280"/>
          </a:xfrm>
          <a:prstGeom prst="rect">
            <a:avLst/>
          </a:prstGeom>
          <a:ln w="9525">
            <a:noFill/>
          </a:ln>
        </p:spPr>
      </p:pic>
      <p:pic>
        <p:nvPicPr>
          <p:cNvPr id="88" name="Рисунок 4" descr="D:\Вера\флешка\мастер-классы мои\подарок маме\IMG_20171121_182653.jpg"/>
          <p:cNvPicPr/>
          <p:nvPr/>
        </p:nvPicPr>
        <p:blipFill>
          <a:blip r:embed="rId2"/>
          <a:stretch/>
        </p:blipFill>
        <p:spPr>
          <a:xfrm>
            <a:off x="4584960" y="2377440"/>
            <a:ext cx="2715480" cy="1834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Срезаем по кругу квадрата углы, делаем небольшие надрезы по всему кругу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D:\Вера\флешка\мастер-классы мои\подарок маме\IMG_20171121_182945.jpg"/>
          <p:cNvPicPr/>
          <p:nvPr/>
        </p:nvPicPr>
        <p:blipFill>
          <a:blip r:embed="rId1"/>
          <a:stretch/>
        </p:blipFill>
        <p:spPr>
          <a:xfrm>
            <a:off x="2390400" y="1972440"/>
            <a:ext cx="3879360" cy="34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Берём картон, и шаблон «сердце». Обводим по контуру, вырезаем «сердце»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D:\Вера\флешка\мастер-классы мои\подарок маме\IMG_20171121_182850.jpg"/>
          <p:cNvPicPr/>
          <p:nvPr/>
        </p:nvPicPr>
        <p:blipFill>
          <a:blip r:embed="rId1"/>
          <a:stretch/>
        </p:blipFill>
        <p:spPr>
          <a:xfrm>
            <a:off x="2129400" y="1946520"/>
            <a:ext cx="5028840" cy="3121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Из зелёного картона вырезаем лепестк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D:\Вера\флешка\мастер-классы мои\подарок маме\IMG_20171121_182811.jpg"/>
          <p:cNvPicPr/>
          <p:nvPr/>
        </p:nvPicPr>
        <p:blipFill>
          <a:blip r:embed="rId1"/>
          <a:stretch/>
        </p:blipFill>
        <p:spPr>
          <a:xfrm>
            <a:off x="2024640" y="1750320"/>
            <a:ext cx="5081040" cy="329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Слегка расправляем  детал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D:\Вера\флешка\мастер-классы мои\подарок маме\IMG_20171121_183035.jpg"/>
          <p:cNvPicPr/>
          <p:nvPr/>
        </p:nvPicPr>
        <p:blipFill>
          <a:blip r:embed="rId1"/>
          <a:stretch/>
        </p:blipFill>
        <p:spPr>
          <a:xfrm>
            <a:off x="2312280" y="1580760"/>
            <a:ext cx="4780800" cy="3413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Все полученные детали наклеиваем на «сердце»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D:\Вера\флешка\мастер-классы мои\подарок маме\IMG_20171121_183140.jpg"/>
          <p:cNvPicPr/>
          <p:nvPr/>
        </p:nvPicPr>
        <p:blipFill>
          <a:blip r:embed="rId1"/>
          <a:stretch/>
        </p:blipFill>
        <p:spPr>
          <a:xfrm>
            <a:off x="2691000" y="1750320"/>
            <a:ext cx="3787920" cy="353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8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Подарок ко Дню матери готов!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5</TotalTime>
  <Application>LibreOffice/7.4.7.2$Linux_X86_64 LibreOffice_project/40$Build-2</Application>
  <AppVersion>15.0000</AppVersion>
  <Words>94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Вовчик</cp:lastModifiedBy>
  <dcterms:modified xsi:type="dcterms:W3CDTF">2018-03-22T02:47:53Z</dcterms:modified>
  <cp:revision>4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