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72C-4296-4762-ABD0-43A8C7C8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565-4ADE-47E1-AEA7-883A304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F6D-BDBC-4FA8-9986-4975C7D1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1DC-A533-4A74-B16A-CF894FDF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20C-A9B8-477E-81D8-7EE62EC5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50DF-776D-4BCA-8EEF-38158A6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FA9D-C189-41A9-98A7-060577E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D9BF-B0F9-46D7-ACEE-0E74AA1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BD7F-DACB-4C65-B7FA-90AB6E1C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96FB-4024-46B2-A762-8FEBCD9F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800-4BE4-4F0C-98D3-41F35386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AC5-DE95-4986-8887-38CD777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2F8-3B49-4C72-8180-6F4C2BE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D3FD-CF8F-471B-A73B-D349466F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2689-F275-4FCE-9A7F-A71D0D4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C4F-C685-4E97-8DC9-180AED62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322-8450-4876-A528-A5606E37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896-8899-4C42-8275-38E2FFB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45C-9BEC-45C7-B467-8F3D3C7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1F6-1F5D-47DF-AFA1-CCD4EFC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C85-5399-41A1-AC6D-A68604F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CAC-F37A-4537-92E1-3D0DCF0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A34-65C3-4DE0-91D6-497EE5D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85F-C31C-46F5-A7A4-CCADF53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47E90D-08B3-4C98-B59E-AB4B18D383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E3DF41-976A-4FF3-84A5-E10FE987AAA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астер – класс «Открытка для мамы» 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Для работы нам понадобится: картон, разноцветные салфетки, шаблон «сердце», клей ПВА, ножницы, карандаш, степлер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D:\Вера\флешка\мастер-классы мои\подарок маме\IMG_20171121_182508.jpg"/>
          <p:cNvPicPr/>
          <p:nvPr/>
        </p:nvPicPr>
        <p:blipFill>
          <a:blip r:embed="rId1"/>
          <a:stretch/>
        </p:blipFill>
        <p:spPr>
          <a:xfrm>
            <a:off x="2547360" y="2259720"/>
            <a:ext cx="3800880" cy="3147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Берём два разных цвета салфетки, складываем два раз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D:\Вера\флешка\мастер-классы мои\подарок маме\IMG_20171121_182624.jpg"/>
          <p:cNvPicPr/>
          <p:nvPr/>
        </p:nvPicPr>
        <p:blipFill>
          <a:blip r:embed="rId1"/>
          <a:stretch/>
        </p:blipFill>
        <p:spPr>
          <a:xfrm>
            <a:off x="1656720" y="2246760"/>
            <a:ext cx="2274840" cy="2213280"/>
          </a:xfrm>
          <a:prstGeom prst="rect">
            <a:avLst/>
          </a:prstGeom>
          <a:ln w="9525">
            <a:noFill/>
          </a:ln>
        </p:spPr>
      </p:pic>
      <p:pic>
        <p:nvPicPr>
          <p:cNvPr id="88" name="Рисунок 4" descr="D:\Вера\флешка\мастер-классы мои\подарок маме\IMG_20171121_182653.jpg"/>
          <p:cNvPicPr/>
          <p:nvPr/>
        </p:nvPicPr>
        <p:blipFill>
          <a:blip r:embed="rId2"/>
          <a:stretch/>
        </p:blipFill>
        <p:spPr>
          <a:xfrm>
            <a:off x="4584960" y="2377440"/>
            <a:ext cx="2715480" cy="1834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Срезаем по кругу квадрата углы, делаем небольшие надрезы по всему кругу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D:\Вера\флешка\мастер-классы мои\подарок маме\IMG_20171121_182945.jpg"/>
          <p:cNvPicPr/>
          <p:nvPr/>
        </p:nvPicPr>
        <p:blipFill>
          <a:blip r:embed="rId1"/>
          <a:stretch/>
        </p:blipFill>
        <p:spPr>
          <a:xfrm>
            <a:off x="2390400" y="1972440"/>
            <a:ext cx="3879360" cy="34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Берём картон, и шаблон «сердце». Обводим по контуру, вырезаем «сердце»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D:\Вера\флешка\мастер-классы мои\подарок маме\IMG_20171121_182850.jpg"/>
          <p:cNvPicPr/>
          <p:nvPr/>
        </p:nvPicPr>
        <p:blipFill>
          <a:blip r:embed="rId1"/>
          <a:stretch/>
        </p:blipFill>
        <p:spPr>
          <a:xfrm>
            <a:off x="2129400" y="1946520"/>
            <a:ext cx="5028840" cy="3121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Из зелёного картона вырезаем лепестк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D:\Вера\флешка\мастер-классы мои\подарок маме\IMG_20171121_182811.jpg"/>
          <p:cNvPicPr/>
          <p:nvPr/>
        </p:nvPicPr>
        <p:blipFill>
          <a:blip r:embed="rId1"/>
          <a:stretch/>
        </p:blipFill>
        <p:spPr>
          <a:xfrm>
            <a:off x="2024640" y="1750320"/>
            <a:ext cx="5081040" cy="329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Слегка расправляем  детал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D:\Вера\флешка\мастер-классы мои\подарок маме\IMG_20171121_183035.jpg"/>
          <p:cNvPicPr/>
          <p:nvPr/>
        </p:nvPicPr>
        <p:blipFill>
          <a:blip r:embed="rId1"/>
          <a:stretch/>
        </p:blipFill>
        <p:spPr>
          <a:xfrm>
            <a:off x="2312280" y="1580760"/>
            <a:ext cx="4780800" cy="3413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Все полученные детали наклеиваем на «сердце»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D:\Вера\флешка\мастер-классы мои\подарок маме\IMG_20171121_183140.jpg"/>
          <p:cNvPicPr/>
          <p:nvPr/>
        </p:nvPicPr>
        <p:blipFill>
          <a:blip r:embed="rId1"/>
          <a:stretch/>
        </p:blipFill>
        <p:spPr>
          <a:xfrm>
            <a:off x="2691000" y="1750320"/>
            <a:ext cx="3787920" cy="353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8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Подарок ко Дню матери готов!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5</TotalTime>
  <Application>LibreOffice/7.4.7.2$Linux_X86_64 LibreOffice_project/40$Build-2</Application>
  <AppVersion>15.0000</AppVersion>
  <Words>94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Вовчик</cp:lastModifiedBy>
  <dcterms:modified xsi:type="dcterms:W3CDTF">2018-03-22T02:47:53Z</dcterms:modified>
  <cp:revision>4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