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3ED-6AFC-45E8-9733-54BABC72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44A-EA3D-4DBA-9487-EDB41D19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AD6-4E4E-4C99-A3AD-027BC1BB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2F7-6706-4581-90FB-6D9CB249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8CB2-B9B3-4814-9545-06AC154B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9E1-C0B7-4E0C-B4A1-0F1F451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F60D-A6B7-44EF-8A56-5FC3E3F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3D75-7786-40BC-8924-85CD9BE0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C310-AB48-4158-BCE9-BE90A7F3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9799-239C-4321-91DC-D6812540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F692-6195-4BDF-B470-BC3A093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9D2-4AA1-4E10-BAE3-DE55D0E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3FD7-88A9-4F1A-A3D6-B107A5B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6126-82A8-441C-8696-2A716F8A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B334-5D63-4A61-86DC-7EC99AC7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8C61-7E42-46AB-A84B-0C3D67FB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972A-8171-4036-A775-D5CE4087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768-30EE-42E9-9F5A-9CE78DED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50B-D15E-4AEB-AB46-C36FF440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118-0756-40DC-BE18-46AB8A26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E45-BEC0-46B0-B5E4-5C8C7866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2FB-0993-4B73-B5E5-18032B15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B7F-371F-476E-85A8-3000827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7ED-052B-4A14-9741-54C6C809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8ADA-E76B-4219-BD59-595A8AE5C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661-2520-473F-8B49-4917175716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13880" y="642600"/>
            <a:ext cx="813132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Урок по тем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«Масса тел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Програм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«Планета знаний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ила ученица 6 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класса ЧОУ-СОШ «Новый путь» Кебекова Ма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1908000" y="549360"/>
            <a:ext cx="6840720" cy="3095640"/>
          </a:xfrm>
          <a:prstGeom prst="wedgeRoundRectCallout">
            <a:avLst>
              <a:gd name="adj1" fmla="val -31759"/>
              <a:gd name="adj2" fmla="val 86305"/>
              <a:gd name="adj3" fmla="val 16667"/>
            </a:avLst>
          </a:prstGeom>
          <a:solidFill>
            <a:srgbClr val="99ccff">
              <a:alpha val="1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700360" y="620640"/>
            <a:ext cx="61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66"/>
                </a:solidFill>
                <a:latin typeface="Comic Sans MS"/>
                <a:ea typeface="Arial"/>
              </a:rPr>
              <a:t>Учение всегда найдет примен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j0370140"/>
          <p:cNvPicPr/>
          <p:nvPr/>
        </p:nvPicPr>
        <p:blipFill>
          <a:blip r:embed="rId1"/>
          <a:stretch/>
        </p:blipFill>
        <p:spPr>
          <a:xfrm>
            <a:off x="539640" y="3403440"/>
            <a:ext cx="2955960" cy="3121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0" y="4000680"/>
            <a:ext cx="3922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илограм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ней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е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4360" y="1379520"/>
            <a:ext cx="244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л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6000" y="11239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 Black"/>
              </a:rPr>
              <a:t>вели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724360" y="1163520"/>
            <a:ext cx="34560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т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илограм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664000" y="1195560"/>
            <a:ext cx="266508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не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е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448000" y="1123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 Black"/>
              </a:rPr>
              <a:t>инстр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761080" y="8967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Arial Black"/>
              </a:rPr>
              <a:t>единицы изме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3"/>
          <p:cNvSpPr/>
          <p:nvPr/>
        </p:nvSpPr>
        <p:spPr>
          <a:xfrm>
            <a:off x="971640" y="44280"/>
            <a:ext cx="7056360" cy="50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Копия man"/>
          <p:cNvPicPr/>
          <p:nvPr/>
        </p:nvPicPr>
        <p:blipFill>
          <a:blip r:embed="rId1"/>
          <a:stretch/>
        </p:blipFill>
        <p:spPr>
          <a:xfrm>
            <a:off x="3851280" y="768240"/>
            <a:ext cx="1368360" cy="172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earth"/>
          <p:cNvPicPr/>
          <p:nvPr/>
        </p:nvPicPr>
        <p:blipFill>
          <a:blip r:embed="rId2"/>
          <a:stretch/>
        </p:blipFill>
        <p:spPr>
          <a:xfrm>
            <a:off x="3059280" y="2424240"/>
            <a:ext cx="2842920" cy="2570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опия man"/>
          <p:cNvPicPr/>
          <p:nvPr/>
        </p:nvPicPr>
        <p:blipFill>
          <a:blip r:embed="rId3"/>
          <a:stretch/>
        </p:blipFill>
        <p:spPr>
          <a:xfrm>
            <a:off x="5794200" y="3000240"/>
            <a:ext cx="1725840" cy="136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Копия man"/>
          <p:cNvPicPr/>
          <p:nvPr/>
        </p:nvPicPr>
        <p:blipFill>
          <a:blip r:embed="rId4"/>
          <a:stretch/>
        </p:blipFill>
        <p:spPr>
          <a:xfrm>
            <a:off x="1403280" y="3000240"/>
            <a:ext cx="1725840" cy="136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Копия man"/>
          <p:cNvPicPr/>
          <p:nvPr/>
        </p:nvPicPr>
        <p:blipFill>
          <a:blip r:embed="rId5"/>
          <a:stretch/>
        </p:blipFill>
        <p:spPr>
          <a:xfrm>
            <a:off x="3924360" y="5016600"/>
            <a:ext cx="1368360" cy="1725480"/>
          </a:xfrm>
          <a:prstGeom prst="rect">
            <a:avLst/>
          </a:prstGeom>
          <a:ln w="0">
            <a:noFill/>
          </a:ln>
        </p:spPr>
      </p:pic>
      <p:sp>
        <p:nvSpPr>
          <p:cNvPr id="116" name="Oval 19"/>
          <p:cNvSpPr/>
          <p:nvPr/>
        </p:nvSpPr>
        <p:spPr>
          <a:xfrm>
            <a:off x="3780000" y="911160"/>
            <a:ext cx="28728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5003640" y="911160"/>
            <a:ext cx="28764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1547640" y="2927520"/>
            <a:ext cx="287640" cy="288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1547640" y="4079880"/>
            <a:ext cx="287640" cy="2890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7020000" y="2855880"/>
            <a:ext cx="28872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24"/>
          <p:cNvSpPr/>
          <p:nvPr/>
        </p:nvSpPr>
        <p:spPr>
          <a:xfrm>
            <a:off x="7020000" y="4079880"/>
            <a:ext cx="28872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3851280" y="6311880"/>
            <a:ext cx="289080" cy="289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26"/>
          <p:cNvSpPr/>
          <p:nvPr/>
        </p:nvSpPr>
        <p:spPr>
          <a:xfrm>
            <a:off x="5003640" y="6311880"/>
            <a:ext cx="289080" cy="289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27"/>
          <p:cNvSpPr/>
          <p:nvPr/>
        </p:nvSpPr>
        <p:spPr>
          <a:xfrm>
            <a:off x="4284720" y="3432240"/>
            <a:ext cx="43164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500720" y="2568600"/>
            <a:ext cx="0" cy="3589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 flipH="1">
            <a:off x="5363640" y="3648240"/>
            <a:ext cx="36036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500720" y="4439880"/>
            <a:ext cx="0" cy="36036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3276720" y="3648240"/>
            <a:ext cx="35856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395280" y="-27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СИЛА ПРИТЯЖЕНИЯ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5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2.5E-006 0.0838 E">
                                      <p:cBhvr>
                                        <p:cTn id="3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8148E-006 L -0.07882 1.48148E-006 E">
                                      <p:cBhvr>
                                        <p:cTn id="4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2.5E-006 -0.09977 E">
                                      <p:cBhvr>
                                        <p:cTn id="4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07483 1.48148E-006 E">
                                      <p:cBhvr>
                                        <p:cTn id="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0.02379 0.21018 E">
                                      <p:cBhvr>
                                        <p:cTn id="4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0.01563 0.21018 E">
                                      <p:cBhvr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6 L 0.16545 -0.02107 E">
                                      <p:cBhvr>
                                        <p:cTn id="5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7.40741E-007 L 0.16545 0.03148 E">
                                      <p:cBhvr>
                                        <p:cTn id="5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23 L -0.15747 0.03172 E">
                                      <p:cBhvr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24 L -0.15747 -0.02083 E">
                                      <p:cBhvr>
                                        <p:cTn id="5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2361 -0.20995 E">
                                      <p:cBhvr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0.0158 -0.20995 E">
                                      <p:cBhvr>
                                        <p:cTn id="6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188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"/>
              </a:rPr>
              <a:t>Вставь слово, чтобы высказывание стало верны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9280" y="325908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) Чем больше масса тела, т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_______  тело притягивается к Зем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8000" y="40575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ильнее</a:t>
            </a:r>
            <a:r>
              <a:rPr b="1" lang="ru-RU" sz="3600" spc="-1" strike="noStrike">
                <a:solidFill>
                  <a:srgbClr val="ffad7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8920" y="498780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) Чем меньше  масса тела, т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_______  тело притягивается к Зем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50920" y="57801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лабее</a:t>
            </a:r>
            <a:r>
              <a:rPr b="1" lang="ru-RU" sz="3600" spc="-1" strike="noStrike">
                <a:solidFill>
                  <a:srgbClr val="ffad7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879480" y="6186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0" y="160344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ла притяжения зависит о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_______  т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20720" y="24019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массы</a:t>
            </a:r>
            <a:r>
              <a:rPr b="1" lang="ru-RU" sz="3600" spc="-1" strike="noStrike">
                <a:solidFill>
                  <a:srgbClr val="ffad7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1 кг = 1000 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24000" y="2565360"/>
            <a:ext cx="475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 кг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924360" y="2637000"/>
            <a:ext cx="475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1000х2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564000" y="2637000"/>
            <a:ext cx="475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000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82560" y="4149720"/>
            <a:ext cx="734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3 кг = 3000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1476360" y="404640"/>
            <a:ext cx="7272360" cy="2880000"/>
          </a:xfrm>
          <a:prstGeom prst="wedgeRoundRectCallout">
            <a:avLst>
              <a:gd name="adj1" fmla="val -19939"/>
              <a:gd name="adj2" fmla="val 78777"/>
              <a:gd name="adj3" fmla="val 16667"/>
            </a:avLst>
          </a:prstGeom>
          <a:solidFill>
            <a:srgbClr val="99ccff">
              <a:alpha val="1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582560" y="765000"/>
            <a:ext cx="756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Comic Sans MS"/>
                <a:ea typeface="Arial"/>
              </a:rPr>
              <a:t>Спасибо за работу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Comic Sans MS"/>
                <a:ea typeface="Arial"/>
              </a:rPr>
              <a:t>    </a:t>
            </a:r>
            <a:r>
              <a:rPr b="1" i="1" lang="ru-RU" sz="5400" spc="-1" strike="noStrike">
                <a:solidFill>
                  <a:srgbClr val="ffff66"/>
                </a:solidFill>
                <a:latin typeface="Comic Sans MS"/>
                <a:ea typeface="Arial"/>
              </a:rPr>
              <a:t>на урок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j0370140"/>
          <p:cNvPicPr/>
          <p:nvPr/>
        </p:nvPicPr>
        <p:blipFill>
          <a:blip r:embed="rId1"/>
          <a:stretch/>
        </p:blipFill>
        <p:spPr>
          <a:xfrm>
            <a:off x="843120" y="2924280"/>
            <a:ext cx="295560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8:03:14Z</dcterms:created>
  <dc:creator>Ксения</dc:creator>
  <dc:description/>
  <dc:language>en-US</dc:language>
  <cp:lastModifiedBy>Admin</cp:lastModifiedBy>
  <dcterms:modified xsi:type="dcterms:W3CDTF">2014-11-19T18:41:29Z</dcterms:modified>
  <cp:revision>18</cp:revision>
  <dc:subject/>
  <dc:title>Слайд 1</dc:title>
</cp:coreProperties>
</file>