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2815-E8E7-4354-86E8-049B2E26C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D881-2171-4832-BF93-2C0508E5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5740-3985-48AA-B519-55B180426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7EBB-3001-425B-9D36-DB7DD3E2A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6145-C2E2-4218-87AD-2661FF9C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31A2-74EB-43F8-9676-3296D3C1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B46B-798D-46F2-8C72-F499C036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5CD4-C3C6-437F-B6D1-5F25C531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58F9-2B62-4C2B-80C4-0B111F0E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255D-0F05-4766-985F-91932237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9DE9-BEB4-4EB1-88BA-3035DFEF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9A45-B851-4C38-90E1-C66AA826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3309-DB15-4E0D-BC77-CB88B128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09C2-7008-49C7-86B6-FCA33767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40CB-F6B8-4488-A41B-0FB867C6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AE24-0F30-450E-A29B-A17B9362F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8F25-E85D-43F0-8825-D8F885169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14E1-BE3C-4B4C-A927-ECAB45CD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584E-E92B-4D22-899E-194E7708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7967-DAB9-4C38-A5C9-E500D05B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79D2-2168-4AA9-B460-9AC6F08C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4AA9-C176-46A0-A2C3-7ADC1635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62B8-2BA8-4194-B777-BCB6FD41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7D99-79F6-4925-BD25-BC23F8D4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0943-7604-4EC9-9803-6D6882D660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18A9-1979-444D-B859-FA6E1EFB1B4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713880" y="642600"/>
            <a:ext cx="813132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Arial"/>
              </a:rPr>
              <a:t>Урок по теме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Arial"/>
              </a:rPr>
              <a:t>«Масса тела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Arial"/>
              </a:rPr>
              <a:t>Программ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Arial"/>
              </a:rPr>
              <a:t>«Планета знаний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товила ученица 6 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» класса ЧОУ-СОШ «Новый путь» Кебекова Мад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2"/>
          <p:cNvSpPr/>
          <p:nvPr/>
        </p:nvSpPr>
        <p:spPr>
          <a:xfrm>
            <a:off x="1908000" y="549360"/>
            <a:ext cx="6840720" cy="3095640"/>
          </a:xfrm>
          <a:prstGeom prst="wedgeRoundRectCallout">
            <a:avLst>
              <a:gd name="adj1" fmla="val -31759"/>
              <a:gd name="adj2" fmla="val 86305"/>
              <a:gd name="adj3" fmla="val 16667"/>
            </a:avLst>
          </a:prstGeom>
          <a:solidFill>
            <a:srgbClr val="99ccff">
              <a:alpha val="1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700360" y="620640"/>
            <a:ext cx="611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66"/>
                </a:solidFill>
                <a:latin typeface="Comic Sans MS"/>
                <a:ea typeface="Arial"/>
              </a:rPr>
              <a:t>Учение всегда найдет применени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" descr="j0370140"/>
          <p:cNvPicPr/>
          <p:nvPr/>
        </p:nvPicPr>
        <p:blipFill>
          <a:blip r:embed="rId1"/>
          <a:stretch/>
        </p:blipFill>
        <p:spPr>
          <a:xfrm>
            <a:off x="539640" y="3403440"/>
            <a:ext cx="2955960" cy="31212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0" y="4000680"/>
            <a:ext cx="39225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78920" y="0"/>
            <a:ext cx="87138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ли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ас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етр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рем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илограм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асс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иней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а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ес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44360" y="1379520"/>
            <a:ext cx="2448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ли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рем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асс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16000" y="112392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66"/>
                </a:solidFill>
                <a:uFillTx/>
                <a:latin typeface="Arial Black"/>
              </a:rPr>
              <a:t>велич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5724360" y="1163520"/>
            <a:ext cx="3456000" cy="49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ет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илограм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а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2664000" y="1195560"/>
            <a:ext cx="266508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ас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линей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ес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2448000" y="112392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66"/>
                </a:solidFill>
                <a:uFillTx/>
                <a:latin typeface="Arial Black"/>
              </a:rPr>
              <a:t>инструмен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5761080" y="89676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66"/>
                </a:solidFill>
                <a:uFillTx/>
                <a:latin typeface="Arial Black"/>
              </a:rPr>
              <a:t>единицы измер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3"/>
          <p:cNvSpPr/>
          <p:nvPr/>
        </p:nvSpPr>
        <p:spPr>
          <a:xfrm>
            <a:off x="971640" y="44280"/>
            <a:ext cx="7056360" cy="50508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Копия man"/>
          <p:cNvPicPr/>
          <p:nvPr/>
        </p:nvPicPr>
        <p:blipFill>
          <a:blip r:embed="rId1"/>
          <a:stretch/>
        </p:blipFill>
        <p:spPr>
          <a:xfrm>
            <a:off x="3851280" y="768240"/>
            <a:ext cx="1368360" cy="1725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earth"/>
          <p:cNvPicPr/>
          <p:nvPr/>
        </p:nvPicPr>
        <p:blipFill>
          <a:blip r:embed="rId2"/>
          <a:stretch/>
        </p:blipFill>
        <p:spPr>
          <a:xfrm>
            <a:off x="3059280" y="2424240"/>
            <a:ext cx="2842920" cy="2570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Копия man"/>
          <p:cNvPicPr/>
          <p:nvPr/>
        </p:nvPicPr>
        <p:blipFill>
          <a:blip r:embed="rId3"/>
          <a:stretch/>
        </p:blipFill>
        <p:spPr>
          <a:xfrm>
            <a:off x="5794200" y="3000240"/>
            <a:ext cx="1725840" cy="1368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Копия man"/>
          <p:cNvPicPr/>
          <p:nvPr/>
        </p:nvPicPr>
        <p:blipFill>
          <a:blip r:embed="rId4"/>
          <a:stretch/>
        </p:blipFill>
        <p:spPr>
          <a:xfrm>
            <a:off x="1403280" y="3000240"/>
            <a:ext cx="1725840" cy="1368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Копия man"/>
          <p:cNvPicPr/>
          <p:nvPr/>
        </p:nvPicPr>
        <p:blipFill>
          <a:blip r:embed="rId5"/>
          <a:stretch/>
        </p:blipFill>
        <p:spPr>
          <a:xfrm>
            <a:off x="3924360" y="5016600"/>
            <a:ext cx="1368360" cy="1725480"/>
          </a:xfrm>
          <a:prstGeom prst="rect">
            <a:avLst/>
          </a:prstGeom>
          <a:ln w="0">
            <a:noFill/>
          </a:ln>
        </p:spPr>
      </p:pic>
      <p:sp>
        <p:nvSpPr>
          <p:cNvPr id="116" name="Oval 19"/>
          <p:cNvSpPr/>
          <p:nvPr/>
        </p:nvSpPr>
        <p:spPr>
          <a:xfrm>
            <a:off x="3780000" y="911160"/>
            <a:ext cx="287280" cy="287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20"/>
          <p:cNvSpPr/>
          <p:nvPr/>
        </p:nvSpPr>
        <p:spPr>
          <a:xfrm>
            <a:off x="5003640" y="911160"/>
            <a:ext cx="287640" cy="287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21"/>
          <p:cNvSpPr/>
          <p:nvPr/>
        </p:nvSpPr>
        <p:spPr>
          <a:xfrm>
            <a:off x="1547640" y="2927520"/>
            <a:ext cx="287640" cy="2887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22"/>
          <p:cNvSpPr/>
          <p:nvPr/>
        </p:nvSpPr>
        <p:spPr>
          <a:xfrm>
            <a:off x="1547640" y="4079880"/>
            <a:ext cx="287640" cy="2890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23"/>
          <p:cNvSpPr/>
          <p:nvPr/>
        </p:nvSpPr>
        <p:spPr>
          <a:xfrm>
            <a:off x="7020000" y="2855880"/>
            <a:ext cx="288720" cy="287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24"/>
          <p:cNvSpPr/>
          <p:nvPr/>
        </p:nvSpPr>
        <p:spPr>
          <a:xfrm>
            <a:off x="7020000" y="4079880"/>
            <a:ext cx="288720" cy="287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25"/>
          <p:cNvSpPr/>
          <p:nvPr/>
        </p:nvSpPr>
        <p:spPr>
          <a:xfrm>
            <a:off x="3851280" y="6311880"/>
            <a:ext cx="289080" cy="289080"/>
          </a:xfrm>
          <a:prstGeom prst="ellipse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26"/>
          <p:cNvSpPr/>
          <p:nvPr/>
        </p:nvSpPr>
        <p:spPr>
          <a:xfrm>
            <a:off x="5003640" y="6311880"/>
            <a:ext cx="289080" cy="289080"/>
          </a:xfrm>
          <a:prstGeom prst="ellipse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27"/>
          <p:cNvSpPr/>
          <p:nvPr/>
        </p:nvSpPr>
        <p:spPr>
          <a:xfrm>
            <a:off x="4284720" y="3432240"/>
            <a:ext cx="431640" cy="431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28"/>
          <p:cNvSpPr/>
          <p:nvPr/>
        </p:nvSpPr>
        <p:spPr>
          <a:xfrm>
            <a:off x="4500720" y="2568600"/>
            <a:ext cx="0" cy="35892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29"/>
          <p:cNvSpPr/>
          <p:nvPr/>
        </p:nvSpPr>
        <p:spPr>
          <a:xfrm flipH="1">
            <a:off x="5363640" y="3648240"/>
            <a:ext cx="36036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30"/>
          <p:cNvSpPr/>
          <p:nvPr/>
        </p:nvSpPr>
        <p:spPr>
          <a:xfrm flipV="1">
            <a:off x="4500720" y="4439880"/>
            <a:ext cx="0" cy="36036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31"/>
          <p:cNvSpPr/>
          <p:nvPr/>
        </p:nvSpPr>
        <p:spPr>
          <a:xfrm>
            <a:off x="3276720" y="3648240"/>
            <a:ext cx="35856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32"/>
          <p:cNvSpPr/>
          <p:nvPr/>
        </p:nvSpPr>
        <p:spPr>
          <a:xfrm>
            <a:off x="395280" y="-270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СИЛА ПРИТЯЖЕНИЯ ЗЕМ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35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3794"/>
                </a:moveTo>
                <a:lnTo>
                  <a:pt x="20863" y="10800"/>
                </a:lnTo>
                <a:lnTo>
                  <a:pt x="685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07407E-006 L 2.5E-006 0.0838 E">
                                      <p:cBhvr>
                                        <p:cTn id="39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48148E-006 L -0.07882 1.48148E-006 E">
                                      <p:cBhvr>
                                        <p:cTn id="41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81481E-006 L 2.5E-006 -0.09977 E">
                                      <p:cBhvr>
                                        <p:cTn id="43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48148E-006 L 0.07483 1.48148E-006 E">
                                      <p:cBhvr>
                                        <p:cTn id="45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023 L 0.02379 0.21018 E">
                                      <p:cBhvr>
                                        <p:cTn id="49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023 L -0.01563 0.21018 E">
                                      <p:cBhvr>
                                        <p:cTn id="51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7037E-006 L 0.16545 -0.02107 E">
                                      <p:cBhvr>
                                        <p:cTn id="53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7.40741E-007 L 0.16545 0.03148 E">
                                      <p:cBhvr>
                                        <p:cTn id="55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.00023 L -0.15747 0.03172 E">
                                      <p:cBhvr>
                                        <p:cTn id="57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.00024 L -0.15747 -0.02083 E">
                                      <p:cBhvr>
                                        <p:cTn id="59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40741E-007 L 0.02361 -0.20995 E">
                                      <p:cBhvr>
                                        <p:cTn id="61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7.40741E-007 L -0.0158 -0.20995 E">
                                      <p:cBhvr>
                                        <p:cTn id="63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3840" y="188640"/>
            <a:ext cx="8713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b7"/>
                </a:solidFill>
                <a:uFillTx/>
                <a:latin typeface="Arial"/>
              </a:rPr>
              <a:t>Вставь слово, чтобы высказывание стало верным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79280" y="3259080"/>
            <a:ext cx="896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) Чем больше масса тела, тем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_______  тело притягивается к Земл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08000" y="40575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сильнее</a:t>
            </a:r>
            <a:r>
              <a:rPr b="1" lang="ru-RU" sz="3600" spc="-1" strike="noStrike">
                <a:solidFill>
                  <a:srgbClr val="ffad75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88920" y="4987800"/>
            <a:ext cx="896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3) Чем меньше  масса тела, тем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_______  тело притягивается к Земл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250920" y="57801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слабее</a:t>
            </a:r>
            <a:r>
              <a:rPr b="1" lang="ru-RU" sz="3600" spc="-1" strike="noStrike">
                <a:solidFill>
                  <a:srgbClr val="ffad75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879480" y="6186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0" y="1603440"/>
            <a:ext cx="896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ила притяжения зависит о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_______  тел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720720" y="24019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массы</a:t>
            </a:r>
            <a:r>
              <a:rPr b="1" lang="ru-RU" sz="3600" spc="-1" strike="noStrike">
                <a:solidFill>
                  <a:srgbClr val="ffad75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"/>
              </a:rPr>
              <a:t>1 кг = 1000 г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24000" y="2565360"/>
            <a:ext cx="4752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"/>
              </a:rPr>
              <a:t>2 кг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924360" y="2637000"/>
            <a:ext cx="47530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"/>
              </a:rPr>
              <a:t>1000х2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564000" y="2637000"/>
            <a:ext cx="47530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"/>
              </a:rPr>
              <a:t>2000г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682560" y="4149720"/>
            <a:ext cx="7345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"/>
              </a:rPr>
              <a:t>3 кг = 3000г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/>
          <p:cNvSpPr/>
          <p:nvPr/>
        </p:nvSpPr>
        <p:spPr>
          <a:xfrm>
            <a:off x="1476360" y="404640"/>
            <a:ext cx="7272360" cy="2880000"/>
          </a:xfrm>
          <a:prstGeom prst="wedgeRoundRectCallout">
            <a:avLst>
              <a:gd name="adj1" fmla="val -19939"/>
              <a:gd name="adj2" fmla="val 78777"/>
              <a:gd name="adj3" fmla="val 16667"/>
            </a:avLst>
          </a:prstGeom>
          <a:solidFill>
            <a:srgbClr val="99ccff">
              <a:alpha val="1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582560" y="765000"/>
            <a:ext cx="7561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66"/>
                </a:solidFill>
                <a:latin typeface="Comic Sans MS"/>
                <a:ea typeface="Arial"/>
              </a:rPr>
              <a:t>Спасибо за работу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66"/>
                </a:solidFill>
                <a:latin typeface="Comic Sans MS"/>
                <a:ea typeface="Arial"/>
              </a:rPr>
              <a:t>    </a:t>
            </a:r>
            <a:r>
              <a:rPr b="1" i="1" lang="ru-RU" sz="5400" spc="-1" strike="noStrike">
                <a:solidFill>
                  <a:srgbClr val="ffff66"/>
                </a:solidFill>
                <a:latin typeface="Comic Sans MS"/>
                <a:ea typeface="Arial"/>
              </a:rPr>
              <a:t>на уроке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4" descr="j0370140"/>
          <p:cNvPicPr/>
          <p:nvPr/>
        </p:nvPicPr>
        <p:blipFill>
          <a:blip r:embed="rId1"/>
          <a:stretch/>
        </p:blipFill>
        <p:spPr>
          <a:xfrm>
            <a:off x="843120" y="2924280"/>
            <a:ext cx="295560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08:03:14Z</dcterms:created>
  <dc:creator>Ксения</dc:creator>
  <dc:description/>
  <dc:language>en-US</dc:language>
  <cp:lastModifiedBy>Admin</cp:lastModifiedBy>
  <dcterms:modified xsi:type="dcterms:W3CDTF">2014-11-19T18:41:29Z</dcterms:modified>
  <cp:revision>18</cp:revision>
  <dc:subject/>
  <dc:title>Слайд 1</dc:title>
</cp:coreProperties>
</file>