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28.wmf" ContentType="image/x-wmf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66B7-B896-43D1-80FB-2F9CA7E1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3AFF-FB34-4679-922B-DCE04CF4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0DE5-0BAB-4D7D-8B5B-4394DEFA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E726-612E-47EE-91DC-4ECCFFC0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2856-63EB-4198-98AA-CCFA28C9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5F35-9F58-4BD9-9189-7CDA930E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62E6-9C16-4C78-8939-24923E14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0CB3-4F22-4784-AD35-78DBCB82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8D7D-5B3F-4158-8590-7DC60306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4EE9-5BC4-4ADF-9204-533AD954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21F4-4EE2-4B6F-9901-27480817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C253-2493-4850-A0C9-BDE1B55F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38DA-95D8-4A0B-AA22-515ABE22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CE03-31D5-44CE-BE0B-A2C29CC3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0774-DF31-4A03-B656-8A844178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5FE6-F5B7-4292-9D64-2A8EDD58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BC98-356A-4870-9204-968F3709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5C2B-BB5F-4D61-9FB6-1D90C2E4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9687-BC7E-45DF-B741-33611ED5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49E8-B0CF-4155-B69E-327E6EC6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CB2D-331C-49F7-8C14-BBE80844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034C-9E4D-424C-91A2-769C76F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5046-A9FB-4BE9-807B-D39399D9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E97B-01D4-49EA-B0B2-307C0DA8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1717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d8d882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97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7f794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7f794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80808"/>
                </a:gs>
                <a:gs pos="50000">
                  <a:srgbClr val="101010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C642-8EF1-4711-A4C3-00937596BFF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1717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d8d882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97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7f794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7f794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80808"/>
                </a:gs>
                <a:gs pos="50000">
                  <a:srgbClr val="101010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385A-B012-4BE4-A69C-27E3D8C504C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jpeg"/><Relationship Id="rId16" Type="http://schemas.openxmlformats.org/officeDocument/2006/relationships/slide" Target="slide3.xml"/><Relationship Id="rId17" Type="http://schemas.openxmlformats.org/officeDocument/2006/relationships/slide" Target="slide3.xml"/><Relationship Id="rId18" Type="http://schemas.openxmlformats.org/officeDocument/2006/relationships/slide" Target="slide5.xml"/><Relationship Id="rId19" Type="http://schemas.openxmlformats.org/officeDocument/2006/relationships/slide" Target="slide6.xml"/><Relationship Id="rId20" Type="http://schemas.openxmlformats.org/officeDocument/2006/relationships/slide" Target="slide7.xml"/><Relationship Id="rId21" Type="http://schemas.openxmlformats.org/officeDocument/2006/relationships/slide" Target="slide8.xml"/><Relationship Id="rId22" Type="http://schemas.openxmlformats.org/officeDocument/2006/relationships/slide" Target="slide10.xml"/><Relationship Id="rId23" Type="http://schemas.openxmlformats.org/officeDocument/2006/relationships/slide" Target="slide11.xml"/><Relationship Id="rId24" Type="http://schemas.openxmlformats.org/officeDocument/2006/relationships/slide" Target="slide12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slide" Target="slide15.xml"/><Relationship Id="rId28" Type="http://schemas.openxmlformats.org/officeDocument/2006/relationships/slide" Target="slide16.xml"/><Relationship Id="rId29" Type="http://schemas.openxmlformats.org/officeDocument/2006/relationships/slide" Target=""/><Relationship Id="rId30" Type="http://schemas.openxmlformats.org/officeDocument/2006/relationships/slide" Target="slide9.xml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-3877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Методическая разработка</a:t>
            </a:r>
            <a:br>
              <a:rPr sz="1600"/>
            </a:b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«Влияние постановки сюжетно- игровых танцев на развитие творческих способностей детей дошкольного возраста» </a:t>
            </a:r>
            <a:br>
              <a:rPr sz="2400"/>
            </a:br>
            <a:br>
              <a:rPr sz="1600"/>
            </a:b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Музыкально-игровой спектакль:</a:t>
            </a:r>
            <a:br>
              <a:rPr sz="1600"/>
            </a:b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«Невероятные приключения коротышек и малышек в цветочном городе»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Л.Е.Весел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Музыкальный руководите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ГБДОУ №2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Василеостровского райо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neznayka"/>
          <p:cNvPicPr/>
          <p:nvPr/>
        </p:nvPicPr>
        <p:blipFill>
          <a:blip r:embed="rId1"/>
          <a:stretch/>
        </p:blipFill>
        <p:spPr>
          <a:xfrm>
            <a:off x="971640" y="3068640"/>
            <a:ext cx="266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Книга знаний и открытий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5652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Очень любим мы чита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Будем всё на свете зн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5" descr="IMG_7784"/>
          <p:cNvPicPr/>
          <p:nvPr/>
        </p:nvPicPr>
        <p:blipFill>
          <a:blip r:embed="rId1"/>
          <a:stretch/>
        </p:blipFill>
        <p:spPr>
          <a:xfrm>
            <a:off x="0" y="1989000"/>
            <a:ext cx="4033800" cy="2810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IMG_7793"/>
          <p:cNvPicPr/>
          <p:nvPr/>
        </p:nvPicPr>
        <p:blipFill>
          <a:blip r:embed="rId2"/>
          <a:stretch/>
        </p:blipFill>
        <p:spPr>
          <a:xfrm>
            <a:off x="4067280" y="3284640"/>
            <a:ext cx="4032000" cy="286992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7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Представление коротыше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И живут в стране ребята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9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амечательный народ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9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аждый занят своим дел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9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то танцует, кто поё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9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9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4" descr="IMG_7786"/>
          <p:cNvPicPr/>
          <p:nvPr/>
        </p:nvPicPr>
        <p:blipFill>
          <a:blip r:embed="rId1"/>
          <a:stretch/>
        </p:blipFill>
        <p:spPr>
          <a:xfrm>
            <a:off x="5435640" y="1413000"/>
            <a:ext cx="3132000" cy="2303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IMG_7787"/>
          <p:cNvPicPr/>
          <p:nvPr/>
        </p:nvPicPr>
        <p:blipFill>
          <a:blip r:embed="rId2"/>
          <a:stretch/>
        </p:blipFill>
        <p:spPr>
          <a:xfrm>
            <a:off x="324000" y="4005360"/>
            <a:ext cx="4033800" cy="26622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7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9" descr="IMG_7799"/>
          <p:cNvPicPr/>
          <p:nvPr/>
        </p:nvPicPr>
        <p:blipFill>
          <a:blip r:embed="rId3"/>
          <a:stretch/>
        </p:blipFill>
        <p:spPr>
          <a:xfrm>
            <a:off x="4859280" y="4005360"/>
            <a:ext cx="4105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Синеглазка и другие малышк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Глаза мои , как василёчк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Я так красива, как цветочк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ришла я к вам из этой сказ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Меня зовут все Синеглаз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5" descr="IMG_7808"/>
          <p:cNvPicPr/>
          <p:nvPr/>
        </p:nvPicPr>
        <p:blipFill>
          <a:blip r:embed="rId1"/>
          <a:stretch/>
        </p:blipFill>
        <p:spPr>
          <a:xfrm>
            <a:off x="5076720" y="1197000"/>
            <a:ext cx="3095640" cy="2462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IMG_7811"/>
          <p:cNvPicPr/>
          <p:nvPr/>
        </p:nvPicPr>
        <p:blipFill>
          <a:blip r:embed="rId2"/>
          <a:stretch/>
        </p:blipFill>
        <p:spPr>
          <a:xfrm>
            <a:off x="4932360" y="3860640"/>
            <a:ext cx="3780000" cy="2997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IMG_7816"/>
          <p:cNvPicPr/>
          <p:nvPr/>
        </p:nvPicPr>
        <p:blipFill>
          <a:blip r:embed="rId3"/>
          <a:stretch/>
        </p:blipFill>
        <p:spPr>
          <a:xfrm>
            <a:off x="0" y="3860640"/>
            <a:ext cx="4968720" cy="299736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1"/>
          <p:cNvSpPr/>
          <p:nvPr/>
        </p:nvSpPr>
        <p:spPr>
          <a:xfrm>
            <a:off x="8820000" y="6570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12179" y="3837"/>
                </a:moveTo>
                <a:lnTo>
                  <a:pt x="14755" y="6448"/>
                </a:ln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lnTo>
                  <a:pt x="19142" y="10800"/>
                </a:lnTo>
                <a:lnTo>
                  <a:pt x="17488" y="10800"/>
                </a:lnTo>
                <a:lnTo>
                  <a:pt x="17488" y="17989"/>
                </a:lnTo>
                <a:lnTo>
                  <a:pt x="6869" y="17989"/>
                </a:lnTo>
                <a:lnTo>
                  <a:pt x="6869" y="10800"/>
                </a:lnTo>
                <a:lnTo>
                  <a:pt x="5216" y="10800"/>
                </a:lnTo>
                <a:close/>
              </a:path>
              <a:path fill="darkenLess" w="24357" h="21600">
                <a:moveTo>
                  <a:pt x="14755" y="6448"/>
                </a:move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close/>
              </a:path>
              <a:path fill="darkenLess" w="24357" h="21600">
                <a:moveTo>
                  <a:pt x="11256" y="14299"/>
                </a:moveTo>
                <a:lnTo>
                  <a:pt x="13101" y="14299"/>
                </a:lnTo>
                <a:lnTo>
                  <a:pt x="13101" y="17989"/>
                </a:lnTo>
                <a:lnTo>
                  <a:pt x="17488" y="17989"/>
                </a:lnTo>
                <a:lnTo>
                  <a:pt x="17488" y="10800"/>
                </a:lnTo>
                <a:lnTo>
                  <a:pt x="6869" y="10800"/>
                </a:lnTo>
                <a:lnTo>
                  <a:pt x="6869" y="17989"/>
                </a:lnTo>
                <a:lnTo>
                  <a:pt x="11256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Незнайка в Цветочном город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сем и каждому скажу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Я всё знаю, всё мог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4" descr="IMG_7822"/>
          <p:cNvPicPr/>
          <p:nvPr/>
        </p:nvPicPr>
        <p:blipFill>
          <a:blip r:embed="rId1"/>
          <a:stretch/>
        </p:blipFill>
        <p:spPr>
          <a:xfrm>
            <a:off x="179280" y="2924280"/>
            <a:ext cx="4718160" cy="3527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IMG_7820"/>
          <p:cNvPicPr/>
          <p:nvPr/>
        </p:nvPicPr>
        <p:blipFill>
          <a:blip r:embed="rId2"/>
          <a:stretch/>
        </p:blipFill>
        <p:spPr>
          <a:xfrm>
            <a:off x="5003640" y="1341360"/>
            <a:ext cx="3745080" cy="30243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4932360" y="465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Я, Незнайка, всех умне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5003640" y="5373720"/>
            <a:ext cx="3889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просите это у друз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Незнайка рисует портреты коротышек и малыше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се сюда скорей беги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ас хочу нарисова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Тот кто хочет- поспеши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Я не буду долго жд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9" name="Picture 4" descr="IMG_7834"/>
          <p:cNvPicPr/>
          <p:nvPr/>
        </p:nvPicPr>
        <p:blipFill>
          <a:blip r:embed="rId1"/>
          <a:stretch/>
        </p:blipFill>
        <p:spPr>
          <a:xfrm>
            <a:off x="4643280" y="1413000"/>
            <a:ext cx="3384720" cy="2457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IMG_7831"/>
          <p:cNvPicPr/>
          <p:nvPr/>
        </p:nvPicPr>
        <p:blipFill>
          <a:blip r:embed="rId2"/>
          <a:stretch/>
        </p:blipFill>
        <p:spPr>
          <a:xfrm>
            <a:off x="324000" y="3789360"/>
            <a:ext cx="5040000" cy="292428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6"/>
          <p:cNvSpPr/>
          <p:nvPr/>
        </p:nvSpPr>
        <p:spPr>
          <a:xfrm>
            <a:off x="8854920" y="657072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10868" y="3837"/>
                </a:moveTo>
                <a:lnTo>
                  <a:pt x="13444" y="6448"/>
                </a:lnTo>
                <a:lnTo>
                  <a:pt x="13444" y="4707"/>
                </a:lnTo>
                <a:lnTo>
                  <a:pt x="15219" y="4707"/>
                </a:lnTo>
                <a:lnTo>
                  <a:pt x="15219" y="8224"/>
                </a:lnTo>
                <a:lnTo>
                  <a:pt x="17831" y="10800"/>
                </a:lnTo>
                <a:lnTo>
                  <a:pt x="16177" y="10800"/>
                </a:lnTo>
                <a:lnTo>
                  <a:pt x="16177" y="17989"/>
                </a:lnTo>
                <a:lnTo>
                  <a:pt x="5558" y="17989"/>
                </a:lnTo>
                <a:lnTo>
                  <a:pt x="5558" y="10800"/>
                </a:lnTo>
                <a:lnTo>
                  <a:pt x="3905" y="10800"/>
                </a:lnTo>
                <a:close/>
              </a:path>
              <a:path fill="darkenLess" w="21735" h="21600">
                <a:moveTo>
                  <a:pt x="13444" y="6448"/>
                </a:moveTo>
                <a:lnTo>
                  <a:pt x="13444" y="4707"/>
                </a:lnTo>
                <a:lnTo>
                  <a:pt x="15219" y="4707"/>
                </a:lnTo>
                <a:lnTo>
                  <a:pt x="15219" y="8224"/>
                </a:lnTo>
                <a:close/>
              </a:path>
              <a:path fill="darkenLess" w="21735" h="21600">
                <a:moveTo>
                  <a:pt x="9945" y="14299"/>
                </a:moveTo>
                <a:lnTo>
                  <a:pt x="11790" y="14299"/>
                </a:lnTo>
                <a:lnTo>
                  <a:pt x="11790" y="17989"/>
                </a:lnTo>
                <a:lnTo>
                  <a:pt x="16177" y="17989"/>
                </a:lnTo>
                <a:lnTo>
                  <a:pt x="16177" y="10800"/>
                </a:lnTo>
                <a:lnTo>
                  <a:pt x="5558" y="10800"/>
                </a:lnTo>
                <a:lnTo>
                  <a:pt x="5558" y="17989"/>
                </a:lnTo>
                <a:lnTo>
                  <a:pt x="9945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7" descr="IMG_7832"/>
          <p:cNvPicPr/>
          <p:nvPr/>
        </p:nvPicPr>
        <p:blipFill>
          <a:blip r:embed="rId3"/>
          <a:stretch/>
        </p:blipFill>
        <p:spPr>
          <a:xfrm>
            <a:off x="5219640" y="3860640"/>
            <a:ext cx="36244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Разукрасим все планет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обываем в чужих краях, незнакомых городах.(заключительный танец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Picture 4" descr="IMG_7847"/>
          <p:cNvPicPr/>
          <p:nvPr/>
        </p:nvPicPr>
        <p:blipFill>
          <a:blip r:embed="rId1"/>
          <a:stretch/>
        </p:blipFill>
        <p:spPr>
          <a:xfrm>
            <a:off x="0" y="2852640"/>
            <a:ext cx="4356000" cy="3672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IMG_7849"/>
          <p:cNvPicPr/>
          <p:nvPr/>
        </p:nvPicPr>
        <p:blipFill>
          <a:blip r:embed="rId2"/>
          <a:stretch/>
        </p:blipFill>
        <p:spPr>
          <a:xfrm>
            <a:off x="4319640" y="2852640"/>
            <a:ext cx="4824360" cy="36720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10"/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Мониторинг развития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музыкальности дете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499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«С детьми играют, но они при этом не осознают, что 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уча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0" name="Object 41"/>
          <p:cNvGraphicFramePr/>
          <p:nvPr/>
        </p:nvGraphicFramePr>
        <p:xfrm>
          <a:off x="1332000" y="2421000"/>
          <a:ext cx="6003720" cy="40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21000"/>
                    <a:ext cx="6003720" cy="400680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2" name="Oval 45"/>
          <p:cNvSpPr/>
          <p:nvPr/>
        </p:nvSpPr>
        <p:spPr>
          <a:xfrm>
            <a:off x="7236000" y="4005360"/>
            <a:ext cx="21564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48"/>
          <p:cNvSpPr/>
          <p:nvPr/>
        </p:nvSpPr>
        <p:spPr>
          <a:xfrm>
            <a:off x="7236000" y="436572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49"/>
          <p:cNvSpPr/>
          <p:nvPr/>
        </p:nvSpPr>
        <p:spPr>
          <a:xfrm>
            <a:off x="7236000" y="4797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50"/>
          <p:cNvSpPr/>
          <p:nvPr/>
        </p:nvSpPr>
        <p:spPr>
          <a:xfrm>
            <a:off x="871236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11520" y="3837"/>
                </a:moveTo>
                <a:lnTo>
                  <a:pt x="14096" y="6448"/>
                </a:lnTo>
                <a:lnTo>
                  <a:pt x="14096" y="4707"/>
                </a:lnTo>
                <a:lnTo>
                  <a:pt x="15872" y="4707"/>
                </a:lnTo>
                <a:lnTo>
                  <a:pt x="15872" y="8224"/>
                </a:lnTo>
                <a:lnTo>
                  <a:pt x="18483" y="10800"/>
                </a:lnTo>
                <a:lnTo>
                  <a:pt x="16829" y="10800"/>
                </a:lnTo>
                <a:lnTo>
                  <a:pt x="16829" y="17989"/>
                </a:lnTo>
                <a:lnTo>
                  <a:pt x="6211" y="17989"/>
                </a:lnTo>
                <a:lnTo>
                  <a:pt x="6211" y="10800"/>
                </a:lnTo>
                <a:lnTo>
                  <a:pt x="4557" y="10800"/>
                </a:lnTo>
                <a:close/>
              </a:path>
              <a:path fill="darkenLess" w="23040" h="21600">
                <a:moveTo>
                  <a:pt x="14096" y="6448"/>
                </a:moveTo>
                <a:lnTo>
                  <a:pt x="14096" y="4707"/>
                </a:lnTo>
                <a:lnTo>
                  <a:pt x="15872" y="4707"/>
                </a:lnTo>
                <a:lnTo>
                  <a:pt x="15872" y="8224"/>
                </a:lnTo>
                <a:close/>
              </a:path>
              <a:path fill="darkenLess" w="23040" h="21600">
                <a:moveTo>
                  <a:pt x="10597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29" y="17989"/>
                </a:lnTo>
                <a:lnTo>
                  <a:pt x="16829" y="10800"/>
                </a:lnTo>
                <a:lnTo>
                  <a:pt x="6211" y="10800"/>
                </a:lnTo>
                <a:lnTo>
                  <a:pt x="6211" y="17989"/>
                </a:lnTo>
                <a:lnTo>
                  <a:pt x="10597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арта диагностики уровня развития музыкальности детей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0" y="1413000"/>
          <a:ext cx="8172360" cy="5595840"/>
        </p:xfrm>
        <a:graphic>
          <a:graphicData uri="http://schemas.openxmlformats.org/drawingml/2006/table">
            <a:tbl>
              <a:tblPr/>
              <a:tblGrid>
                <a:gridCol w="5338800"/>
                <a:gridCol w="936720"/>
                <a:gridCol w="934920"/>
                <a:gridCol w="961920"/>
              </a:tblGrid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оказатель развития 20 дете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.Воспитание любви и интереса к</a:t>
                      </a:r>
                      <a:r>
                        <a:rPr b="0" lang="ru-RU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музык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2.Воспитание эмоциональной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отзывчивости на музык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3.Развитие восприятия музык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4.Развитие вокально- хоровых</a:t>
                      </a:r>
                      <a:r>
                        <a:rPr b="0" lang="ru-RU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навы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5.Развитие музыкально-</a:t>
                      </a:r>
                      <a:r>
                        <a:rPr b="0" lang="ru-RU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итмических навы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6.Развитие музыкально-творческих</a:t>
                      </a: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способностей.</a:t>
                      </a:r>
                      <a:r>
                        <a:rPr b="0" lang="ru-RU" sz="3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Oval 259"/>
          <p:cNvSpPr/>
          <p:nvPr/>
        </p:nvSpPr>
        <p:spPr>
          <a:xfrm>
            <a:off x="5435640" y="1413000"/>
            <a:ext cx="647640" cy="576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ярк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263"/>
          <p:cNvSpPr/>
          <p:nvPr/>
        </p:nvSpPr>
        <p:spPr>
          <a:xfrm>
            <a:off x="6372360" y="1413000"/>
            <a:ext cx="64764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сла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265"/>
          <p:cNvSpPr/>
          <p:nvPr/>
        </p:nvSpPr>
        <p:spPr>
          <a:xfrm>
            <a:off x="7380360" y="141300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пло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276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Цель и зада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Реализация основных программных принципов в работе над спектакл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Распределение ролей 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сценари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Что такое Детский сад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Дружба- это не рабо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Цветочный гор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Книга знаний и откры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Представление коротыш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Синеглазка и другие малыш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Незнайка в цветочном городе.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Незнайка рисует портреты коротышек и малыш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Разукрасим все плане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Мониторинг развития музыкальности де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3240" indent="-361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диаграм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3240" indent="-361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таблица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О себе.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8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8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8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8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8" descr="Незнайка"/>
          <p:cNvPicPr/>
          <p:nvPr/>
        </p:nvPicPr>
        <p:blipFill>
          <a:blip r:embed="rId15"/>
          <a:stretch/>
        </p:blipFill>
        <p:spPr>
          <a:xfrm>
            <a:off x="5219640" y="2205000"/>
            <a:ext cx="2519280" cy="2341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2">
            <a:hlinkClick r:id="rId16" action="ppaction://hlinksldjump"/>
          </p:cNvPr>
          <p:cNvSpPr/>
          <p:nvPr/>
        </p:nvSpPr>
        <p:spPr>
          <a:xfrm>
            <a:off x="3635280" y="2205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3419640" y="170028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6">
            <a:hlinkClick r:id="rId17" action="ppaction://hlinksldjump"/>
          </p:cNvPr>
          <p:cNvSpPr/>
          <p:nvPr/>
        </p:nvSpPr>
        <p:spPr>
          <a:xfrm>
            <a:off x="468360" y="170028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7">
            <a:hlinkClick r:id="rId18" action="ppaction://hlinksldjump"/>
          </p:cNvPr>
          <p:cNvSpPr/>
          <p:nvPr/>
        </p:nvSpPr>
        <p:spPr>
          <a:xfrm>
            <a:off x="468360" y="198900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8">
            <a:hlinkClick r:id="rId19" action="ppaction://hlinksldjump"/>
          </p:cNvPr>
          <p:cNvSpPr/>
          <p:nvPr/>
        </p:nvSpPr>
        <p:spPr>
          <a:xfrm>
            <a:off x="468360" y="242100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9">
            <a:hlinkClick r:id="rId20" action="ppaction://hlinksldjump"/>
          </p:cNvPr>
          <p:cNvSpPr/>
          <p:nvPr/>
        </p:nvSpPr>
        <p:spPr>
          <a:xfrm>
            <a:off x="468360" y="270828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0">
            <a:hlinkClick r:id="rId21" action="ppaction://hlinksldjump"/>
          </p:cNvPr>
          <p:cNvSpPr/>
          <p:nvPr/>
        </p:nvSpPr>
        <p:spPr>
          <a:xfrm>
            <a:off x="468360" y="299736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51">
            <a:hlinkClick r:id="rId22" action="ppaction://hlinksldjump"/>
          </p:cNvPr>
          <p:cNvSpPr/>
          <p:nvPr/>
        </p:nvSpPr>
        <p:spPr>
          <a:xfrm flipV="1">
            <a:off x="468360" y="357336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52">
            <a:hlinkClick r:id="rId23" action="ppaction://hlinksldjump"/>
          </p:cNvPr>
          <p:cNvSpPr/>
          <p:nvPr/>
        </p:nvSpPr>
        <p:spPr>
          <a:xfrm>
            <a:off x="468360" y="3860640"/>
            <a:ext cx="216000" cy="142920"/>
          </a:xfrm>
          <a:custGeom>
            <a:avLst/>
            <a:gdLst>
              <a:gd name="textAreaLeft" fmla="*/ 9000 w 216000"/>
              <a:gd name="textAreaRight" fmla="*/ 207000 w 2160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32617" h="21600">
                <a:moveTo>
                  <a:pt x="0" y="0"/>
                </a:moveTo>
                <a:lnTo>
                  <a:pt x="32617" y="0"/>
                </a:lnTo>
                <a:lnTo>
                  <a:pt x="32617" y="21600"/>
                </a:lnTo>
                <a:lnTo>
                  <a:pt x="0" y="21600"/>
                </a:lnTo>
                <a:close/>
              </a:path>
              <a:path fill="lightenLess" w="32617" h="21600">
                <a:moveTo>
                  <a:pt x="0" y="0"/>
                </a:moveTo>
                <a:lnTo>
                  <a:pt x="32617" y="0"/>
                </a:lnTo>
                <a:lnTo>
                  <a:pt x="31217" y="1400"/>
                </a:lnTo>
                <a:lnTo>
                  <a:pt x="1400" y="1400"/>
                </a:lnTo>
                <a:close/>
              </a:path>
              <a:path fill="darken" w="32617" h="21600">
                <a:moveTo>
                  <a:pt x="32617" y="0"/>
                </a:moveTo>
                <a:lnTo>
                  <a:pt x="32617" y="21600"/>
                </a:lnTo>
                <a:lnTo>
                  <a:pt x="31217" y="20200"/>
                </a:lnTo>
                <a:lnTo>
                  <a:pt x="31217" y="1400"/>
                </a:lnTo>
                <a:close/>
              </a:path>
              <a:path fill="darkenLess" w="32617" h="21600">
                <a:moveTo>
                  <a:pt x="326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17" y="20200"/>
                </a:lnTo>
                <a:close/>
              </a:path>
              <a:path fill="lighten" w="326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17" h="21600">
                <a:moveTo>
                  <a:pt x="9302" y="3794"/>
                </a:moveTo>
                <a:lnTo>
                  <a:pt x="23315" y="10800"/>
                </a:lnTo>
                <a:lnTo>
                  <a:pt x="9302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53">
            <a:hlinkClick r:id="rId24" action="ppaction://hlinksldjump"/>
          </p:cNvPr>
          <p:cNvSpPr/>
          <p:nvPr/>
        </p:nvSpPr>
        <p:spPr>
          <a:xfrm>
            <a:off x="468360" y="414972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54">
            <a:hlinkClick r:id="rId25" action="ppaction://hlinksldjump"/>
          </p:cNvPr>
          <p:cNvSpPr/>
          <p:nvPr/>
        </p:nvSpPr>
        <p:spPr>
          <a:xfrm>
            <a:off x="468360" y="443700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5">
            <a:hlinkClick r:id="rId26" action="ppaction://hlinksldjump"/>
          </p:cNvPr>
          <p:cNvSpPr/>
          <p:nvPr/>
        </p:nvSpPr>
        <p:spPr>
          <a:xfrm>
            <a:off x="468360" y="472428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56">
            <a:hlinkClick r:id="rId27" action="ppaction://hlinksldjump"/>
          </p:cNvPr>
          <p:cNvSpPr/>
          <p:nvPr/>
        </p:nvSpPr>
        <p:spPr>
          <a:xfrm>
            <a:off x="468360" y="4941720"/>
            <a:ext cx="216000" cy="142920"/>
          </a:xfrm>
          <a:custGeom>
            <a:avLst/>
            <a:gdLst>
              <a:gd name="textAreaLeft" fmla="*/ 9000 w 216000"/>
              <a:gd name="textAreaRight" fmla="*/ 207000 w 2160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32617" h="21600">
                <a:moveTo>
                  <a:pt x="0" y="0"/>
                </a:moveTo>
                <a:lnTo>
                  <a:pt x="32617" y="0"/>
                </a:lnTo>
                <a:lnTo>
                  <a:pt x="32617" y="21600"/>
                </a:lnTo>
                <a:lnTo>
                  <a:pt x="0" y="21600"/>
                </a:lnTo>
                <a:close/>
              </a:path>
              <a:path fill="lightenLess" w="32617" h="21600">
                <a:moveTo>
                  <a:pt x="0" y="0"/>
                </a:moveTo>
                <a:lnTo>
                  <a:pt x="32617" y="0"/>
                </a:lnTo>
                <a:lnTo>
                  <a:pt x="31217" y="1400"/>
                </a:lnTo>
                <a:lnTo>
                  <a:pt x="1400" y="1400"/>
                </a:lnTo>
                <a:close/>
              </a:path>
              <a:path fill="darken" w="32617" h="21600">
                <a:moveTo>
                  <a:pt x="32617" y="0"/>
                </a:moveTo>
                <a:lnTo>
                  <a:pt x="32617" y="21600"/>
                </a:lnTo>
                <a:lnTo>
                  <a:pt x="31217" y="20200"/>
                </a:lnTo>
                <a:lnTo>
                  <a:pt x="31217" y="1400"/>
                </a:lnTo>
                <a:close/>
              </a:path>
              <a:path fill="darkenLess" w="32617" h="21600">
                <a:moveTo>
                  <a:pt x="326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17" y="20200"/>
                </a:lnTo>
                <a:close/>
              </a:path>
              <a:path fill="lighten" w="326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17" h="21600">
                <a:moveTo>
                  <a:pt x="9302" y="3794"/>
                </a:moveTo>
                <a:lnTo>
                  <a:pt x="23315" y="10800"/>
                </a:lnTo>
                <a:lnTo>
                  <a:pt x="9302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57">
            <a:hlinkClick r:id="rId28" action="ppaction://hlinksldjump"/>
          </p:cNvPr>
          <p:cNvSpPr/>
          <p:nvPr/>
        </p:nvSpPr>
        <p:spPr>
          <a:xfrm>
            <a:off x="468360" y="522936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8">
            <a:hlinkClick r:id="rId29" action="ppaction://hlinksldjump"/>
          </p:cNvPr>
          <p:cNvSpPr/>
          <p:nvPr/>
        </p:nvSpPr>
        <p:spPr>
          <a:xfrm>
            <a:off x="468360" y="602136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9">
            <a:hlinkClick r:id="rId30" action="ppaction://hlinksldjump"/>
          </p:cNvPr>
          <p:cNvSpPr/>
          <p:nvPr/>
        </p:nvSpPr>
        <p:spPr>
          <a:xfrm>
            <a:off x="468360" y="328464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3794"/>
                </a:moveTo>
                <a:lnTo>
                  <a:pt x="23153" y="10800"/>
                </a:lnTo>
                <a:lnTo>
                  <a:pt x="9140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Цель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435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Главная задача: игровое, творческ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развитие личностного потенциала ребёнка, его природной музыкальности, развитие способности к творческому самовыражению как условие его радостного бытия и дальнейшей успешной самореал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cat-19"/>
          <p:cNvPicPr/>
          <p:nvPr/>
        </p:nvPicPr>
        <p:blipFill>
          <a:blip r:embed="rId1"/>
          <a:stretch/>
        </p:blipFill>
        <p:spPr>
          <a:xfrm>
            <a:off x="684360" y="549360"/>
            <a:ext cx="3166920" cy="1714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music_prg77"/>
          <p:cNvPicPr/>
          <p:nvPr/>
        </p:nvPicPr>
        <p:blipFill>
          <a:blip r:embed="rId2"/>
          <a:stretch/>
        </p:blipFill>
        <p:spPr>
          <a:xfrm>
            <a:off x="6084720" y="4508640"/>
            <a:ext cx="1571760" cy="15080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6">
            <a:hlinkClick r:id="rId3" action="ppaction://hlinksldjump"/>
          </p:cNvPr>
          <p:cNvSpPr/>
          <p:nvPr/>
        </p:nvSpPr>
        <p:spPr>
          <a:xfrm>
            <a:off x="8856720" y="6570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Задач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риобщение к музыкальному искусству через разностороннюю музыкально- творческую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деятельно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оспитание интереса и любви к музы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развитие эмоциональной сфе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развитие креативных способностей: творческого воображения и фантаз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развитие музыкальных способностей детей в основных видах музыкальной,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исполнительская деятельность ( пение, музыкально- ритмическая деятельность,  восприятие музыки, творческое музицирова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923_m"/>
          <p:cNvPicPr/>
          <p:nvPr/>
        </p:nvPicPr>
        <p:blipFill>
          <a:blip r:embed="rId1"/>
          <a:stretch/>
        </p:blipFill>
        <p:spPr>
          <a:xfrm>
            <a:off x="395280" y="-171360"/>
            <a:ext cx="3203640" cy="18777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8854920" y="638172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10868" y="3837"/>
                </a:moveTo>
                <a:lnTo>
                  <a:pt x="13444" y="6448"/>
                </a:lnTo>
                <a:lnTo>
                  <a:pt x="13444" y="4707"/>
                </a:lnTo>
                <a:lnTo>
                  <a:pt x="15219" y="4707"/>
                </a:lnTo>
                <a:lnTo>
                  <a:pt x="15219" y="8224"/>
                </a:lnTo>
                <a:lnTo>
                  <a:pt x="17831" y="10800"/>
                </a:lnTo>
                <a:lnTo>
                  <a:pt x="16177" y="10800"/>
                </a:lnTo>
                <a:lnTo>
                  <a:pt x="16177" y="17989"/>
                </a:lnTo>
                <a:lnTo>
                  <a:pt x="5558" y="17989"/>
                </a:lnTo>
                <a:lnTo>
                  <a:pt x="5558" y="10800"/>
                </a:lnTo>
                <a:lnTo>
                  <a:pt x="3905" y="10800"/>
                </a:lnTo>
                <a:close/>
              </a:path>
              <a:path fill="darkenLess" w="21735" h="21600">
                <a:moveTo>
                  <a:pt x="13444" y="6448"/>
                </a:moveTo>
                <a:lnTo>
                  <a:pt x="13444" y="4707"/>
                </a:lnTo>
                <a:lnTo>
                  <a:pt x="15219" y="4707"/>
                </a:lnTo>
                <a:lnTo>
                  <a:pt x="15219" y="8224"/>
                </a:lnTo>
                <a:close/>
              </a:path>
              <a:path fill="darkenLess" w="21735" h="21600">
                <a:moveTo>
                  <a:pt x="9945" y="14299"/>
                </a:moveTo>
                <a:lnTo>
                  <a:pt x="11790" y="14299"/>
                </a:lnTo>
                <a:lnTo>
                  <a:pt x="11790" y="17989"/>
                </a:lnTo>
                <a:lnTo>
                  <a:pt x="16177" y="17989"/>
                </a:lnTo>
                <a:lnTo>
                  <a:pt x="16177" y="10800"/>
                </a:lnTo>
                <a:lnTo>
                  <a:pt x="5558" y="10800"/>
                </a:lnTo>
                <a:lnTo>
                  <a:pt x="5558" y="17989"/>
                </a:lnTo>
                <a:lnTo>
                  <a:pt x="9945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Реализация основных программных принцип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987640" y="2852640"/>
            <a:ext cx="2664000" cy="1368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рограмм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ринци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79280" y="3573360"/>
            <a:ext cx="720720" cy="43200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324000" y="1557360"/>
            <a:ext cx="792000" cy="43164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7236000" y="1700280"/>
            <a:ext cx="792000" cy="43164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539640" y="4869000"/>
            <a:ext cx="792360" cy="43164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7380360" y="3500280"/>
            <a:ext cx="792000" cy="43200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179280" y="3789360"/>
            <a:ext cx="0" cy="8636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8172360" y="3789360"/>
            <a:ext cx="0" cy="8636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>
            <a:off x="7740720" y="5229360"/>
            <a:ext cx="0" cy="8636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324000" y="1773360"/>
            <a:ext cx="0" cy="8636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6227640" y="2637000"/>
            <a:ext cx="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5"/>
          <p:cNvSpPr/>
          <p:nvPr/>
        </p:nvSpPr>
        <p:spPr>
          <a:xfrm>
            <a:off x="324000" y="4292640"/>
            <a:ext cx="309708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Принцип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6"/>
          <p:cNvSpPr/>
          <p:nvPr/>
        </p:nvSpPr>
        <p:spPr>
          <a:xfrm>
            <a:off x="1042920" y="5516640"/>
            <a:ext cx="295272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Принцип вариатив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5580000" y="4221000"/>
            <a:ext cx="2376720" cy="648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минимак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539640" y="2205000"/>
            <a:ext cx="288000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принцип комфор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5364000" y="2276640"/>
            <a:ext cx="251964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Принцип 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31"/>
          <p:cNvSpPr/>
          <p:nvPr/>
        </p:nvSpPr>
        <p:spPr>
          <a:xfrm>
            <a:off x="539640" y="5157720"/>
            <a:ext cx="0" cy="8636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716360" y="5589720"/>
            <a:ext cx="28814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Принцип целос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3"/>
          <p:cNvSpPr/>
          <p:nvPr/>
        </p:nvSpPr>
        <p:spPr>
          <a:xfrm>
            <a:off x="6948360" y="4941720"/>
            <a:ext cx="792360" cy="43200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8028000" y="1916280"/>
            <a:ext cx="0" cy="8632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7"/>
          <p:cNvSpPr/>
          <p:nvPr/>
        </p:nvSpPr>
        <p:spPr>
          <a:xfrm>
            <a:off x="8856720" y="6570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Распределение роле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Сказка написана по мотивам романа – сказки Н.Носова « Приключение Незнайки»Количество ролей « подгоняется под состав группы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187280" y="2205000"/>
            <a:ext cx="568836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Дети подготовительной 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50920" y="2924280"/>
            <a:ext cx="313200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мальч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284720" y="2924280"/>
            <a:ext cx="309564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девоч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900000" y="3500280"/>
            <a:ext cx="216072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ороты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859280" y="3573360"/>
            <a:ext cx="223200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малы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1258920" y="616572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79280" y="414972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на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79280" y="4724280"/>
            <a:ext cx="180036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он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179280" y="5300640"/>
            <a:ext cx="180036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илюль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179280" y="587700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инт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2268360" y="414972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Незна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2268360" y="4724280"/>
            <a:ext cx="180036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Тюб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268360" y="5300640"/>
            <a:ext cx="180036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Гус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4211640" y="414972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Ласт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4211640" y="4797360"/>
            <a:ext cx="180036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Синегла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4211640" y="537372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Лап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6372360" y="4148280"/>
            <a:ext cx="180000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ноп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6372360" y="4797360"/>
            <a:ext cx="180000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исонь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6372360" y="5373720"/>
            <a:ext cx="180000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аинь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2627280" y="26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73"/>
          <p:cNvSpPr/>
          <p:nvPr/>
        </p:nvSpPr>
        <p:spPr>
          <a:xfrm flipH="1">
            <a:off x="3563640" y="2637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80"/>
          <p:cNvSpPr/>
          <p:nvPr/>
        </p:nvSpPr>
        <p:spPr>
          <a:xfrm>
            <a:off x="3708360" y="2637000"/>
            <a:ext cx="0" cy="0"/>
          </a:xfrm>
          <a:prstGeom prst="line">
            <a:avLst/>
          </a:prstGeom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82"/>
          <p:cNvSpPr/>
          <p:nvPr/>
        </p:nvSpPr>
        <p:spPr>
          <a:xfrm flipH="1">
            <a:off x="3780000" y="263700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76"/>
          <p:cNvSpPr/>
          <p:nvPr/>
        </p:nvSpPr>
        <p:spPr>
          <a:xfrm flipH="1">
            <a:off x="1619280" y="2637000"/>
            <a:ext cx="216072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77"/>
          <p:cNvSpPr/>
          <p:nvPr/>
        </p:nvSpPr>
        <p:spPr>
          <a:xfrm>
            <a:off x="3708360" y="2637000"/>
            <a:ext cx="230364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78"/>
          <p:cNvSpPr/>
          <p:nvPr/>
        </p:nvSpPr>
        <p:spPr>
          <a:xfrm>
            <a:off x="2050920" y="3357720"/>
            <a:ext cx="0" cy="215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9"/>
          <p:cNvSpPr/>
          <p:nvPr/>
        </p:nvSpPr>
        <p:spPr>
          <a:xfrm>
            <a:off x="6084720" y="3357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0"/>
          <p:cNvSpPr/>
          <p:nvPr/>
        </p:nvSpPr>
        <p:spPr>
          <a:xfrm>
            <a:off x="6084720" y="3357720"/>
            <a:ext cx="0" cy="14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81"/>
          <p:cNvSpPr/>
          <p:nvPr/>
        </p:nvSpPr>
        <p:spPr>
          <a:xfrm>
            <a:off x="608472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84"/>
          <p:cNvSpPr/>
          <p:nvPr/>
        </p:nvSpPr>
        <p:spPr>
          <a:xfrm>
            <a:off x="6084720" y="3357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86"/>
          <p:cNvSpPr/>
          <p:nvPr/>
        </p:nvSpPr>
        <p:spPr>
          <a:xfrm>
            <a:off x="6084720" y="3357720"/>
            <a:ext cx="0" cy="215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87"/>
          <p:cNvSpPr/>
          <p:nvPr/>
        </p:nvSpPr>
        <p:spPr>
          <a:xfrm flipH="1">
            <a:off x="755280" y="4005360"/>
            <a:ext cx="1152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88"/>
          <p:cNvSpPr/>
          <p:nvPr/>
        </p:nvSpPr>
        <p:spPr>
          <a:xfrm>
            <a:off x="1908000" y="4005360"/>
            <a:ext cx="1295640" cy="144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89"/>
          <p:cNvSpPr/>
          <p:nvPr/>
        </p:nvSpPr>
        <p:spPr>
          <a:xfrm flipH="1">
            <a:off x="684000" y="4005360"/>
            <a:ext cx="1223640" cy="144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90"/>
          <p:cNvSpPr/>
          <p:nvPr/>
        </p:nvSpPr>
        <p:spPr>
          <a:xfrm flipH="1">
            <a:off x="4716000" y="4005360"/>
            <a:ext cx="1368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91"/>
          <p:cNvSpPr/>
          <p:nvPr/>
        </p:nvSpPr>
        <p:spPr>
          <a:xfrm>
            <a:off x="6084720" y="4005360"/>
            <a:ext cx="1295640" cy="144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96"/>
          <p:cNvSpPr/>
          <p:nvPr/>
        </p:nvSpPr>
        <p:spPr>
          <a:xfrm flipH="1">
            <a:off x="4788000" y="4005360"/>
            <a:ext cx="1224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98"/>
          <p:cNvSpPr/>
          <p:nvPr/>
        </p:nvSpPr>
        <p:spPr>
          <a:xfrm flipH="1">
            <a:off x="4716000" y="4005360"/>
            <a:ext cx="1368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00"/>
          <p:cNvSpPr/>
          <p:nvPr/>
        </p:nvSpPr>
        <p:spPr>
          <a:xfrm flipH="1">
            <a:off x="4716000" y="4005360"/>
            <a:ext cx="1368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01"/>
          <p:cNvSpPr/>
          <p:nvPr/>
        </p:nvSpPr>
        <p:spPr>
          <a:xfrm>
            <a:off x="6084720" y="4005360"/>
            <a:ext cx="1366920" cy="14436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02"/>
          <p:cNvSpPr/>
          <p:nvPr/>
        </p:nvSpPr>
        <p:spPr>
          <a:xfrm flipH="1">
            <a:off x="4716360" y="4005360"/>
            <a:ext cx="1440000" cy="14436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04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05"/>
          <p:cNvSpPr/>
          <p:nvPr/>
        </p:nvSpPr>
        <p:spPr>
          <a:xfrm>
            <a:off x="1187280" y="45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206"/>
          <p:cNvSpPr/>
          <p:nvPr/>
        </p:nvSpPr>
        <p:spPr>
          <a:xfrm>
            <a:off x="1187280" y="515772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208"/>
          <p:cNvSpPr/>
          <p:nvPr/>
        </p:nvSpPr>
        <p:spPr>
          <a:xfrm>
            <a:off x="3203640" y="4581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209"/>
          <p:cNvSpPr/>
          <p:nvPr/>
        </p:nvSpPr>
        <p:spPr>
          <a:xfrm>
            <a:off x="3203640" y="5157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10"/>
          <p:cNvSpPr/>
          <p:nvPr/>
        </p:nvSpPr>
        <p:spPr>
          <a:xfrm>
            <a:off x="3276720" y="5734080"/>
            <a:ext cx="71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12"/>
          <p:cNvSpPr/>
          <p:nvPr/>
        </p:nvSpPr>
        <p:spPr>
          <a:xfrm>
            <a:off x="1187280" y="45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213"/>
          <p:cNvSpPr/>
          <p:nvPr/>
        </p:nvSpPr>
        <p:spPr>
          <a:xfrm>
            <a:off x="3203640" y="45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16"/>
          <p:cNvSpPr/>
          <p:nvPr/>
        </p:nvSpPr>
        <p:spPr>
          <a:xfrm>
            <a:off x="514836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18"/>
          <p:cNvSpPr/>
          <p:nvPr/>
        </p:nvSpPr>
        <p:spPr>
          <a:xfrm>
            <a:off x="1187280" y="580536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19"/>
          <p:cNvSpPr/>
          <p:nvPr/>
        </p:nvSpPr>
        <p:spPr>
          <a:xfrm>
            <a:off x="1187280" y="573408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220"/>
          <p:cNvSpPr/>
          <p:nvPr/>
        </p:nvSpPr>
        <p:spPr>
          <a:xfrm>
            <a:off x="1187280" y="458136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221"/>
          <p:cNvSpPr/>
          <p:nvPr/>
        </p:nvSpPr>
        <p:spPr>
          <a:xfrm>
            <a:off x="3203640" y="458136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22"/>
          <p:cNvSpPr/>
          <p:nvPr/>
        </p:nvSpPr>
        <p:spPr>
          <a:xfrm>
            <a:off x="3203640" y="515772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23"/>
          <p:cNvSpPr/>
          <p:nvPr/>
        </p:nvSpPr>
        <p:spPr>
          <a:xfrm>
            <a:off x="5076720" y="4581360"/>
            <a:ext cx="0" cy="287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24"/>
          <p:cNvSpPr/>
          <p:nvPr/>
        </p:nvSpPr>
        <p:spPr>
          <a:xfrm>
            <a:off x="5148360" y="5229360"/>
            <a:ext cx="0" cy="215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225"/>
          <p:cNvSpPr/>
          <p:nvPr/>
        </p:nvSpPr>
        <p:spPr>
          <a:xfrm>
            <a:off x="7308720" y="458136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26"/>
          <p:cNvSpPr/>
          <p:nvPr/>
        </p:nvSpPr>
        <p:spPr>
          <a:xfrm>
            <a:off x="7380360" y="5229360"/>
            <a:ext cx="0" cy="215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231"/>
          <p:cNvSpPr/>
          <p:nvPr/>
        </p:nvSpPr>
        <p:spPr>
          <a:xfrm>
            <a:off x="2268360" y="587700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Шпунт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34"/>
          <p:cNvSpPr/>
          <p:nvPr/>
        </p:nvSpPr>
        <p:spPr>
          <a:xfrm>
            <a:off x="3203640" y="573408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236"/>
          <p:cNvSpPr/>
          <p:nvPr/>
        </p:nvSpPr>
        <p:spPr>
          <a:xfrm>
            <a:off x="3203640" y="573408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39"/>
          <p:cNvSpPr/>
          <p:nvPr/>
        </p:nvSpPr>
        <p:spPr>
          <a:xfrm>
            <a:off x="6372360" y="5877000"/>
            <a:ext cx="172872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аз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40"/>
          <p:cNvSpPr/>
          <p:nvPr/>
        </p:nvSpPr>
        <p:spPr>
          <a:xfrm>
            <a:off x="4211640" y="5877000"/>
            <a:ext cx="1800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Бел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241"/>
          <p:cNvSpPr/>
          <p:nvPr/>
        </p:nvSpPr>
        <p:spPr>
          <a:xfrm>
            <a:off x="5148360" y="580536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42"/>
          <p:cNvSpPr/>
          <p:nvPr/>
        </p:nvSpPr>
        <p:spPr>
          <a:xfrm>
            <a:off x="7380360" y="5805360"/>
            <a:ext cx="0" cy="14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43"/>
          <p:cNvSpPr/>
          <p:nvPr/>
        </p:nvSpPr>
        <p:spPr>
          <a:xfrm>
            <a:off x="8856720" y="659772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11919" y="3837"/>
                </a:moveTo>
                <a:lnTo>
                  <a:pt x="14495" y="6448"/>
                </a:lnTo>
                <a:lnTo>
                  <a:pt x="14495" y="4707"/>
                </a:lnTo>
                <a:lnTo>
                  <a:pt x="16271" y="4707"/>
                </a:lnTo>
                <a:lnTo>
                  <a:pt x="16271" y="8224"/>
                </a:lnTo>
                <a:lnTo>
                  <a:pt x="18882" y="10800"/>
                </a:lnTo>
                <a:lnTo>
                  <a:pt x="17228" y="10800"/>
                </a:lnTo>
                <a:lnTo>
                  <a:pt x="17228" y="17989"/>
                </a:lnTo>
                <a:lnTo>
                  <a:pt x="6610" y="17989"/>
                </a:lnTo>
                <a:lnTo>
                  <a:pt x="6610" y="10800"/>
                </a:lnTo>
                <a:lnTo>
                  <a:pt x="4956" y="10800"/>
                </a:lnTo>
                <a:close/>
              </a:path>
              <a:path fill="darkenLess" w="23838" h="21600">
                <a:moveTo>
                  <a:pt x="14495" y="6448"/>
                </a:moveTo>
                <a:lnTo>
                  <a:pt x="14495" y="4707"/>
                </a:lnTo>
                <a:lnTo>
                  <a:pt x="16271" y="4707"/>
                </a:lnTo>
                <a:lnTo>
                  <a:pt x="16271" y="8224"/>
                </a:lnTo>
                <a:close/>
              </a:path>
              <a:path fill="darkenLess" w="23838" h="21600">
                <a:moveTo>
                  <a:pt x="10996" y="14299"/>
                </a:moveTo>
                <a:lnTo>
                  <a:pt x="12841" y="14299"/>
                </a:lnTo>
                <a:lnTo>
                  <a:pt x="12841" y="17989"/>
                </a:lnTo>
                <a:lnTo>
                  <a:pt x="17228" y="17989"/>
                </a:lnTo>
                <a:lnTo>
                  <a:pt x="17228" y="10800"/>
                </a:lnTo>
                <a:lnTo>
                  <a:pt x="6610" y="10800"/>
                </a:lnTo>
                <a:lnTo>
                  <a:pt x="6610" y="17989"/>
                </a:lnTo>
                <a:lnTo>
                  <a:pt x="10996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Что такое детский сад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024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Это город для ребя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Уголочек детст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Где всему есть мест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Озорным смешинк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апелькам- слезинк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Играм, выдумкам и шутк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еселью, шуткам, прибаутк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десь в глазах у малыш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Мир становится добр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Picture 4" descr="IMG_7747"/>
          <p:cNvPicPr/>
          <p:nvPr/>
        </p:nvPicPr>
        <p:blipFill>
          <a:blip r:embed="rId1"/>
          <a:stretch/>
        </p:blipFill>
        <p:spPr>
          <a:xfrm>
            <a:off x="4356000" y="1557360"/>
            <a:ext cx="3248280" cy="2506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IMG_7750"/>
          <p:cNvPicPr/>
          <p:nvPr/>
        </p:nvPicPr>
        <p:blipFill>
          <a:blip r:embed="rId2"/>
          <a:stretch/>
        </p:blipFill>
        <p:spPr>
          <a:xfrm>
            <a:off x="395280" y="3500280"/>
            <a:ext cx="3274920" cy="26211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11"/>
          <p:cNvSpPr/>
          <p:nvPr/>
        </p:nvSpPr>
        <p:spPr>
          <a:xfrm>
            <a:off x="8854920" y="6524640"/>
            <a:ext cx="289080" cy="333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33360"/>
              <a:gd name="textAreaBottom" fmla="*/ 314640 h 333360"/>
            </a:gdLst>
            <a:ahLst/>
            <a:rect l="textAreaLeft" t="textAreaTop" r="textAreaRight" b="textAreaBottom"/>
            <a:pathLst>
              <a:path w="21600" h="24904">
                <a:moveTo>
                  <a:pt x="0" y="0"/>
                </a:moveTo>
                <a:lnTo>
                  <a:pt x="21600" y="0"/>
                </a:lnTo>
                <a:lnTo>
                  <a:pt x="21600" y="24904"/>
                </a:lnTo>
                <a:lnTo>
                  <a:pt x="0" y="24904"/>
                </a:lnTo>
                <a:close/>
              </a:path>
              <a:path fill="lightenLess" w="21600" h="24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04">
                <a:moveTo>
                  <a:pt x="21600" y="0"/>
                </a:moveTo>
                <a:lnTo>
                  <a:pt x="21600" y="24904"/>
                </a:lnTo>
                <a:lnTo>
                  <a:pt x="20200" y="23504"/>
                </a:lnTo>
                <a:lnTo>
                  <a:pt x="20200" y="1400"/>
                </a:lnTo>
                <a:close/>
              </a:path>
              <a:path fill="darkenLess" w="21600" h="24904">
                <a:moveTo>
                  <a:pt x="21600" y="24904"/>
                </a:moveTo>
                <a:lnTo>
                  <a:pt x="0" y="24904"/>
                </a:lnTo>
                <a:lnTo>
                  <a:pt x="1400" y="23504"/>
                </a:lnTo>
                <a:lnTo>
                  <a:pt x="20200" y="23504"/>
                </a:lnTo>
                <a:close/>
              </a:path>
              <a:path fill="lighten" w="21600" h="24904">
                <a:moveTo>
                  <a:pt x="0" y="24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04"/>
                </a:lnTo>
                <a:close/>
              </a:path>
              <a:path fill="darken" w="21600" h="24904">
                <a:moveTo>
                  <a:pt x="10800" y="5489"/>
                </a:moveTo>
                <a:lnTo>
                  <a:pt x="13376" y="8100"/>
                </a:lnTo>
                <a:lnTo>
                  <a:pt x="13376" y="6360"/>
                </a:lnTo>
                <a:lnTo>
                  <a:pt x="15152" y="6360"/>
                </a:lnTo>
                <a:lnTo>
                  <a:pt x="15152" y="9876"/>
                </a:lnTo>
                <a:lnTo>
                  <a:pt x="17763" y="12452"/>
                </a:lnTo>
                <a:lnTo>
                  <a:pt x="16109" y="12452"/>
                </a:lnTo>
                <a:lnTo>
                  <a:pt x="16109" y="19641"/>
                </a:lnTo>
                <a:lnTo>
                  <a:pt x="5491" y="19641"/>
                </a:lnTo>
                <a:lnTo>
                  <a:pt x="5491" y="12452"/>
                </a:lnTo>
                <a:lnTo>
                  <a:pt x="3837" y="12452"/>
                </a:lnTo>
                <a:close/>
              </a:path>
              <a:path fill="darkenLess" w="21600" h="24904">
                <a:moveTo>
                  <a:pt x="13376" y="8100"/>
                </a:moveTo>
                <a:lnTo>
                  <a:pt x="13376" y="6360"/>
                </a:lnTo>
                <a:lnTo>
                  <a:pt x="15152" y="6360"/>
                </a:lnTo>
                <a:lnTo>
                  <a:pt x="15152" y="9876"/>
                </a:lnTo>
                <a:close/>
              </a:path>
              <a:path fill="darkenLess" w="21600" h="24904">
                <a:moveTo>
                  <a:pt x="9877" y="15951"/>
                </a:moveTo>
                <a:lnTo>
                  <a:pt x="11723" y="15951"/>
                </a:lnTo>
                <a:lnTo>
                  <a:pt x="11723" y="19641"/>
                </a:lnTo>
                <a:lnTo>
                  <a:pt x="16109" y="19641"/>
                </a:lnTo>
                <a:lnTo>
                  <a:pt x="16109" y="12452"/>
                </a:lnTo>
                <a:lnTo>
                  <a:pt x="5491" y="12452"/>
                </a:lnTo>
                <a:lnTo>
                  <a:pt x="5491" y="19641"/>
                </a:lnTo>
                <a:lnTo>
                  <a:pt x="9877" y="19641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Дружба- это не рабо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452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  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Если друга ты найдёшь,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С ним нигде не пропадёш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амеч                    Замечательная вдруг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Жизнь покажется вокруг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                                                      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ревратились мы в малыше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А мальчишки в коротышек,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Интересно здесь у на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Сказка наша началась.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80808"/>
                </a:solidFill>
                <a:latin typeface="Tahoma"/>
              </a:rPr>
              <a:t>         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80808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т  т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4" descr="IMG_7769"/>
          <p:cNvPicPr/>
          <p:nvPr/>
        </p:nvPicPr>
        <p:blipFill>
          <a:blip r:embed="rId1"/>
          <a:stretch/>
        </p:blipFill>
        <p:spPr>
          <a:xfrm>
            <a:off x="684360" y="1413000"/>
            <a:ext cx="3527280" cy="2709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IMG_7762"/>
          <p:cNvPicPr/>
          <p:nvPr/>
        </p:nvPicPr>
        <p:blipFill>
          <a:blip r:embed="rId2"/>
          <a:stretch/>
        </p:blipFill>
        <p:spPr>
          <a:xfrm>
            <a:off x="4572000" y="3141720"/>
            <a:ext cx="3349800" cy="251928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8"/>
          <p:cNvSpPr/>
          <p:nvPr/>
        </p:nvSpPr>
        <p:spPr>
          <a:xfrm>
            <a:off x="8856720" y="6524640"/>
            <a:ext cx="287280" cy="333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33360"/>
              <a:gd name="textAreaBottom" fmla="*/ 315000 h 333360"/>
            </a:gdLst>
            <a:ahLst/>
            <a:rect l="textAreaLeft" t="textAreaTop" r="textAreaRight" b="textAreaBottom"/>
            <a:pathLst>
              <a:path w="21600" h="25060">
                <a:moveTo>
                  <a:pt x="0" y="0"/>
                </a:moveTo>
                <a:lnTo>
                  <a:pt x="21600" y="0"/>
                </a:lnTo>
                <a:lnTo>
                  <a:pt x="21600" y="25060"/>
                </a:lnTo>
                <a:lnTo>
                  <a:pt x="0" y="25060"/>
                </a:lnTo>
                <a:close/>
              </a:path>
              <a:path fill="lightenLess" w="21600" h="25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60">
                <a:moveTo>
                  <a:pt x="21600" y="0"/>
                </a:moveTo>
                <a:lnTo>
                  <a:pt x="21600" y="25060"/>
                </a:lnTo>
                <a:lnTo>
                  <a:pt x="20200" y="23660"/>
                </a:lnTo>
                <a:lnTo>
                  <a:pt x="20200" y="1400"/>
                </a:lnTo>
                <a:close/>
              </a:path>
              <a:path fill="darkenLess" w="21600" h="25060">
                <a:moveTo>
                  <a:pt x="21600" y="25060"/>
                </a:moveTo>
                <a:lnTo>
                  <a:pt x="0" y="25060"/>
                </a:lnTo>
                <a:lnTo>
                  <a:pt x="1400" y="23660"/>
                </a:lnTo>
                <a:lnTo>
                  <a:pt x="20200" y="23660"/>
                </a:lnTo>
                <a:close/>
              </a:path>
              <a:path fill="lighten" w="21600" h="25060">
                <a:moveTo>
                  <a:pt x="0" y="25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60"/>
                </a:lnTo>
                <a:close/>
              </a:path>
              <a:path fill="darken" w="21600" h="25060">
                <a:moveTo>
                  <a:pt x="10800" y="5567"/>
                </a:moveTo>
                <a:lnTo>
                  <a:pt x="13376" y="8178"/>
                </a:lnTo>
                <a:lnTo>
                  <a:pt x="13376" y="6438"/>
                </a:lnTo>
                <a:lnTo>
                  <a:pt x="15152" y="6438"/>
                </a:lnTo>
                <a:lnTo>
                  <a:pt x="15152" y="9954"/>
                </a:lnTo>
                <a:lnTo>
                  <a:pt x="17763" y="12530"/>
                </a:lnTo>
                <a:lnTo>
                  <a:pt x="16109" y="12530"/>
                </a:lnTo>
                <a:lnTo>
                  <a:pt x="16109" y="19719"/>
                </a:lnTo>
                <a:lnTo>
                  <a:pt x="5491" y="19719"/>
                </a:lnTo>
                <a:lnTo>
                  <a:pt x="5491" y="12530"/>
                </a:lnTo>
                <a:lnTo>
                  <a:pt x="3837" y="12530"/>
                </a:lnTo>
                <a:close/>
              </a:path>
              <a:path fill="darkenLess" w="21600" h="25060">
                <a:moveTo>
                  <a:pt x="13376" y="8178"/>
                </a:moveTo>
                <a:lnTo>
                  <a:pt x="13376" y="6438"/>
                </a:lnTo>
                <a:lnTo>
                  <a:pt x="15152" y="6438"/>
                </a:lnTo>
                <a:lnTo>
                  <a:pt x="15152" y="9954"/>
                </a:lnTo>
                <a:close/>
              </a:path>
              <a:path fill="darkenLess" w="21600" h="25060">
                <a:moveTo>
                  <a:pt x="9877" y="16029"/>
                </a:moveTo>
                <a:lnTo>
                  <a:pt x="11723" y="16029"/>
                </a:lnTo>
                <a:lnTo>
                  <a:pt x="11723" y="19719"/>
                </a:lnTo>
                <a:lnTo>
                  <a:pt x="16109" y="19719"/>
                </a:lnTo>
                <a:lnTo>
                  <a:pt x="16109" y="12530"/>
                </a:lnTo>
                <a:lnTo>
                  <a:pt x="5491" y="12530"/>
                </a:lnTo>
                <a:lnTo>
                  <a:pt x="5491" y="19719"/>
                </a:lnTo>
                <a:lnTo>
                  <a:pt x="9877" y="1971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Цветочный город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Назван город так не зр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оглядите-ка, друзь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десь кругом растут цв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Небывалой крас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Труд любой у нас в почё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Здесь лентяев не найдё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А когда потехе ча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еселее нету н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4" descr="IMG_7771"/>
          <p:cNvPicPr/>
          <p:nvPr/>
        </p:nvPicPr>
        <p:blipFill>
          <a:blip r:embed="rId1"/>
          <a:stretch/>
        </p:blipFill>
        <p:spPr>
          <a:xfrm>
            <a:off x="4356000" y="1197000"/>
            <a:ext cx="3888000" cy="2843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IMG_7776"/>
          <p:cNvPicPr/>
          <p:nvPr/>
        </p:nvPicPr>
        <p:blipFill>
          <a:blip r:embed="rId2"/>
          <a:stretch/>
        </p:blipFill>
        <p:spPr>
          <a:xfrm>
            <a:off x="324000" y="3068640"/>
            <a:ext cx="3851280" cy="294804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6"/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6:49:51Z</dcterms:created>
  <dc:creator>Admin</dc:creator>
  <dc:description/>
  <dc:language>en-US</dc:language>
  <cp:lastModifiedBy>ЮЛЯ</cp:lastModifiedBy>
  <dcterms:modified xsi:type="dcterms:W3CDTF">2018-03-22T07:30:52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