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28.wmf" ContentType="image/x-wmf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C15C-16CD-4039-A698-7F9F090B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EB99-34FE-48B4-8F1A-9E931D2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E4795-C33A-48E8-9117-EB470466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6CB4-CFEF-4C36-99E5-06773CB2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3B95-F6A3-4893-9DED-8F9E09CC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ED99-AACF-4261-8167-3FFE3D32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DE65-5219-4061-91E9-3DA9131F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BF53-68F7-4EE1-95CE-A1E88FB4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127F-49A7-4CE7-9CD9-D4189294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0B03-D9A8-46E8-99D1-46103B7D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9F5E-5443-4B41-8211-215FB4A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AAF9-67EC-410C-881E-44C8C608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C67C-240B-4559-9BF3-30F0A957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9AEA-65B1-43D3-8EB2-23D8E97A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18B8-264B-4B9A-BA53-0F5184E8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9D37-EBE2-4C82-A228-F1D64FFF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5621-6591-4418-8CBC-30CE1BAF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2816-6F20-42CE-8DE1-5A28AA0F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08F9-723F-460D-9162-CB86F2F2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76E8-DE85-48DA-93F1-ACE9E470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8849-D42A-4022-A37A-4F6D62BB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63BC-62C1-44B5-9825-83CB86B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B8C7-5934-48F4-B7DC-64F8760D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D514-4893-4741-AC0F-D6D9A0F0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1717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d8d882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97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7f794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7f794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10101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81F8-D4E2-422C-845E-0D6BC08180A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1717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d8d882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97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7f794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7f794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10101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007-66DA-439B-A0B7-51B1056BCDF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jpeg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5.xml"/><Relationship Id="rId19" Type="http://schemas.openxmlformats.org/officeDocument/2006/relationships/slide" Target="slide6.xml"/><Relationship Id="rId20" Type="http://schemas.openxmlformats.org/officeDocument/2006/relationships/slide" Target="slide7.xml"/><Relationship Id="rId21" Type="http://schemas.openxmlformats.org/officeDocument/2006/relationships/slide" Target="slide8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5.xml"/><Relationship Id="rId28" Type="http://schemas.openxmlformats.org/officeDocument/2006/relationships/slide" Target="slide16.xml"/><Relationship Id="rId29" Type="http://schemas.openxmlformats.org/officeDocument/2006/relationships/slide" Target=""/><Relationship Id="rId30" Type="http://schemas.openxmlformats.org/officeDocument/2006/relationships/slide" Target="slide9.xml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-3877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Методическая разработка</a:t>
            </a:r>
            <a:br>
              <a:rPr sz="1600"/>
            </a:b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«Влияние постановки сюжетно- игровых танцев на развитие творческих способностей детей дошкольного возраста» </a:t>
            </a:r>
            <a:br>
              <a:rPr sz="2400"/>
            </a:br>
            <a:br>
              <a:rPr sz="1600"/>
            </a:b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Музыкально-игровой спектакль:</a:t>
            </a:r>
            <a:br>
              <a:rPr sz="1600"/>
            </a:b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«Невероятные приключения коротышек и малышек в цветочном городе»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Л.Е.Весел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Музыкальный руководи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ГБДОУ №2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Василеостровского райо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neznayka"/>
          <p:cNvPicPr/>
          <p:nvPr/>
        </p:nvPicPr>
        <p:blipFill>
          <a:blip r:embed="rId1"/>
          <a:stretch/>
        </p:blipFill>
        <p:spPr>
          <a:xfrm>
            <a:off x="971640" y="3068640"/>
            <a:ext cx="266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Книга знаний и открытий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5652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Очень любим мы чита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Будем всё на свете зн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5" descr="IMG_7784"/>
          <p:cNvPicPr/>
          <p:nvPr/>
        </p:nvPicPr>
        <p:blipFill>
          <a:blip r:embed="rId1"/>
          <a:stretch/>
        </p:blipFill>
        <p:spPr>
          <a:xfrm>
            <a:off x="0" y="1989000"/>
            <a:ext cx="4033800" cy="2810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IMG_7793"/>
          <p:cNvPicPr/>
          <p:nvPr/>
        </p:nvPicPr>
        <p:blipFill>
          <a:blip r:embed="rId2"/>
          <a:stretch/>
        </p:blipFill>
        <p:spPr>
          <a:xfrm>
            <a:off x="4067280" y="3284640"/>
            <a:ext cx="4032000" cy="286992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Представление коротыше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И живут в стране ребята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амечательный народ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аждый занят своим дел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то танцует, кто поё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4" descr="IMG_7786"/>
          <p:cNvPicPr/>
          <p:nvPr/>
        </p:nvPicPr>
        <p:blipFill>
          <a:blip r:embed="rId1"/>
          <a:stretch/>
        </p:blipFill>
        <p:spPr>
          <a:xfrm>
            <a:off x="5435640" y="1413000"/>
            <a:ext cx="3132000" cy="2303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IMG_7787"/>
          <p:cNvPicPr/>
          <p:nvPr/>
        </p:nvPicPr>
        <p:blipFill>
          <a:blip r:embed="rId2"/>
          <a:stretch/>
        </p:blipFill>
        <p:spPr>
          <a:xfrm>
            <a:off x="324000" y="4005360"/>
            <a:ext cx="4033800" cy="26622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7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9" descr="IMG_7799"/>
          <p:cNvPicPr/>
          <p:nvPr/>
        </p:nvPicPr>
        <p:blipFill>
          <a:blip r:embed="rId3"/>
          <a:stretch/>
        </p:blipFill>
        <p:spPr>
          <a:xfrm>
            <a:off x="4859280" y="4005360"/>
            <a:ext cx="4105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Синеглазка и другие малышк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Глаза мои , как василёч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Я так красива, как цветоч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ишла я к вам из этой сказ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еня зовут все Синеглаз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5" descr="IMG_7808"/>
          <p:cNvPicPr/>
          <p:nvPr/>
        </p:nvPicPr>
        <p:blipFill>
          <a:blip r:embed="rId1"/>
          <a:stretch/>
        </p:blipFill>
        <p:spPr>
          <a:xfrm>
            <a:off x="5076720" y="1197000"/>
            <a:ext cx="3095640" cy="2462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MG_7811"/>
          <p:cNvPicPr/>
          <p:nvPr/>
        </p:nvPicPr>
        <p:blipFill>
          <a:blip r:embed="rId2"/>
          <a:stretch/>
        </p:blipFill>
        <p:spPr>
          <a:xfrm>
            <a:off x="4932360" y="386064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IMG_7816"/>
          <p:cNvPicPr/>
          <p:nvPr/>
        </p:nvPicPr>
        <p:blipFill>
          <a:blip r:embed="rId3"/>
          <a:stretch/>
        </p:blipFill>
        <p:spPr>
          <a:xfrm>
            <a:off x="0" y="3860640"/>
            <a:ext cx="4968720" cy="299736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1"/>
          <p:cNvSpPr/>
          <p:nvPr/>
        </p:nvSpPr>
        <p:spPr>
          <a:xfrm>
            <a:off x="8820000" y="6570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Незнайка в Цветочном город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сем и каждому скажу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Я всё знаю, всё мог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4" descr="IMG_7822"/>
          <p:cNvPicPr/>
          <p:nvPr/>
        </p:nvPicPr>
        <p:blipFill>
          <a:blip r:embed="rId1"/>
          <a:stretch/>
        </p:blipFill>
        <p:spPr>
          <a:xfrm>
            <a:off x="179280" y="2924280"/>
            <a:ext cx="4718160" cy="3527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IMG_7820"/>
          <p:cNvPicPr/>
          <p:nvPr/>
        </p:nvPicPr>
        <p:blipFill>
          <a:blip r:embed="rId2"/>
          <a:stretch/>
        </p:blipFill>
        <p:spPr>
          <a:xfrm>
            <a:off x="5003640" y="1341360"/>
            <a:ext cx="3745080" cy="30243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4932360" y="465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Я, Незнайка, всех умне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5003640" y="5373720"/>
            <a:ext cx="3889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просите это у друз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Незнайка рисует портреты коротышек и малыше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се сюда скорей беги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ас хочу нарисова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Тот кто хочет- поспеши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Я не буду долго жд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4" descr="IMG_7834"/>
          <p:cNvPicPr/>
          <p:nvPr/>
        </p:nvPicPr>
        <p:blipFill>
          <a:blip r:embed="rId1"/>
          <a:stretch/>
        </p:blipFill>
        <p:spPr>
          <a:xfrm>
            <a:off x="4643280" y="1413000"/>
            <a:ext cx="3384720" cy="245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IMG_7831"/>
          <p:cNvPicPr/>
          <p:nvPr/>
        </p:nvPicPr>
        <p:blipFill>
          <a:blip r:embed="rId2"/>
          <a:stretch/>
        </p:blipFill>
        <p:spPr>
          <a:xfrm>
            <a:off x="324000" y="378936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>
            <a:off x="8854920" y="657072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10868" y="3837"/>
                </a:moveTo>
                <a:lnTo>
                  <a:pt x="13444" y="6448"/>
                </a:lnTo>
                <a:lnTo>
                  <a:pt x="13444" y="4707"/>
                </a:lnTo>
                <a:lnTo>
                  <a:pt x="15219" y="4707"/>
                </a:lnTo>
                <a:lnTo>
                  <a:pt x="15219" y="8224"/>
                </a:lnTo>
                <a:lnTo>
                  <a:pt x="17831" y="10800"/>
                </a:lnTo>
                <a:lnTo>
                  <a:pt x="16177" y="10800"/>
                </a:lnTo>
                <a:lnTo>
                  <a:pt x="16177" y="17989"/>
                </a:lnTo>
                <a:lnTo>
                  <a:pt x="5558" y="17989"/>
                </a:lnTo>
                <a:lnTo>
                  <a:pt x="5558" y="10800"/>
                </a:lnTo>
                <a:lnTo>
                  <a:pt x="3905" y="10800"/>
                </a:lnTo>
                <a:close/>
              </a:path>
              <a:path fill="darkenLess" w="21735" h="21600">
                <a:moveTo>
                  <a:pt x="13444" y="6448"/>
                </a:moveTo>
                <a:lnTo>
                  <a:pt x="13444" y="4707"/>
                </a:lnTo>
                <a:lnTo>
                  <a:pt x="15219" y="4707"/>
                </a:lnTo>
                <a:lnTo>
                  <a:pt x="15219" y="8224"/>
                </a:lnTo>
                <a:close/>
              </a:path>
              <a:path fill="darkenLess" w="21735" h="21600">
                <a:moveTo>
                  <a:pt x="9945" y="14299"/>
                </a:moveTo>
                <a:lnTo>
                  <a:pt x="11790" y="14299"/>
                </a:lnTo>
                <a:lnTo>
                  <a:pt x="11790" y="17989"/>
                </a:lnTo>
                <a:lnTo>
                  <a:pt x="16177" y="17989"/>
                </a:lnTo>
                <a:lnTo>
                  <a:pt x="16177" y="10800"/>
                </a:lnTo>
                <a:lnTo>
                  <a:pt x="5558" y="10800"/>
                </a:lnTo>
                <a:lnTo>
                  <a:pt x="5558" y="17989"/>
                </a:lnTo>
                <a:lnTo>
                  <a:pt x="9945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IMG_7832"/>
          <p:cNvPicPr/>
          <p:nvPr/>
        </p:nvPicPr>
        <p:blipFill>
          <a:blip r:embed="rId3"/>
          <a:stretch/>
        </p:blipFill>
        <p:spPr>
          <a:xfrm>
            <a:off x="5219640" y="3860640"/>
            <a:ext cx="36244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Разукрасим все планет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обываем в чужих краях, незнакомых городах.(заключительный танец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4" descr="IMG_7847"/>
          <p:cNvPicPr/>
          <p:nvPr/>
        </p:nvPicPr>
        <p:blipFill>
          <a:blip r:embed="rId1"/>
          <a:stretch/>
        </p:blipFill>
        <p:spPr>
          <a:xfrm>
            <a:off x="0" y="2852640"/>
            <a:ext cx="4356000" cy="3672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IMG_7849"/>
          <p:cNvPicPr/>
          <p:nvPr/>
        </p:nvPicPr>
        <p:blipFill>
          <a:blip r:embed="rId2"/>
          <a:stretch/>
        </p:blipFill>
        <p:spPr>
          <a:xfrm>
            <a:off x="4319640" y="2852640"/>
            <a:ext cx="4824360" cy="36720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0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ониторинг развития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узыкальности дет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499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«С детьми играют, но они при этом не осознают, что 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уча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0" name="Object 41"/>
          <p:cNvGraphicFramePr/>
          <p:nvPr/>
        </p:nvGraphicFramePr>
        <p:xfrm>
          <a:off x="1332000" y="2421000"/>
          <a:ext cx="600372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21000"/>
                    <a:ext cx="6003720" cy="400680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Oval 45"/>
          <p:cNvSpPr/>
          <p:nvPr/>
        </p:nvSpPr>
        <p:spPr>
          <a:xfrm>
            <a:off x="7236000" y="4005360"/>
            <a:ext cx="21564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8"/>
          <p:cNvSpPr/>
          <p:nvPr/>
        </p:nvSpPr>
        <p:spPr>
          <a:xfrm>
            <a:off x="7236000" y="4365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7236000" y="4797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50"/>
          <p:cNvSpPr/>
          <p:nvPr/>
        </p:nvSpPr>
        <p:spPr>
          <a:xfrm>
            <a:off x="8712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3837"/>
                </a:moveTo>
                <a:lnTo>
                  <a:pt x="14096" y="6448"/>
                </a:lnTo>
                <a:lnTo>
                  <a:pt x="14096" y="4707"/>
                </a:lnTo>
                <a:lnTo>
                  <a:pt x="15872" y="4707"/>
                </a:lnTo>
                <a:lnTo>
                  <a:pt x="15872" y="8224"/>
                </a:lnTo>
                <a:lnTo>
                  <a:pt x="18483" y="10800"/>
                </a:lnTo>
                <a:lnTo>
                  <a:pt x="16829" y="10800"/>
                </a:lnTo>
                <a:lnTo>
                  <a:pt x="16829" y="17989"/>
                </a:lnTo>
                <a:lnTo>
                  <a:pt x="6211" y="17989"/>
                </a:lnTo>
                <a:lnTo>
                  <a:pt x="6211" y="10800"/>
                </a:lnTo>
                <a:lnTo>
                  <a:pt x="4557" y="10800"/>
                </a:lnTo>
                <a:close/>
              </a:path>
              <a:path fill="darkenLess" w="23040" h="21600">
                <a:moveTo>
                  <a:pt x="14096" y="6448"/>
                </a:moveTo>
                <a:lnTo>
                  <a:pt x="14096" y="4707"/>
                </a:lnTo>
                <a:lnTo>
                  <a:pt x="15872" y="4707"/>
                </a:lnTo>
                <a:lnTo>
                  <a:pt x="15872" y="8224"/>
                </a:lnTo>
                <a:close/>
              </a:path>
              <a:path fill="darkenLess" w="23040" h="21600">
                <a:moveTo>
                  <a:pt x="10597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29" y="17989"/>
                </a:lnTo>
                <a:lnTo>
                  <a:pt x="16829" y="10800"/>
                </a:lnTo>
                <a:lnTo>
                  <a:pt x="6211" y="10800"/>
                </a:lnTo>
                <a:lnTo>
                  <a:pt x="6211" y="17989"/>
                </a:lnTo>
                <a:lnTo>
                  <a:pt x="10597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арта диагностики уровня развития музыкальности детей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1413000"/>
          <a:ext cx="8172360" cy="5595840"/>
        </p:xfrm>
        <a:graphic>
          <a:graphicData uri="http://schemas.openxmlformats.org/drawingml/2006/table">
            <a:tbl>
              <a:tblPr/>
              <a:tblGrid>
                <a:gridCol w="5338800"/>
                <a:gridCol w="936720"/>
                <a:gridCol w="934920"/>
                <a:gridCol w="96192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оказатель развития 20 дете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.Воспитание любви и интереса к</a:t>
                      </a:r>
                      <a:r>
                        <a:rPr b="0" lang="ru-RU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музык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2.Воспитание эмоциональной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отзывчивости на музык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3.Развитие восприятия музык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4.Развитие вокально- хоровых</a:t>
                      </a:r>
                      <a:r>
                        <a:rPr b="0" lang="ru-RU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навы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5.Развитие музыкально-</a:t>
                      </a:r>
                      <a:r>
                        <a:rPr b="0" lang="ru-RU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итмических навы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6.Развитие музыкально-творческих</a:t>
                      </a: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способностей.</a:t>
                      </a:r>
                      <a:r>
                        <a:rPr b="0" lang="ru-RU" sz="3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Oval 259"/>
          <p:cNvSpPr/>
          <p:nvPr/>
        </p:nvSpPr>
        <p:spPr>
          <a:xfrm>
            <a:off x="5435640" y="1413000"/>
            <a:ext cx="647640" cy="576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ярк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63"/>
          <p:cNvSpPr/>
          <p:nvPr/>
        </p:nvSpPr>
        <p:spPr>
          <a:xfrm>
            <a:off x="6372360" y="1413000"/>
            <a:ext cx="64764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сла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65"/>
          <p:cNvSpPr/>
          <p:nvPr/>
        </p:nvSpPr>
        <p:spPr>
          <a:xfrm>
            <a:off x="7380360" y="141300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пло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76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Цель и за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Реализация основных программных принципов в работе над спектакл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Распределение ролей 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сценар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Что такое Детский сад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Дружба- это не рабо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Цветочный гор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Книга знаний и откры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едставление коротыш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Синеглазка и другие малыш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Незнайка в цветочном городе.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Незнайка рисует портреты коротышек и малыш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Разукрасим все плане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Мониторинг развития музыкальности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3240" indent="-361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диаграм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3240" indent="-361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таблица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О себе.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8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Незнайка"/>
          <p:cNvPicPr/>
          <p:nvPr/>
        </p:nvPicPr>
        <p:blipFill>
          <a:blip r:embed="rId15"/>
          <a:stretch/>
        </p:blipFill>
        <p:spPr>
          <a:xfrm>
            <a:off x="5219640" y="2205000"/>
            <a:ext cx="2519280" cy="2341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2">
            <a:hlinkClick r:id="rId16" action="ppaction://hlinksldjump"/>
          </p:cNvPr>
          <p:cNvSpPr/>
          <p:nvPr/>
        </p:nvSpPr>
        <p:spPr>
          <a:xfrm>
            <a:off x="3635280" y="2205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3419640" y="170028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6">
            <a:hlinkClick r:id="rId17" action="ppaction://hlinksldjump"/>
          </p:cNvPr>
          <p:cNvSpPr/>
          <p:nvPr/>
        </p:nvSpPr>
        <p:spPr>
          <a:xfrm>
            <a:off x="468360" y="170028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7">
            <a:hlinkClick r:id="rId18" action="ppaction://hlinksldjump"/>
          </p:cNvPr>
          <p:cNvSpPr/>
          <p:nvPr/>
        </p:nvSpPr>
        <p:spPr>
          <a:xfrm>
            <a:off x="468360" y="198900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8">
            <a:hlinkClick r:id="rId19" action="ppaction://hlinksldjump"/>
          </p:cNvPr>
          <p:cNvSpPr/>
          <p:nvPr/>
        </p:nvSpPr>
        <p:spPr>
          <a:xfrm>
            <a:off x="468360" y="242100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9">
            <a:hlinkClick r:id="rId20" action="ppaction://hlinksldjump"/>
          </p:cNvPr>
          <p:cNvSpPr/>
          <p:nvPr/>
        </p:nvSpPr>
        <p:spPr>
          <a:xfrm>
            <a:off x="468360" y="270828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0">
            <a:hlinkClick r:id="rId21" action="ppaction://hlinksldjump"/>
          </p:cNvPr>
          <p:cNvSpPr/>
          <p:nvPr/>
        </p:nvSpPr>
        <p:spPr>
          <a:xfrm>
            <a:off x="468360" y="299736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1">
            <a:hlinkClick r:id="rId22" action="ppaction://hlinksldjump"/>
          </p:cNvPr>
          <p:cNvSpPr/>
          <p:nvPr/>
        </p:nvSpPr>
        <p:spPr>
          <a:xfrm flipV="1">
            <a:off x="468360" y="357336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52">
            <a:hlinkClick r:id="rId23" action="ppaction://hlinksldjump"/>
          </p:cNvPr>
          <p:cNvSpPr/>
          <p:nvPr/>
        </p:nvSpPr>
        <p:spPr>
          <a:xfrm>
            <a:off x="468360" y="3860640"/>
            <a:ext cx="216000" cy="142920"/>
          </a:xfrm>
          <a:custGeom>
            <a:avLst/>
            <a:gdLst>
              <a:gd name="textAreaLeft" fmla="*/ 9000 w 216000"/>
              <a:gd name="textAreaRight" fmla="*/ 207000 w 2160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617" h="21600">
                <a:moveTo>
                  <a:pt x="0" y="0"/>
                </a:moveTo>
                <a:lnTo>
                  <a:pt x="32617" y="0"/>
                </a:lnTo>
                <a:lnTo>
                  <a:pt x="32617" y="21600"/>
                </a:lnTo>
                <a:lnTo>
                  <a:pt x="0" y="21600"/>
                </a:lnTo>
                <a:close/>
              </a:path>
              <a:path fill="lightenLess" w="32617" h="21600">
                <a:moveTo>
                  <a:pt x="0" y="0"/>
                </a:moveTo>
                <a:lnTo>
                  <a:pt x="32617" y="0"/>
                </a:lnTo>
                <a:lnTo>
                  <a:pt x="31217" y="1400"/>
                </a:lnTo>
                <a:lnTo>
                  <a:pt x="1400" y="1400"/>
                </a:lnTo>
                <a:close/>
              </a:path>
              <a:path fill="darken" w="32617" h="21600">
                <a:moveTo>
                  <a:pt x="32617" y="0"/>
                </a:moveTo>
                <a:lnTo>
                  <a:pt x="32617" y="21600"/>
                </a:lnTo>
                <a:lnTo>
                  <a:pt x="31217" y="20200"/>
                </a:lnTo>
                <a:lnTo>
                  <a:pt x="31217" y="1400"/>
                </a:lnTo>
                <a:close/>
              </a:path>
              <a:path fill="darkenLess" w="32617" h="21600">
                <a:moveTo>
                  <a:pt x="32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7" y="20200"/>
                </a:lnTo>
                <a:close/>
              </a:path>
              <a:path fill="lighten" w="32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7" h="21600">
                <a:moveTo>
                  <a:pt x="9302" y="3794"/>
                </a:moveTo>
                <a:lnTo>
                  <a:pt x="23315" y="10800"/>
                </a:lnTo>
                <a:lnTo>
                  <a:pt x="9302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53">
            <a:hlinkClick r:id="rId24" action="ppaction://hlinksldjump"/>
          </p:cNvPr>
          <p:cNvSpPr/>
          <p:nvPr/>
        </p:nvSpPr>
        <p:spPr>
          <a:xfrm>
            <a:off x="468360" y="414972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54">
            <a:hlinkClick r:id="rId25" action="ppaction://hlinksldjump"/>
          </p:cNvPr>
          <p:cNvSpPr/>
          <p:nvPr/>
        </p:nvSpPr>
        <p:spPr>
          <a:xfrm>
            <a:off x="468360" y="443700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5">
            <a:hlinkClick r:id="rId26" action="ppaction://hlinksldjump"/>
          </p:cNvPr>
          <p:cNvSpPr/>
          <p:nvPr/>
        </p:nvSpPr>
        <p:spPr>
          <a:xfrm>
            <a:off x="468360" y="472428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56">
            <a:hlinkClick r:id="rId27" action="ppaction://hlinksldjump"/>
          </p:cNvPr>
          <p:cNvSpPr/>
          <p:nvPr/>
        </p:nvSpPr>
        <p:spPr>
          <a:xfrm>
            <a:off x="468360" y="4941720"/>
            <a:ext cx="216000" cy="142920"/>
          </a:xfrm>
          <a:custGeom>
            <a:avLst/>
            <a:gdLst>
              <a:gd name="textAreaLeft" fmla="*/ 9000 w 216000"/>
              <a:gd name="textAreaRight" fmla="*/ 207000 w 2160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617" h="21600">
                <a:moveTo>
                  <a:pt x="0" y="0"/>
                </a:moveTo>
                <a:lnTo>
                  <a:pt x="32617" y="0"/>
                </a:lnTo>
                <a:lnTo>
                  <a:pt x="32617" y="21600"/>
                </a:lnTo>
                <a:lnTo>
                  <a:pt x="0" y="21600"/>
                </a:lnTo>
                <a:close/>
              </a:path>
              <a:path fill="lightenLess" w="32617" h="21600">
                <a:moveTo>
                  <a:pt x="0" y="0"/>
                </a:moveTo>
                <a:lnTo>
                  <a:pt x="32617" y="0"/>
                </a:lnTo>
                <a:lnTo>
                  <a:pt x="31217" y="1400"/>
                </a:lnTo>
                <a:lnTo>
                  <a:pt x="1400" y="1400"/>
                </a:lnTo>
                <a:close/>
              </a:path>
              <a:path fill="darken" w="32617" h="21600">
                <a:moveTo>
                  <a:pt x="32617" y="0"/>
                </a:moveTo>
                <a:lnTo>
                  <a:pt x="32617" y="21600"/>
                </a:lnTo>
                <a:lnTo>
                  <a:pt x="31217" y="20200"/>
                </a:lnTo>
                <a:lnTo>
                  <a:pt x="31217" y="1400"/>
                </a:lnTo>
                <a:close/>
              </a:path>
              <a:path fill="darkenLess" w="32617" h="21600">
                <a:moveTo>
                  <a:pt x="32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7" y="20200"/>
                </a:lnTo>
                <a:close/>
              </a:path>
              <a:path fill="lighten" w="32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7" h="21600">
                <a:moveTo>
                  <a:pt x="9302" y="3794"/>
                </a:moveTo>
                <a:lnTo>
                  <a:pt x="23315" y="10800"/>
                </a:lnTo>
                <a:lnTo>
                  <a:pt x="9302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7">
            <a:hlinkClick r:id="rId28" action="ppaction://hlinksldjump"/>
          </p:cNvPr>
          <p:cNvSpPr/>
          <p:nvPr/>
        </p:nvSpPr>
        <p:spPr>
          <a:xfrm>
            <a:off x="468360" y="522936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8">
            <a:hlinkClick r:id="rId29" action="ppaction://hlinksldjump"/>
          </p:cNvPr>
          <p:cNvSpPr/>
          <p:nvPr/>
        </p:nvSpPr>
        <p:spPr>
          <a:xfrm>
            <a:off x="468360" y="602136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9">
            <a:hlinkClick r:id="rId30" action="ppaction://hlinksldjump"/>
          </p:cNvPr>
          <p:cNvSpPr/>
          <p:nvPr/>
        </p:nvSpPr>
        <p:spPr>
          <a:xfrm>
            <a:off x="468360" y="328464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Цель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435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Главная задача: игровое, творческ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развитие личностного потенциала ребёнка, его природной музыкальности, развитие способности к творческому самовыражению как условие его радостного бытия и дальнейшей успешной самореал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cat-19"/>
          <p:cNvPicPr/>
          <p:nvPr/>
        </p:nvPicPr>
        <p:blipFill>
          <a:blip r:embed="rId1"/>
          <a:stretch/>
        </p:blipFill>
        <p:spPr>
          <a:xfrm>
            <a:off x="684360" y="549360"/>
            <a:ext cx="3166920" cy="1714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music_prg77"/>
          <p:cNvPicPr/>
          <p:nvPr/>
        </p:nvPicPr>
        <p:blipFill>
          <a:blip r:embed="rId2"/>
          <a:stretch/>
        </p:blipFill>
        <p:spPr>
          <a:xfrm>
            <a:off x="6084720" y="4508640"/>
            <a:ext cx="1571760" cy="15080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6">
            <a:hlinkClick r:id="rId3" action="ppaction://hlinksldjump"/>
          </p:cNvPr>
          <p:cNvSpPr/>
          <p:nvPr/>
        </p:nvSpPr>
        <p:spPr>
          <a:xfrm>
            <a:off x="8856720" y="6570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Задач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иобщение к музыкальному искусству через разностороннюю музыкально- творческую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еятель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оспитание интереса и любви к музы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развитие эмоциональной сфе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развитие креативных способностей: творческого воображения и фантаз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развитие музыкальных способностей детей в основных видах музыкальной,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исполнительская деятельность ( пение, музыкально- ритмическая деятельность,  восприятие музыки, творческое музицирова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923_m"/>
          <p:cNvPicPr/>
          <p:nvPr/>
        </p:nvPicPr>
        <p:blipFill>
          <a:blip r:embed="rId1"/>
          <a:stretch/>
        </p:blipFill>
        <p:spPr>
          <a:xfrm>
            <a:off x="395280" y="-171360"/>
            <a:ext cx="3203640" cy="18777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8854920" y="638172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10868" y="3837"/>
                </a:moveTo>
                <a:lnTo>
                  <a:pt x="13444" y="6448"/>
                </a:lnTo>
                <a:lnTo>
                  <a:pt x="13444" y="4707"/>
                </a:lnTo>
                <a:lnTo>
                  <a:pt x="15219" y="4707"/>
                </a:lnTo>
                <a:lnTo>
                  <a:pt x="15219" y="8224"/>
                </a:lnTo>
                <a:lnTo>
                  <a:pt x="17831" y="10800"/>
                </a:lnTo>
                <a:lnTo>
                  <a:pt x="16177" y="10800"/>
                </a:lnTo>
                <a:lnTo>
                  <a:pt x="16177" y="17989"/>
                </a:lnTo>
                <a:lnTo>
                  <a:pt x="5558" y="17989"/>
                </a:lnTo>
                <a:lnTo>
                  <a:pt x="5558" y="10800"/>
                </a:lnTo>
                <a:lnTo>
                  <a:pt x="3905" y="10800"/>
                </a:lnTo>
                <a:close/>
              </a:path>
              <a:path fill="darkenLess" w="21735" h="21600">
                <a:moveTo>
                  <a:pt x="13444" y="6448"/>
                </a:moveTo>
                <a:lnTo>
                  <a:pt x="13444" y="4707"/>
                </a:lnTo>
                <a:lnTo>
                  <a:pt x="15219" y="4707"/>
                </a:lnTo>
                <a:lnTo>
                  <a:pt x="15219" y="8224"/>
                </a:lnTo>
                <a:close/>
              </a:path>
              <a:path fill="darkenLess" w="21735" h="21600">
                <a:moveTo>
                  <a:pt x="9945" y="14299"/>
                </a:moveTo>
                <a:lnTo>
                  <a:pt x="11790" y="14299"/>
                </a:lnTo>
                <a:lnTo>
                  <a:pt x="11790" y="17989"/>
                </a:lnTo>
                <a:lnTo>
                  <a:pt x="16177" y="17989"/>
                </a:lnTo>
                <a:lnTo>
                  <a:pt x="16177" y="10800"/>
                </a:lnTo>
                <a:lnTo>
                  <a:pt x="5558" y="10800"/>
                </a:lnTo>
                <a:lnTo>
                  <a:pt x="5558" y="17989"/>
                </a:lnTo>
                <a:lnTo>
                  <a:pt x="9945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Реализация основных программных принцип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987640" y="2852640"/>
            <a:ext cx="2664000" cy="136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ограмм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инци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9280" y="3573360"/>
            <a:ext cx="720720" cy="43200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24000" y="1557360"/>
            <a:ext cx="792000" cy="43164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7236000" y="1700280"/>
            <a:ext cx="792000" cy="43164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539640" y="4869000"/>
            <a:ext cx="792360" cy="43164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7380360" y="3500280"/>
            <a:ext cx="792000" cy="43200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179280" y="378936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8172360" y="378936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7740720" y="522936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324000" y="177336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6227640" y="2637000"/>
            <a:ext cx="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5"/>
          <p:cNvSpPr/>
          <p:nvPr/>
        </p:nvSpPr>
        <p:spPr>
          <a:xfrm>
            <a:off x="324000" y="4292640"/>
            <a:ext cx="309708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Принцип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6"/>
          <p:cNvSpPr/>
          <p:nvPr/>
        </p:nvSpPr>
        <p:spPr>
          <a:xfrm>
            <a:off x="1042920" y="5516640"/>
            <a:ext cx="295272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инцип вариати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5580000" y="4221000"/>
            <a:ext cx="237672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минимак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539640" y="2205000"/>
            <a:ext cx="288000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инцип комфор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5364000" y="2276640"/>
            <a:ext cx="251964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инцип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539640" y="515772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716360" y="5589720"/>
            <a:ext cx="2881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инцип цело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6948360" y="4941720"/>
            <a:ext cx="792360" cy="43200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8028000" y="1916280"/>
            <a:ext cx="0" cy="8632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8856720" y="6570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Распределение рол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Сказка написана по мотивам романа – сказки Н.Носова « Приключение Незнайки»Количество ролей « подгоняется под состав группы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187280" y="2205000"/>
            <a:ext cx="568836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ети подготовительной 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50920" y="2924280"/>
            <a:ext cx="3132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альч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284720" y="2924280"/>
            <a:ext cx="309564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ев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900000" y="3500280"/>
            <a:ext cx="216072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ороты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859280" y="3573360"/>
            <a:ext cx="223200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алы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258920" y="616572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79280" y="414972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на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79280" y="472428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он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179280" y="530064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илюль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179280" y="587700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ин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2268360" y="414972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Незна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2268360" y="472428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Тюб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268360" y="530064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Гус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4211640" y="414972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Ласт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4211640" y="479736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Синегла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211640" y="537372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Лап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6372360" y="4148280"/>
            <a:ext cx="180000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ноп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6372360" y="4797360"/>
            <a:ext cx="180000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исонь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372360" y="5373720"/>
            <a:ext cx="180000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аинь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2627280" y="26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73"/>
          <p:cNvSpPr/>
          <p:nvPr/>
        </p:nvSpPr>
        <p:spPr>
          <a:xfrm flipH="1">
            <a:off x="3563640" y="2637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80"/>
          <p:cNvSpPr/>
          <p:nvPr/>
        </p:nvSpPr>
        <p:spPr>
          <a:xfrm>
            <a:off x="3708360" y="2637000"/>
            <a:ext cx="0" cy="0"/>
          </a:xfrm>
          <a:prstGeom prst="line">
            <a:avLst/>
          </a:prstGeom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2"/>
          <p:cNvSpPr/>
          <p:nvPr/>
        </p:nvSpPr>
        <p:spPr>
          <a:xfrm flipH="1">
            <a:off x="3780000" y="2637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76"/>
          <p:cNvSpPr/>
          <p:nvPr/>
        </p:nvSpPr>
        <p:spPr>
          <a:xfrm flipH="1">
            <a:off x="1619280" y="2637000"/>
            <a:ext cx="216072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77"/>
          <p:cNvSpPr/>
          <p:nvPr/>
        </p:nvSpPr>
        <p:spPr>
          <a:xfrm>
            <a:off x="3708360" y="2637000"/>
            <a:ext cx="230364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78"/>
          <p:cNvSpPr/>
          <p:nvPr/>
        </p:nvSpPr>
        <p:spPr>
          <a:xfrm>
            <a:off x="2050920" y="3357720"/>
            <a:ext cx="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9"/>
          <p:cNvSpPr/>
          <p:nvPr/>
        </p:nvSpPr>
        <p:spPr>
          <a:xfrm>
            <a:off x="608472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0"/>
          <p:cNvSpPr/>
          <p:nvPr/>
        </p:nvSpPr>
        <p:spPr>
          <a:xfrm>
            <a:off x="6084720" y="3357720"/>
            <a:ext cx="0" cy="14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81"/>
          <p:cNvSpPr/>
          <p:nvPr/>
        </p:nvSpPr>
        <p:spPr>
          <a:xfrm>
            <a:off x="608472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84"/>
          <p:cNvSpPr/>
          <p:nvPr/>
        </p:nvSpPr>
        <p:spPr>
          <a:xfrm>
            <a:off x="608472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86"/>
          <p:cNvSpPr/>
          <p:nvPr/>
        </p:nvSpPr>
        <p:spPr>
          <a:xfrm>
            <a:off x="6084720" y="3357720"/>
            <a:ext cx="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87"/>
          <p:cNvSpPr/>
          <p:nvPr/>
        </p:nvSpPr>
        <p:spPr>
          <a:xfrm flipH="1">
            <a:off x="755280" y="4005360"/>
            <a:ext cx="1152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88"/>
          <p:cNvSpPr/>
          <p:nvPr/>
        </p:nvSpPr>
        <p:spPr>
          <a:xfrm>
            <a:off x="1908000" y="4005360"/>
            <a:ext cx="129564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89"/>
          <p:cNvSpPr/>
          <p:nvPr/>
        </p:nvSpPr>
        <p:spPr>
          <a:xfrm flipH="1">
            <a:off x="684000" y="4005360"/>
            <a:ext cx="122364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90"/>
          <p:cNvSpPr/>
          <p:nvPr/>
        </p:nvSpPr>
        <p:spPr>
          <a:xfrm flipH="1">
            <a:off x="4716000" y="4005360"/>
            <a:ext cx="1368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91"/>
          <p:cNvSpPr/>
          <p:nvPr/>
        </p:nvSpPr>
        <p:spPr>
          <a:xfrm>
            <a:off x="6084720" y="4005360"/>
            <a:ext cx="1295640" cy="144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96"/>
          <p:cNvSpPr/>
          <p:nvPr/>
        </p:nvSpPr>
        <p:spPr>
          <a:xfrm flipH="1">
            <a:off x="4788000" y="4005360"/>
            <a:ext cx="1224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98"/>
          <p:cNvSpPr/>
          <p:nvPr/>
        </p:nvSpPr>
        <p:spPr>
          <a:xfrm flipH="1">
            <a:off x="4716000" y="4005360"/>
            <a:ext cx="1368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00"/>
          <p:cNvSpPr/>
          <p:nvPr/>
        </p:nvSpPr>
        <p:spPr>
          <a:xfrm flipH="1">
            <a:off x="4716000" y="4005360"/>
            <a:ext cx="1368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01"/>
          <p:cNvSpPr/>
          <p:nvPr/>
        </p:nvSpPr>
        <p:spPr>
          <a:xfrm>
            <a:off x="6084720" y="4005360"/>
            <a:ext cx="1366920" cy="14436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02"/>
          <p:cNvSpPr/>
          <p:nvPr/>
        </p:nvSpPr>
        <p:spPr>
          <a:xfrm flipH="1">
            <a:off x="4716360" y="4005360"/>
            <a:ext cx="1440000" cy="14436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04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05"/>
          <p:cNvSpPr/>
          <p:nvPr/>
        </p:nvSpPr>
        <p:spPr>
          <a:xfrm>
            <a:off x="1187280" y="45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206"/>
          <p:cNvSpPr/>
          <p:nvPr/>
        </p:nvSpPr>
        <p:spPr>
          <a:xfrm>
            <a:off x="1187280" y="515772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208"/>
          <p:cNvSpPr/>
          <p:nvPr/>
        </p:nvSpPr>
        <p:spPr>
          <a:xfrm>
            <a:off x="320364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09"/>
          <p:cNvSpPr/>
          <p:nvPr/>
        </p:nvSpPr>
        <p:spPr>
          <a:xfrm>
            <a:off x="3203640" y="5157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10"/>
          <p:cNvSpPr/>
          <p:nvPr/>
        </p:nvSpPr>
        <p:spPr>
          <a:xfrm>
            <a:off x="3276720" y="573408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12"/>
          <p:cNvSpPr/>
          <p:nvPr/>
        </p:nvSpPr>
        <p:spPr>
          <a:xfrm>
            <a:off x="1187280" y="45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13"/>
          <p:cNvSpPr/>
          <p:nvPr/>
        </p:nvSpPr>
        <p:spPr>
          <a:xfrm>
            <a:off x="3203640" y="45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16"/>
          <p:cNvSpPr/>
          <p:nvPr/>
        </p:nvSpPr>
        <p:spPr>
          <a:xfrm>
            <a:off x="514836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18"/>
          <p:cNvSpPr/>
          <p:nvPr/>
        </p:nvSpPr>
        <p:spPr>
          <a:xfrm>
            <a:off x="1187280" y="580536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19"/>
          <p:cNvSpPr/>
          <p:nvPr/>
        </p:nvSpPr>
        <p:spPr>
          <a:xfrm>
            <a:off x="1187280" y="573408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220"/>
          <p:cNvSpPr/>
          <p:nvPr/>
        </p:nvSpPr>
        <p:spPr>
          <a:xfrm>
            <a:off x="1187280" y="458136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221"/>
          <p:cNvSpPr/>
          <p:nvPr/>
        </p:nvSpPr>
        <p:spPr>
          <a:xfrm>
            <a:off x="3203640" y="458136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2"/>
          <p:cNvSpPr/>
          <p:nvPr/>
        </p:nvSpPr>
        <p:spPr>
          <a:xfrm>
            <a:off x="3203640" y="515772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23"/>
          <p:cNvSpPr/>
          <p:nvPr/>
        </p:nvSpPr>
        <p:spPr>
          <a:xfrm>
            <a:off x="5076720" y="4581360"/>
            <a:ext cx="0" cy="287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4"/>
          <p:cNvSpPr/>
          <p:nvPr/>
        </p:nvSpPr>
        <p:spPr>
          <a:xfrm>
            <a:off x="5148360" y="5229360"/>
            <a:ext cx="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225"/>
          <p:cNvSpPr/>
          <p:nvPr/>
        </p:nvSpPr>
        <p:spPr>
          <a:xfrm>
            <a:off x="7308720" y="458136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26"/>
          <p:cNvSpPr/>
          <p:nvPr/>
        </p:nvSpPr>
        <p:spPr>
          <a:xfrm>
            <a:off x="7380360" y="5229360"/>
            <a:ext cx="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231"/>
          <p:cNvSpPr/>
          <p:nvPr/>
        </p:nvSpPr>
        <p:spPr>
          <a:xfrm>
            <a:off x="2268360" y="587700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Шпун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34"/>
          <p:cNvSpPr/>
          <p:nvPr/>
        </p:nvSpPr>
        <p:spPr>
          <a:xfrm>
            <a:off x="3203640" y="573408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36"/>
          <p:cNvSpPr/>
          <p:nvPr/>
        </p:nvSpPr>
        <p:spPr>
          <a:xfrm>
            <a:off x="3203640" y="573408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39"/>
          <p:cNvSpPr/>
          <p:nvPr/>
        </p:nvSpPr>
        <p:spPr>
          <a:xfrm>
            <a:off x="6372360" y="5877000"/>
            <a:ext cx="172872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аз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40"/>
          <p:cNvSpPr/>
          <p:nvPr/>
        </p:nvSpPr>
        <p:spPr>
          <a:xfrm>
            <a:off x="4211640" y="587700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Бе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41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42"/>
          <p:cNvSpPr/>
          <p:nvPr/>
        </p:nvSpPr>
        <p:spPr>
          <a:xfrm>
            <a:off x="7380360" y="5805360"/>
            <a:ext cx="0" cy="14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43"/>
          <p:cNvSpPr/>
          <p:nvPr/>
        </p:nvSpPr>
        <p:spPr>
          <a:xfrm>
            <a:off x="8856720" y="659772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11919" y="3837"/>
                </a:moveTo>
                <a:lnTo>
                  <a:pt x="14495" y="6448"/>
                </a:lnTo>
                <a:lnTo>
                  <a:pt x="14495" y="4707"/>
                </a:lnTo>
                <a:lnTo>
                  <a:pt x="16271" y="4707"/>
                </a:lnTo>
                <a:lnTo>
                  <a:pt x="16271" y="8224"/>
                </a:lnTo>
                <a:lnTo>
                  <a:pt x="18882" y="10800"/>
                </a:lnTo>
                <a:lnTo>
                  <a:pt x="17228" y="10800"/>
                </a:lnTo>
                <a:lnTo>
                  <a:pt x="17228" y="17989"/>
                </a:lnTo>
                <a:lnTo>
                  <a:pt x="6610" y="17989"/>
                </a:lnTo>
                <a:lnTo>
                  <a:pt x="6610" y="10800"/>
                </a:lnTo>
                <a:lnTo>
                  <a:pt x="4956" y="10800"/>
                </a:lnTo>
                <a:close/>
              </a:path>
              <a:path fill="darkenLess" w="23838" h="21600">
                <a:moveTo>
                  <a:pt x="14495" y="6448"/>
                </a:moveTo>
                <a:lnTo>
                  <a:pt x="14495" y="4707"/>
                </a:lnTo>
                <a:lnTo>
                  <a:pt x="16271" y="4707"/>
                </a:lnTo>
                <a:lnTo>
                  <a:pt x="16271" y="8224"/>
                </a:lnTo>
                <a:close/>
              </a:path>
              <a:path fill="darkenLess" w="23838" h="21600">
                <a:moveTo>
                  <a:pt x="10996" y="14299"/>
                </a:moveTo>
                <a:lnTo>
                  <a:pt x="12841" y="14299"/>
                </a:lnTo>
                <a:lnTo>
                  <a:pt x="12841" y="17989"/>
                </a:lnTo>
                <a:lnTo>
                  <a:pt x="17228" y="17989"/>
                </a:lnTo>
                <a:lnTo>
                  <a:pt x="17228" y="10800"/>
                </a:lnTo>
                <a:lnTo>
                  <a:pt x="6610" y="10800"/>
                </a:lnTo>
                <a:lnTo>
                  <a:pt x="6610" y="17989"/>
                </a:lnTo>
                <a:lnTo>
                  <a:pt x="10996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Что такое детский сад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024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Это город для ребя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Уголочек дет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Где всему есть мест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Озорным смешинк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апелькам- слезинк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Играм, выдумкам и шутк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еселью, шуткам, прибаутк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десь в глазах у малыш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ир становится добр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Picture 4" descr="IMG_7747"/>
          <p:cNvPicPr/>
          <p:nvPr/>
        </p:nvPicPr>
        <p:blipFill>
          <a:blip r:embed="rId1"/>
          <a:stretch/>
        </p:blipFill>
        <p:spPr>
          <a:xfrm>
            <a:off x="4356000" y="1557360"/>
            <a:ext cx="3248280" cy="2506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IMG_7750"/>
          <p:cNvPicPr/>
          <p:nvPr/>
        </p:nvPicPr>
        <p:blipFill>
          <a:blip r:embed="rId2"/>
          <a:stretch/>
        </p:blipFill>
        <p:spPr>
          <a:xfrm>
            <a:off x="395280" y="3500280"/>
            <a:ext cx="3274920" cy="26211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11"/>
          <p:cNvSpPr/>
          <p:nvPr/>
        </p:nvSpPr>
        <p:spPr>
          <a:xfrm>
            <a:off x="8854920" y="6524640"/>
            <a:ext cx="289080" cy="333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04">
                <a:moveTo>
                  <a:pt x="0" y="0"/>
                </a:moveTo>
                <a:lnTo>
                  <a:pt x="21600" y="0"/>
                </a:lnTo>
                <a:lnTo>
                  <a:pt x="21600" y="24904"/>
                </a:lnTo>
                <a:lnTo>
                  <a:pt x="0" y="24904"/>
                </a:lnTo>
                <a:close/>
              </a:path>
              <a:path fill="lightenLess" w="21600" h="24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4">
                <a:moveTo>
                  <a:pt x="21600" y="0"/>
                </a:moveTo>
                <a:lnTo>
                  <a:pt x="21600" y="24904"/>
                </a:lnTo>
                <a:lnTo>
                  <a:pt x="20200" y="23504"/>
                </a:lnTo>
                <a:lnTo>
                  <a:pt x="20200" y="1400"/>
                </a:lnTo>
                <a:close/>
              </a:path>
              <a:path fill="darkenLess" w="21600" h="24904">
                <a:moveTo>
                  <a:pt x="21600" y="24904"/>
                </a:moveTo>
                <a:lnTo>
                  <a:pt x="0" y="24904"/>
                </a:lnTo>
                <a:lnTo>
                  <a:pt x="1400" y="23504"/>
                </a:lnTo>
                <a:lnTo>
                  <a:pt x="20200" y="23504"/>
                </a:lnTo>
                <a:close/>
              </a:path>
              <a:path fill="lighten" w="21600" h="24904">
                <a:moveTo>
                  <a:pt x="0" y="24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4"/>
                </a:lnTo>
                <a:close/>
              </a:path>
              <a:path fill="darken" w="21600" h="24904">
                <a:moveTo>
                  <a:pt x="10800" y="5489"/>
                </a:moveTo>
                <a:lnTo>
                  <a:pt x="13376" y="8100"/>
                </a:lnTo>
                <a:lnTo>
                  <a:pt x="13376" y="6360"/>
                </a:lnTo>
                <a:lnTo>
                  <a:pt x="15152" y="6360"/>
                </a:lnTo>
                <a:lnTo>
                  <a:pt x="15152" y="9876"/>
                </a:lnTo>
                <a:lnTo>
                  <a:pt x="17763" y="12452"/>
                </a:lnTo>
                <a:lnTo>
                  <a:pt x="16109" y="12452"/>
                </a:lnTo>
                <a:lnTo>
                  <a:pt x="16109" y="19641"/>
                </a:lnTo>
                <a:lnTo>
                  <a:pt x="5491" y="19641"/>
                </a:lnTo>
                <a:lnTo>
                  <a:pt x="5491" y="12452"/>
                </a:lnTo>
                <a:lnTo>
                  <a:pt x="3837" y="12452"/>
                </a:lnTo>
                <a:close/>
              </a:path>
              <a:path fill="darkenLess" w="21600" h="24904">
                <a:moveTo>
                  <a:pt x="13376" y="8100"/>
                </a:moveTo>
                <a:lnTo>
                  <a:pt x="13376" y="6360"/>
                </a:lnTo>
                <a:lnTo>
                  <a:pt x="15152" y="6360"/>
                </a:lnTo>
                <a:lnTo>
                  <a:pt x="15152" y="9876"/>
                </a:lnTo>
                <a:close/>
              </a:path>
              <a:path fill="darkenLess" w="21600" h="24904">
                <a:moveTo>
                  <a:pt x="9877" y="15951"/>
                </a:moveTo>
                <a:lnTo>
                  <a:pt x="11723" y="15951"/>
                </a:lnTo>
                <a:lnTo>
                  <a:pt x="11723" y="19641"/>
                </a:lnTo>
                <a:lnTo>
                  <a:pt x="16109" y="19641"/>
                </a:lnTo>
                <a:lnTo>
                  <a:pt x="16109" y="12452"/>
                </a:lnTo>
                <a:lnTo>
                  <a:pt x="5491" y="12452"/>
                </a:lnTo>
                <a:lnTo>
                  <a:pt x="5491" y="19641"/>
                </a:lnTo>
                <a:lnTo>
                  <a:pt x="9877" y="19641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Дружба- это не рабо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452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  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Если друга ты найдёшь,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С ним нигде не пропадёш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амеч                    Замечательная вдруг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Жизнь покажется вокруг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                                                    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евратились мы в малыше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А мальчишки в коротышек,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Интересно здесь у н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Сказка наша началась.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80808"/>
                </a:solidFill>
                <a:latin typeface="Tahoma"/>
              </a:rPr>
              <a:t>  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т  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4" descr="IMG_7769"/>
          <p:cNvPicPr/>
          <p:nvPr/>
        </p:nvPicPr>
        <p:blipFill>
          <a:blip r:embed="rId1"/>
          <a:stretch/>
        </p:blipFill>
        <p:spPr>
          <a:xfrm>
            <a:off x="684360" y="1413000"/>
            <a:ext cx="3527280" cy="2709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IMG_7762"/>
          <p:cNvPicPr/>
          <p:nvPr/>
        </p:nvPicPr>
        <p:blipFill>
          <a:blip r:embed="rId2"/>
          <a:stretch/>
        </p:blipFill>
        <p:spPr>
          <a:xfrm>
            <a:off x="4572000" y="3141720"/>
            <a:ext cx="3349800" cy="251928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8"/>
          <p:cNvSpPr/>
          <p:nvPr/>
        </p:nvSpPr>
        <p:spPr>
          <a:xfrm>
            <a:off x="8856720" y="6524640"/>
            <a:ext cx="287280" cy="333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60">
                <a:moveTo>
                  <a:pt x="0" y="0"/>
                </a:moveTo>
                <a:lnTo>
                  <a:pt x="21600" y="0"/>
                </a:lnTo>
                <a:lnTo>
                  <a:pt x="21600" y="25060"/>
                </a:lnTo>
                <a:lnTo>
                  <a:pt x="0" y="25060"/>
                </a:lnTo>
                <a:close/>
              </a:path>
              <a:path fill="lightenLess" w="21600" h="25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60">
                <a:moveTo>
                  <a:pt x="21600" y="0"/>
                </a:moveTo>
                <a:lnTo>
                  <a:pt x="21600" y="25060"/>
                </a:lnTo>
                <a:lnTo>
                  <a:pt x="20200" y="23660"/>
                </a:lnTo>
                <a:lnTo>
                  <a:pt x="20200" y="1400"/>
                </a:lnTo>
                <a:close/>
              </a:path>
              <a:path fill="darkenLess" w="21600" h="25060">
                <a:moveTo>
                  <a:pt x="21600" y="25060"/>
                </a:moveTo>
                <a:lnTo>
                  <a:pt x="0" y="25060"/>
                </a:lnTo>
                <a:lnTo>
                  <a:pt x="1400" y="23660"/>
                </a:lnTo>
                <a:lnTo>
                  <a:pt x="20200" y="23660"/>
                </a:lnTo>
                <a:close/>
              </a:path>
              <a:path fill="lighten" w="21600" h="25060">
                <a:moveTo>
                  <a:pt x="0" y="25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60"/>
                </a:lnTo>
                <a:close/>
              </a:path>
              <a:path fill="darken" w="21600" h="25060">
                <a:moveTo>
                  <a:pt x="10800" y="5567"/>
                </a:moveTo>
                <a:lnTo>
                  <a:pt x="13376" y="8178"/>
                </a:ln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lnTo>
                  <a:pt x="17763" y="12530"/>
                </a:lnTo>
                <a:lnTo>
                  <a:pt x="16109" y="12530"/>
                </a:lnTo>
                <a:lnTo>
                  <a:pt x="16109" y="19719"/>
                </a:lnTo>
                <a:lnTo>
                  <a:pt x="5491" y="19719"/>
                </a:lnTo>
                <a:lnTo>
                  <a:pt x="5491" y="12530"/>
                </a:lnTo>
                <a:lnTo>
                  <a:pt x="3837" y="12530"/>
                </a:lnTo>
                <a:close/>
              </a:path>
              <a:path fill="darkenLess" w="21600" h="25060">
                <a:moveTo>
                  <a:pt x="13376" y="8178"/>
                </a:move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close/>
              </a:path>
              <a:path fill="darkenLess" w="21600" h="25060">
                <a:moveTo>
                  <a:pt x="9877" y="16029"/>
                </a:moveTo>
                <a:lnTo>
                  <a:pt x="11723" y="16029"/>
                </a:lnTo>
                <a:lnTo>
                  <a:pt x="11723" y="19719"/>
                </a:lnTo>
                <a:lnTo>
                  <a:pt x="16109" y="19719"/>
                </a:lnTo>
                <a:lnTo>
                  <a:pt x="16109" y="12530"/>
                </a:lnTo>
                <a:lnTo>
                  <a:pt x="5491" y="12530"/>
                </a:lnTo>
                <a:lnTo>
                  <a:pt x="5491" y="19719"/>
                </a:lnTo>
                <a:lnTo>
                  <a:pt x="9877" y="1971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Цветочный гор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Назван город так не зр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оглядите-ка, друзь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десь кругом растут цв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Небывалой крас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Труд любой у нас в почё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десь лентяев не найдё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А когда потехе ч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еселее нету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4" descr="IMG_7771"/>
          <p:cNvPicPr/>
          <p:nvPr/>
        </p:nvPicPr>
        <p:blipFill>
          <a:blip r:embed="rId1"/>
          <a:stretch/>
        </p:blipFill>
        <p:spPr>
          <a:xfrm>
            <a:off x="4356000" y="1197000"/>
            <a:ext cx="3888000" cy="2843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IMG_7776"/>
          <p:cNvPicPr/>
          <p:nvPr/>
        </p:nvPicPr>
        <p:blipFill>
          <a:blip r:embed="rId2"/>
          <a:stretch/>
        </p:blipFill>
        <p:spPr>
          <a:xfrm>
            <a:off x="324000" y="3068640"/>
            <a:ext cx="3851280" cy="294804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6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49:51Z</dcterms:created>
  <dc:creator>Admin</dc:creator>
  <dc:description/>
  <dc:language>en-US</dc:language>
  <cp:lastModifiedBy>ЮЛЯ</cp:lastModifiedBy>
  <dcterms:modified xsi:type="dcterms:W3CDTF">2018-03-22T07:30:52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