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gif" ContentType="image/gif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4009-4326-49DB-9EFE-3AEEFB635F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7152-5829-429F-B9DF-4997D85D0E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D76-C6F7-4854-8B95-EB5F6B96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187-1B53-42AD-A4BB-E54F8E4D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616-0C2F-4B41-9B28-E56ECCEC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6BD-66BE-496D-9F1C-213C7BE5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BBBB-5EF3-46A2-9C43-17A925C9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27EE-8945-4F43-91CC-2E7DCCF4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690C-FB7F-452C-874F-9648732C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704F-7971-45E5-8167-E4422E63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5770-66C3-46C4-A812-FC359E72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A22B-7B92-47AF-8286-15B262F4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C6AB-3516-473F-A5C3-4936805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8AD-A45D-4F0E-9EDD-ED3EE964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0995-6379-41A1-B0E6-D9B862CF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80E7-4BAB-4676-B798-80480A65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4CE2-18F5-468B-84FB-9CA8EEC0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6AFA-CDE0-4A1A-BCB8-360218DE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7CC0-0BA2-41DF-A02A-A17AEADB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117-5611-48E8-9172-D2F72FC1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F147-7618-48F1-BCC3-5C6244FD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0404-FDB8-4EC0-B078-D9DAFDCF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F045-44F6-4AEB-960C-BA14FC9C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737-FAEC-4577-B194-4D02FD60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C685A-0205-4C7A-9866-6BE7769C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9FFCA-FB51-4496-BB52-2C9B6CDC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24AD-E362-41DD-9542-91D25A4C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D85F-F55A-4687-9B38-AA7ADD0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5583-F970-4B3C-ACBD-6062F210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A344-100A-48A7-A6EB-DC0F795B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D9615-0924-487C-9BCF-AC5369C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85A4-5A47-4BE6-8C1F-6E5FA43E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03090-A1F0-4DFB-8F54-EE9D50D9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8CC2-DFF6-4D91-A238-4EB291F0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11D-4FA7-4701-B3D3-F0F0E9E0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7E3E0-4965-45C0-AEED-523EDB1E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10E52-27BB-4768-A67A-D9933584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19E57-F336-4BD4-829D-501E865D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3F01A-2070-4BD6-A472-6B58E398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45E8C-40B3-435E-9DE7-14CB6280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72AB6-6510-44CB-8ED2-313144BE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8D495-A3C5-476A-9C63-1DE34A63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C637-6BE1-408E-9DAB-19989A23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9351-5359-4B10-82C9-85C0E74C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45A93-C03C-4F63-9ECE-47BE98CB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6D9-AEB4-419E-9596-B63AA104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704C7-46F1-4E99-B32A-6CE3A067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B08E6-F5E7-4DE4-9A98-52648516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83F99-9204-4C5D-87FE-41A0D4A7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42F6-670C-417E-9872-1CF6AE1C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8B32D-C69D-45D3-8669-E0052963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9F203-E181-4564-B9A9-D222ACAB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7B55B-3C0D-41C7-AA74-14D234EB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E9EDE-9E51-46D1-B546-72D78E8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1AE4B-6A5B-434A-A4D7-24D75E13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EC333-F40E-4FE3-9E1C-4256FB7B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D73-33EB-4684-A39E-8B467AE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23178-3773-456F-B14D-560F5FCF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EB221-58F7-4443-83D0-B957F8EE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52D15-69F6-43EA-9153-8CD518F3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E9B-A4FC-4C15-B3CC-B2C18E6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797-1676-4E53-B941-3590BEF4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1009-2484-4585-B73E-7215396B40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F055-04AF-4395-821E-A70B852AC8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C63A-AA21-4217-BDA6-BC00A2F3B1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78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0003-87A9-4DA2-8CF2-1600C0A0D0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B1DB-7176-42E4-9670-601D83B5D7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549360"/>
            <a:ext cx="8785080" cy="37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имская средняя общеобразовательная школа №1</a:t>
            </a:r>
            <a:br>
              <a:rPr sz="2000"/>
            </a:b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айонный  конкурс творческих проектов</a:t>
            </a:r>
            <a:br>
              <a:rPr sz="2000"/>
            </a:b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сследовательской направленности «Мудрый совёнок»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ворческий проект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ОРГАНЫ ЧУВСТВ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148000" y="4005360"/>
            <a:ext cx="3538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на Мария Алексеев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Игримская СОШ № 1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4 Б класс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бищевич Л.И.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Игримская СОШ №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7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рение –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пособность воспринимать величину, форму, цвет предметов и их расположение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Человеческий глаз не видит предмет сразу. Глаз воспринимает лишь световые волны. Эта информация передаётся в определённый участок мозга. И тогда эти светов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волны воспринимаются в виде определённых  предметов. Тогда человек видит его цвет, разме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Человеческий глаз устроен так, что видит в темноте и при ярком свет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9000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95640" y="404280"/>
            <a:ext cx="46800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троение глаз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2" name="Picture 2" descr="http://mirbiologii.ru/wp-content/uploads/2013/06/organ_zreniya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анцующие человечк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8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нцующие человечки это замечательная оптическая иллюзия, в которой используется эффект движения. Просто начните рассматривать этих человечков. Они очень любят, когда их рассматривают. В ответ на это, они пускаются в пляс и начинают исполнять весьма необычный танец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деюсь, что пластика их движений не оставит вас равнодушными. И помните, человечки станут неподвижными сразу после того, как только вы перестанете их рассматривать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58656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то интересно! А можно ли дать объяснение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43927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4920" y="301320"/>
            <a:ext cx="849780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Дефекты зрения – это близорукость и дальнозоркость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Берегите зрение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0" y="169992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.Читай, пиши только при хорошем освещении, но помни, что яркий свет не должен попадать в глаз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2.Следи за тем, чтобы книга или тетрадь были на расстоянии 30 – 35 сантиметров от глаз. Свет должен падать слев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3.Не читай лёж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4.Не читай в транспорт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5.Если долго читаешь, пишешь, рисуешь, каждые 30 минут давай глазам отдохнуть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6.Вредно для глаз долго смотреть телевизор, компьютер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7.Не три глаза руками – так можно занести соринку или опасные бактери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8.Пользуйся чистым носовым платком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9.Не стесняйся носить оч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087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Второй по важности орган чувств – ух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Ухо человека включает три отделения – </a:t>
            </a:r>
            <a:r>
              <a:rPr b="1" i="1" lang="ru-RU" sz="2000" spc="-1" strike="noStrike">
                <a:solidFill>
                  <a:srgbClr val="9933ff"/>
                </a:solidFill>
                <a:latin typeface="Verdana"/>
              </a:rPr>
              <a:t>наружное, среднее, внутреннее ухо</a:t>
            </a:r>
            <a:r>
              <a:rPr b="1" lang="ru-RU" sz="2000" spc="-1" strike="noStrike">
                <a:solidFill>
                  <a:srgbClr val="660066"/>
                </a:solidFill>
                <a:latin typeface="Verdana"/>
              </a:rPr>
              <a:t>.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Видимая часть уха называется </a:t>
            </a:r>
            <a:r>
              <a:rPr b="1" i="1" lang="ru-RU" sz="2000" spc="-1" strike="noStrike">
                <a:solidFill>
                  <a:srgbClr val="9933ff"/>
                </a:solidFill>
                <a:latin typeface="Verdana"/>
              </a:rPr>
              <a:t>ушной раковиной</a:t>
            </a:r>
            <a:r>
              <a:rPr b="1" lang="ru-RU" sz="2000" spc="-1" strike="noStrike">
                <a:solidFill>
                  <a:srgbClr val="660066"/>
                </a:solidFill>
                <a:latin typeface="Verdana"/>
              </a:rPr>
              <a:t>.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Она сама ничего не слышит, а только улавливает звуковые волны, которые потом проникают глубже и заставляют вибрировать </a:t>
            </a:r>
            <a:r>
              <a:rPr b="1" i="1" lang="ru-RU" sz="2000" spc="-1" strike="noStrike">
                <a:solidFill>
                  <a:srgbClr val="9933ff"/>
                </a:solidFill>
                <a:latin typeface="Verdana"/>
              </a:rPr>
              <a:t>барабанную перепонку.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Дальше колебания передаются в среднее ухо , а затем через внутреннее ухо – в мозг. Во внутреннем ухе есть </a:t>
            </a:r>
            <a:r>
              <a:rPr b="1" i="1" lang="ru-RU" sz="2000" spc="-1" strike="noStrike" u="sng">
                <a:solidFill>
                  <a:srgbClr val="ff0066"/>
                </a:solidFill>
                <a:uFillTx/>
                <a:latin typeface="Verdana"/>
              </a:rPr>
              <a:t>орган равновесия.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Поэтому даже если мы закроем глаза, то всё равно будем знать, где верх, а где низ, где лево, а где прав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Verdana"/>
              </a:rPr>
              <a:t>     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Значит ухо – это орган слуха и равновесия.</a:t>
            </a: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7" descr="строение уха"/>
          <p:cNvPicPr/>
          <p:nvPr/>
        </p:nvPicPr>
        <p:blipFill>
          <a:blip r:embed="rId1"/>
          <a:stretch/>
        </p:blipFill>
        <p:spPr>
          <a:xfrm>
            <a:off x="1908000" y="3786120"/>
            <a:ext cx="5256360" cy="307188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30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лух тесно связан с речью. Ребёнок сначала слышит и понимает речь, а затем уже учится говорить. Отсутствие слуха значительно обедняет мир человека, лишает его возможности общения.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31640" y="2491920"/>
            <a:ext cx="5832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Берегите уши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79280" y="292392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1.Надо регулярно мыть уши с мылом и чистить туго скрученной ват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2.Никогда не ковыряйте в ушах спичками, булавками и другими предметами. Можете повредить барабанную перепонку и потерять слу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3.Сильный шум, резкие звуки, громкая музыка портят слу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4. Чаще отдыхайте в  тишин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5.Если почувствуете боль в ухе, сразу обращайтесь к врачу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Обоняние увеличивает информацию об окружающем мире. Наиболее остро обоняние летом и весной, особенно в тёплую и влажную погоду. На свету обоняние острее, чем в темнот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Если человек теряет обоняние, то для него пища теряет вкус, и такие люди могут отравиться, так как не могут определить некачественной пищ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9" descr="yjc2"/>
          <p:cNvPicPr/>
          <p:nvPr/>
        </p:nvPicPr>
        <p:blipFill>
          <a:blip r:embed="rId1"/>
          <a:stretch/>
        </p:blipFill>
        <p:spPr>
          <a:xfrm>
            <a:off x="3564000" y="4429080"/>
            <a:ext cx="432108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12944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Берегите обоняние!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1.Надо закаляться, беречь организм от простуды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2.Не курить, так как курение ухудшает обоняние.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108000" y="404280"/>
            <a:ext cx="5004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Кожа –</a:t>
            </a: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орган осяз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Её чувствительность заключается в том, что мы распознаём предмет, к которому прикасаемс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Picture 13" descr="кожа 1"/>
          <p:cNvPicPr/>
          <p:nvPr/>
        </p:nvPicPr>
        <p:blipFill>
          <a:blip r:embed="rId1"/>
          <a:stretch/>
        </p:blipFill>
        <p:spPr>
          <a:xfrm>
            <a:off x="4643280" y="2349360"/>
            <a:ext cx="4249800" cy="2951280"/>
          </a:xfrm>
          <a:prstGeom prst="rect">
            <a:avLst/>
          </a:prstGeom>
          <a:ln w="0">
            <a:noFill/>
          </a:ln>
        </p:spPr>
      </p:pic>
    </p:spTree>
  </p:cSld>
  <p:transition advTm="15000">
    <p:split dir="out" orient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чему я выбрала эту тему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будущем хочу связать свою жизнь и профессию с медициной, поэтому о строении человека надо знать все, буду постепенно изуча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Verdana"/>
              </a:rPr>
              <a:t>Осязание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способность человека чувствовать прикоснов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Кожа может «рассказать» человеку о том, что его окружает. Кожей мы можем ощущать холод или тепло, ветер или жар, жжение или удар, решить, что для нас хорошо, а что плохо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Но кожа нас не только предупреждает об угрозе, но и защищает. Поэтому она обладает такими качествами, как прочность и упругость.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Берегите кожу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Не допускайте ожогов, обморожений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br>
              <a:rPr sz="32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347640" y="2060280"/>
            <a:ext cx="5543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Язык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– орган вку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Основных вкусов всего 4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сладки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солёны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кисл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горьк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Но всем богатством оттенков вкуса мы обязаны обонянию. </a:t>
            </a:r>
            <a:br>
              <a:rPr sz="20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7" descr="язык"/>
          <p:cNvPicPr/>
          <p:nvPr/>
        </p:nvPicPr>
        <p:blipFill>
          <a:blip r:embed="rId1"/>
          <a:stretch/>
        </p:blipFill>
        <p:spPr>
          <a:xfrm>
            <a:off x="250920" y="2060640"/>
            <a:ext cx="277164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78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cc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наружи язык покрыт бесчисленны множеством сосочков. В них заложены окончания нервов, умеющих ощущать, что попало в ро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ладкое и солёное язык ощущает своим кончиком, кислое – боками, а горькое – корнем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7" descr="вкус"/>
          <p:cNvPicPr/>
          <p:nvPr/>
        </p:nvPicPr>
        <p:blipFill>
          <a:blip r:embed="rId1"/>
          <a:stretch/>
        </p:blipFill>
        <p:spPr>
          <a:xfrm>
            <a:off x="4643280" y="981000"/>
            <a:ext cx="4321440" cy="4392720"/>
          </a:xfrm>
          <a:prstGeom prst="rect">
            <a:avLst/>
          </a:prstGeom>
          <a:ln w="0">
            <a:noFill/>
          </a:ln>
        </p:spPr>
      </p:pic>
    </p:spTree>
  </p:cSld>
  <p:transition advTm="17000">
    <p:split dir="out" orient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2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ы чувств помогают человеку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принимать окружающий мир.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9" name="Picture 10" descr="итог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697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Человек познаёт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окружающий мир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1" name="Picture 9" descr="feeling"/>
          <p:cNvPicPr/>
          <p:nvPr/>
        </p:nvPicPr>
        <p:blipFill>
          <a:blip r:embed="rId1"/>
          <a:stretch/>
        </p:blipFill>
        <p:spPr>
          <a:xfrm>
            <a:off x="3492360" y="1341360"/>
            <a:ext cx="2837160" cy="2265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ест"/>
          <p:cNvPicPr/>
          <p:nvPr/>
        </p:nvPicPr>
        <p:blipFill>
          <a:blip r:embed="rId2"/>
          <a:stretch/>
        </p:blipFill>
        <p:spPr>
          <a:xfrm>
            <a:off x="755640" y="3284640"/>
            <a:ext cx="1749600" cy="244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4" descr="муз1"/>
          <p:cNvPicPr/>
          <p:nvPr/>
        </p:nvPicPr>
        <p:blipFill>
          <a:blip r:embed="rId3"/>
          <a:stretch/>
        </p:blipFill>
        <p:spPr>
          <a:xfrm>
            <a:off x="2916360" y="4076640"/>
            <a:ext cx="2447640" cy="1944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6" descr="рад"/>
          <p:cNvPicPr/>
          <p:nvPr/>
        </p:nvPicPr>
        <p:blipFill>
          <a:blip r:embed="rId4"/>
          <a:stretch/>
        </p:blipFill>
        <p:spPr>
          <a:xfrm>
            <a:off x="539640" y="1268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7" descr="нюх"/>
          <p:cNvPicPr/>
          <p:nvPr/>
        </p:nvPicPr>
        <p:blipFill>
          <a:blip r:embed="rId5"/>
          <a:stretch/>
        </p:blipFill>
        <p:spPr>
          <a:xfrm>
            <a:off x="6516720" y="907920"/>
            <a:ext cx="2016000" cy="26496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8" descr="лотос"/>
          <p:cNvPicPr/>
          <p:nvPr/>
        </p:nvPicPr>
        <p:blipFill>
          <a:blip r:embed="rId6"/>
          <a:stretch/>
        </p:blipFill>
        <p:spPr>
          <a:xfrm>
            <a:off x="5796000" y="3860640"/>
            <a:ext cx="2952720" cy="2089440"/>
          </a:xfrm>
          <a:prstGeom prst="rect">
            <a:avLst/>
          </a:prstGeom>
          <a:ln w="0">
            <a:noFill/>
          </a:ln>
        </p:spPr>
      </p:pic>
    </p:spTree>
  </p:cSld>
  <p:transition advTm="18000">
    <p:split dir="out" orient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«Не глаз видит, не ухо слышит, </a:t>
            </a:r>
            <a:br>
              <a:rPr sz="3200"/>
            </a:b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не нос ощущает, а мозг!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Из внешнего мира мы получаем информацию в виде чувств, передаём эту информацию в мозг, чтобы он мог их осознать и принять нужное реш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се органы чувств действуют совместно, главных и второстепенных среди них нет. Они помогают друг другу и дополняют друг друга. И все они имеют память. Человек имеет 5 органов чувств. Все другие теории о том, что их 6, 7, 8 пока не имеют доказательной научной основы. Есть что исследовать, время покажет, вс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переди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6" descr="мозг2"/>
          <p:cNvPicPr/>
          <p:nvPr/>
        </p:nvPicPr>
        <p:blipFill>
          <a:blip r:embed="rId1"/>
          <a:stretch/>
        </p:blipFill>
        <p:spPr>
          <a:xfrm>
            <a:off x="6800760" y="5143680"/>
            <a:ext cx="2343240" cy="1714320"/>
          </a:xfrm>
          <a:prstGeom prst="rect">
            <a:avLst/>
          </a:prstGeom>
          <a:ln w="0">
            <a:noFill/>
          </a:ln>
        </p:spPr>
      </p:pic>
    </p:spTree>
  </p:cSld>
  <p:transition advTm="28000">
    <p:split dir="out" orient="ver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Интернет-ресурсы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sdorov.ru/attachments/Image/risunok76.png?template=gener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www.velvet.by/files/userfiles/4467/nose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o-samom-glavnom.tv/sites/default/files/img/nos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yogagimalai.files.wordpress.com/2012/03/feeling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900igr.net/datai/okruzhajuschij-mir/Mir-chuvstv/0002-001-Glaza-organ-zrenija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upload.wikimedia.org/wikipedia/commons/7/71/Menschliches_auge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images.newsukraine.com.ua/news/2010/5/6/ushi-spasli-zhizn-malchiku/real/01_ushi-spasli-zhizn-malchiku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img0.liveinternet.ru/images/attach/c/1/61/872/61872732_48624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gorod-magov.ucoz.org/_fr/7/9200476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http://img1.liveinternet.ru/images/attach/b/3/4/448/4448126_mozg.JP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43" name="Picture 2" descr="http://900igr.net/datas/religii-i-etika/Dobrota-spaset-mir/0006-006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сширение знаний о пяти основных системах организма человека – органах чувст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знать какие органы чувств существуют и какую функцию в организме они выполняю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ить какой орган чувств самый главны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6312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41520" y="260280"/>
            <a:ext cx="7991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Verdana"/>
              </a:rPr>
              <a:t>Основополагающий вопрос проекта:</a:t>
            </a:r>
            <a:br>
              <a:rPr sz="21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жно ли прожить без органов чувств и какой из них самый главный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2" descr="H:\органы чувств\Безымянный 1.jpg"/>
          <p:cNvPicPr/>
          <p:nvPr/>
        </p:nvPicPr>
        <p:blipFill>
          <a:blip r:embed="rId1"/>
          <a:srcRect l="0" t="9592" r="0" b="0"/>
          <a:stretch/>
        </p:blipFill>
        <p:spPr>
          <a:xfrm>
            <a:off x="1042920" y="2492280"/>
            <a:ext cx="7704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84360" y="476280"/>
            <a:ext cx="820872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рганы чувств человека даны природой для хорошей адаптации в окружающем мире. Ранее, в первобытном мире, органы чувств давали возможность избежать смертельной опасности и помогали в добыче пропитания. Органы чувств объединены в пять основных систем, благодаря которым мы можем видеть, чувствовать запахи, прикосновения, слышать звуки, ощущать вкус потребляемой пищ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тапы проект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8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яю творческое название проек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ляю план работ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у материал для през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следую материа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ляю доклад и презентаци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280" y="301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лан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то такое органы чувств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 работают органы чувств и анализаторы в целом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 предупредить возможные нарушения работы органов чувств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ключ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4" descr="10"/>
          <p:cNvPicPr/>
          <p:nvPr/>
        </p:nvPicPr>
        <p:blipFill>
          <a:blip r:embed="rId1"/>
          <a:stretch/>
        </p:blipFill>
        <p:spPr>
          <a:xfrm>
            <a:off x="0" y="4581360"/>
            <a:ext cx="1835280" cy="1839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Пальцы"/>
          <p:cNvPicPr/>
          <p:nvPr/>
        </p:nvPicPr>
        <p:blipFill>
          <a:blip r:embed="rId2"/>
          <a:stretch/>
        </p:blipFill>
        <p:spPr>
          <a:xfrm>
            <a:off x="7164360" y="333360"/>
            <a:ext cx="172872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рганы, с помощью которых человек воспринимает или «чувствует» окружающий мир, называют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ами чувств.</a:t>
            </a:r>
            <a:br>
              <a:rPr sz="40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9" descr="глаз"/>
          <p:cNvPicPr/>
          <p:nvPr/>
        </p:nvPicPr>
        <p:blipFill>
          <a:blip r:embed="rId1"/>
          <a:stretch/>
        </p:blipFill>
        <p:spPr>
          <a:xfrm>
            <a:off x="1619280" y="1557360"/>
            <a:ext cx="2424240" cy="1684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уши"/>
          <p:cNvPicPr/>
          <p:nvPr/>
        </p:nvPicPr>
        <p:blipFill>
          <a:blip r:embed="rId2"/>
          <a:stretch/>
        </p:blipFill>
        <p:spPr>
          <a:xfrm>
            <a:off x="5796000" y="1347840"/>
            <a:ext cx="1871640" cy="1790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язык"/>
          <p:cNvPicPr/>
          <p:nvPr/>
        </p:nvPicPr>
        <p:blipFill>
          <a:blip r:embed="rId3"/>
          <a:stretch/>
        </p:blipFill>
        <p:spPr>
          <a:xfrm>
            <a:off x="5508720" y="5084640"/>
            <a:ext cx="2081160" cy="1773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нос"/>
          <p:cNvPicPr/>
          <p:nvPr/>
        </p:nvPicPr>
        <p:blipFill>
          <a:blip r:embed="rId4"/>
          <a:stretch/>
        </p:blipFill>
        <p:spPr>
          <a:xfrm>
            <a:off x="1785960" y="4941720"/>
            <a:ext cx="3146400" cy="1886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кожа2"/>
          <p:cNvPicPr/>
          <p:nvPr/>
        </p:nvPicPr>
        <p:blipFill>
          <a:blip r:embed="rId5"/>
          <a:stretch/>
        </p:blipFill>
        <p:spPr>
          <a:xfrm>
            <a:off x="1692360" y="3213000"/>
            <a:ext cx="6192720" cy="1619280"/>
          </a:xfrm>
          <a:prstGeom prst="rect">
            <a:avLst/>
          </a:prstGeom>
          <a:ln w="0">
            <a:noFill/>
          </a:ln>
        </p:spPr>
      </p:pic>
    </p:spTree>
  </p:cSld>
  <p:transition advTm="14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1:20:04Z</dcterms:created>
  <dc:creator>впл</dc:creator>
  <dc:description/>
  <dc:language>en-US</dc:language>
  <cp:lastModifiedBy>user</cp:lastModifiedBy>
  <dcterms:modified xsi:type="dcterms:W3CDTF">2016-12-02T11:31:21Z</dcterms:modified>
  <cp:revision>27</cp:revision>
  <dc:subject/>
  <dc:title>Биология Тема « Органы чувств» (8 класс)</dc:title>
</cp:coreProperties>
</file>