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gif" ContentType="image/gif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88B6-CB1D-4BE8-8D91-62911E452A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F29C-6ECF-4A61-9EB3-47B7428E5D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43B-415A-4B19-8568-8D3B7B52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D78-2F5B-42C0-A29E-321BCF59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3F6-1238-4B70-B43E-3AFC0393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2B6-A395-419C-AB26-E6ADC2EC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EE29-47DB-4A3C-8FFB-C8D9B4FB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DAEB-714F-403F-A19D-A7757973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43DE-5E13-4D4C-8ABD-84267B2B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BB16-917F-4703-823C-25510447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B2C9-557F-4DAD-9A94-1CC806C0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92E0-6A1E-49DE-A827-C3678BCA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726E-3B71-4511-B077-1951580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C31-AC2F-48F1-BA0B-7DC97199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AF62-154F-4EA3-84AA-D38059D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3479-75DE-4FAF-8351-2464EC0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2275-30E8-4EB2-A54C-CF76C562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65BF-BD8C-41F7-A7BD-B02FEDD7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7815-2CFA-4F77-85E5-53B08241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5D6-D04D-4FDA-876A-898D717B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8A47-6F20-4CB9-BAAA-9BF0673D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2907-650B-4B67-B817-00770856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32F0-2C59-4698-95FB-53087CBC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70F-A319-492B-A953-BF0EEE69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A695-9719-4F96-A45E-A9E8C987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A941-DA32-408C-A974-00D3C91C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BD3F-D006-42D3-9C6F-F294CCA3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5BC1-5FCA-463E-AEFA-461C3260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66E1-9F41-442C-99A6-8EA0B9FA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7CE6-761E-4DBE-BD71-F3BD5450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77AF-3BFA-40C9-A5EE-6715834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0222-CBFD-4B41-9611-3FD28580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5A83-22A3-46CD-82FB-D661919A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6174-58EA-448A-8520-6B69A5A9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A83-6E09-4B6C-B7A8-ECA4627F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AF82C-767F-4B6F-8685-640C32AF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4D40-355B-4FF0-AB77-0C9867AC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FD2F-EF6C-4EC1-87D0-1002BFAE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3CDD-E0ED-4AED-AD38-E311344D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3D878-F23F-48A6-93F9-649EC9F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43576-8D4E-4B4B-BA2A-6F4FF45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78E4-7C47-478C-A378-EF626AA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F808-F0F5-4EF2-8DDC-54B50F20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D8184-DEFC-472E-A4D2-43B76902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1821-BB50-451A-BA2F-328C709D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AB3-35C6-4882-8780-F5558EA1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3C8BD-19E2-43F2-9E98-E0FC19DF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4EDA-5895-4124-903B-11830111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6CD6-0246-487E-83F6-AB39C056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12449-74F7-4265-8520-B3FB0857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086F1-1D8A-4434-A0C3-A1CA7F2C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2EAD-B582-46A8-B4A7-49135DCB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A33E-9F55-4FA3-A858-3C87DD1D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C1DB2-81B7-406E-A560-ABFA08F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6BAF-C8D3-4DE2-A9CD-333040E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706A3-96A3-4152-B7FB-67AC431B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27A-BC0D-470E-8FD5-085E6CCD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A612F-F236-4AEC-A5D2-DE779DC8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EF3B-9F06-470F-B431-8ADD9DBB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3E9EA-B9EE-4146-A5B3-7C8C5B8C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11E-06FC-4EE9-9AEA-8E06A01A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7DA-DF76-4D9D-9E3C-3315785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AFE7-2F19-4F70-B9E8-D2E804DE04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3CE9-B7E0-4F1A-B424-273F83A4C0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7204-E8BD-4513-826A-6A0991714A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78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F1A7-4588-48A6-88D0-B0F3FE6A7B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E017-C278-491A-B812-8755E4DE3D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785080" cy="37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имская средняя общеобразовательная школа №1</a:t>
            </a:r>
            <a:br>
              <a:rPr sz="2000"/>
            </a:b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йонный  конкурс творческих проектов</a:t>
            </a:r>
            <a:br>
              <a:rPr sz="20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сследовательской направленности «Мудрый совёнок»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ворческий проект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ОРГАНЫ ЧУВСТВ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148000" y="4005360"/>
            <a:ext cx="3538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на Мария Алексеев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Игримская СОШ № 1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Б класс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бищевич Л.И.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Игримская СОШ №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рение –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пособность воспринимать величину, форму, цвет предметов и их расположение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Человеческий глаз не видит предмет сразу. Глаз воспринимает лишь световые волны. Эта информация передаётся в определённый участок мозга. И тогда эти светов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волны воспринимаются в виде определённых  предметов. Тогда человек видит его цвет, разме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Человеческий глаз устроен так, что видит в темноте и при ярком свет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9000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95640" y="404280"/>
            <a:ext cx="46800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троение глаз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2" name="Picture 2" descr="http://mirbiologii.ru/wp-content/uploads/2013/06/organ_zreniya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анцующие человечк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8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нцующие человечки это замечательная оптическая иллюзия, в которой используется эффект движения. Просто начните рассматривать этих человечков. Они очень любят, когда их рассматривают. В ответ на это, они пускаются в пляс и начинают исполнять весьма необычный танец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деюсь, что пластика их движений не оставит вас равнодушными. И помните, человечки станут неподвижными сразу после того, как только вы перестанете их рассматривать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58656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то интересно! А можно ли дать объяснение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3927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84978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ефекты зрения – это близорукость и дальнозоркость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Берегите зрение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0" y="169992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.Читай, пиши только при хорошем освещении, но помни, что яркий свет не должен попадать в глаз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2.Следи за тем, чтобы книга или тетрадь были на расстоянии 30 – 35 сантиметров от глаз. Свет должен падать слев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3.Не читай лёж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4.Не читай в транспорт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5.Если долго читаешь, пишешь, рисуешь, каждые 30 минут давай глазам отдохнуть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6.Вредно для глаз долго смотреть телевизор, компьютер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7.Не три глаза руками – так можно занести соринку или опасные бактери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8.Пользуйся чистым носовым платком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9.Не стесняйся носить оч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087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Второй по важности орган чувств – ух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Ухо человека включает три отделения – </a:t>
            </a:r>
            <a:r>
              <a:rPr b="1" i="1" lang="ru-RU" sz="2000" spc="-1" strike="noStrike">
                <a:solidFill>
                  <a:srgbClr val="9933ff"/>
                </a:solidFill>
                <a:latin typeface="Verdana"/>
              </a:rPr>
              <a:t>наружное, среднее, внутреннее ухо</a:t>
            </a:r>
            <a:r>
              <a:rPr b="1" lang="ru-RU" sz="2000" spc="-1" strike="noStrike">
                <a:solidFill>
                  <a:srgbClr val="660066"/>
                </a:solidFill>
                <a:latin typeface="Verdana"/>
              </a:rPr>
              <a:t>.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Видимая часть уха называется </a:t>
            </a:r>
            <a:r>
              <a:rPr b="1" i="1" lang="ru-RU" sz="2000" spc="-1" strike="noStrike">
                <a:solidFill>
                  <a:srgbClr val="9933ff"/>
                </a:solidFill>
                <a:latin typeface="Verdana"/>
              </a:rPr>
              <a:t>ушной раковиной</a:t>
            </a:r>
            <a:r>
              <a:rPr b="1" lang="ru-RU" sz="2000" spc="-1" strike="noStrike">
                <a:solidFill>
                  <a:srgbClr val="660066"/>
                </a:solidFill>
                <a:latin typeface="Verdana"/>
              </a:rPr>
              <a:t>.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Она сама ничего не слышит, а только улавливает звуковые волны, которые потом проникают глубже и заставляют вибрировать </a:t>
            </a:r>
            <a:r>
              <a:rPr b="1" i="1" lang="ru-RU" sz="2000" spc="-1" strike="noStrike">
                <a:solidFill>
                  <a:srgbClr val="9933ff"/>
                </a:solidFill>
                <a:latin typeface="Verdana"/>
              </a:rPr>
              <a:t>барабанную перепонку.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Дальше колебания передаются в среднее ухо , а затем через внутреннее ухо – в мозг. Во внутреннем ухе есть </a:t>
            </a:r>
            <a:r>
              <a:rPr b="1" i="1" lang="ru-RU" sz="2000" spc="-1" strike="noStrike" u="sng">
                <a:solidFill>
                  <a:srgbClr val="ff0066"/>
                </a:solidFill>
                <a:uFillTx/>
                <a:latin typeface="Verdana"/>
              </a:rPr>
              <a:t>орган равновесия.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Поэтому даже если мы закроем глаза, то всё равно будем знать, где верх, а где низ, где лево, а где прав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Verdana"/>
              </a:rPr>
              <a:t>     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Значит ухо – это орган слуха и равновесия.</a:t>
            </a: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7" descr="строение уха"/>
          <p:cNvPicPr/>
          <p:nvPr/>
        </p:nvPicPr>
        <p:blipFill>
          <a:blip r:embed="rId1"/>
          <a:stretch/>
        </p:blipFill>
        <p:spPr>
          <a:xfrm>
            <a:off x="1908000" y="3786120"/>
            <a:ext cx="5256360" cy="307188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30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лух тесно связан с речью. Ребёнок сначала слышит и понимает речь, а затем уже учится говорить. Отсутствие слуха значительно обедняет мир человека, лишает его возможности общения.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31640" y="2491920"/>
            <a:ext cx="5832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Берегите уши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79280" y="292392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1.Надо регулярно мыть уши с мылом и чистить туго скрученной ват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2.Никогда не ковыряйте в ушах спичками, булавками и другими предметами. Можете повредить барабанную перепонку и потерять слу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3.Сильный шум, резкие звуки, громкая музыка портят слу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4. Чаще отдыхайте в  тишин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5.Если почувствуете боль в ухе, сразу обращайтесь к врачу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Обоняние увеличивает информацию об окружающем мире. Наиболее остро обоняние летом и весной, особенно в тёплую и влажную погоду. На свету обоняние острее, чем в темнот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Если человек теряет обоняние, то для него пища теряет вкус, и такие люди могут отравиться, так как не могут определить некачественной пищ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9" descr="yjc2"/>
          <p:cNvPicPr/>
          <p:nvPr/>
        </p:nvPicPr>
        <p:blipFill>
          <a:blip r:embed="rId1"/>
          <a:stretch/>
        </p:blipFill>
        <p:spPr>
          <a:xfrm>
            <a:off x="3564000" y="4429080"/>
            <a:ext cx="432108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2944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ерегите обоняние!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1.Надо закаляться, беречь организм от простуды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2.Не курить, так как курение ухудшает обоняние.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108000" y="404280"/>
            <a:ext cx="5004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Кожа –</a:t>
            </a: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орган осяз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Её чувствительность заключается в том, что мы распознаём предмет, к которому прикасаемс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13" descr="кожа 1"/>
          <p:cNvPicPr/>
          <p:nvPr/>
        </p:nvPicPr>
        <p:blipFill>
          <a:blip r:embed="rId1"/>
          <a:stretch/>
        </p:blipFill>
        <p:spPr>
          <a:xfrm>
            <a:off x="4643280" y="2349360"/>
            <a:ext cx="4249800" cy="295128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out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чему я выбрала эту тему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будущем хочу связать свою жизнь и профессию с медициной, поэтому о строении человека надо знать все, буду постепенно изуча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Verdana"/>
              </a:rPr>
              <a:t>Осязание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способность человека чувствовать прикоснов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Кожа может «рассказать» человеку о том, что его окружает. Кожей мы можем ощущать холод или тепло, ветер или жар, жжение или удар, решить, что для нас хорошо, а что плохо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Но кожа нас не только предупреждает об угрозе, но и защищает. Поэтому она обладает такими качествами, как прочность и упругость.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Берегите кожу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е допускайте ожогов, обморожений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br>
              <a:rPr sz="32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47640" y="2060280"/>
            <a:ext cx="5543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Язык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– орган вку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Основных вкусов всего 4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сладки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солёны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кисл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горьк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Но всем богатством оттенков вкуса мы обязаны обонянию. </a:t>
            </a:r>
            <a:br>
              <a:rPr sz="20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7" descr="язык"/>
          <p:cNvPicPr/>
          <p:nvPr/>
        </p:nvPicPr>
        <p:blipFill>
          <a:blip r:embed="rId1"/>
          <a:stretch/>
        </p:blipFill>
        <p:spPr>
          <a:xfrm>
            <a:off x="250920" y="2060640"/>
            <a:ext cx="277164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78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наружи язык покрыт бесчисленны множеством сосочков. В них заложены окончания нервов, умеющих ощущать, что попало в ро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ладкое и солёное язык ощущает своим кончиком, кислое – боками, а горькое – корнем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7" descr="вкус"/>
          <p:cNvPicPr/>
          <p:nvPr/>
        </p:nvPicPr>
        <p:blipFill>
          <a:blip r:embed="rId1"/>
          <a:stretch/>
        </p:blipFill>
        <p:spPr>
          <a:xfrm>
            <a:off x="4643280" y="981000"/>
            <a:ext cx="4321440" cy="4392720"/>
          </a:xfrm>
          <a:prstGeom prst="rect">
            <a:avLst/>
          </a:prstGeom>
          <a:ln w="0">
            <a:noFill/>
          </a:ln>
        </p:spPr>
      </p:pic>
    </p:spTree>
  </p:cSld>
  <p:transition advTm="17000">
    <p:split dir="out" orient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2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ы чувств помогают человеку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принимать окружающий мир.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9" name="Picture 10" descr="итог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697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Человек познаёт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окружающий мир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1" name="Picture 9" descr="feeling"/>
          <p:cNvPicPr/>
          <p:nvPr/>
        </p:nvPicPr>
        <p:blipFill>
          <a:blip r:embed="rId1"/>
          <a:stretch/>
        </p:blipFill>
        <p:spPr>
          <a:xfrm>
            <a:off x="3492360" y="1341360"/>
            <a:ext cx="2837160" cy="2265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ест"/>
          <p:cNvPicPr/>
          <p:nvPr/>
        </p:nvPicPr>
        <p:blipFill>
          <a:blip r:embed="rId2"/>
          <a:stretch/>
        </p:blipFill>
        <p:spPr>
          <a:xfrm>
            <a:off x="755640" y="3284640"/>
            <a:ext cx="1749600" cy="244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4" descr="муз1"/>
          <p:cNvPicPr/>
          <p:nvPr/>
        </p:nvPicPr>
        <p:blipFill>
          <a:blip r:embed="rId3"/>
          <a:stretch/>
        </p:blipFill>
        <p:spPr>
          <a:xfrm>
            <a:off x="2916360" y="4076640"/>
            <a:ext cx="2447640" cy="1944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6" descr="рад"/>
          <p:cNvPicPr/>
          <p:nvPr/>
        </p:nvPicPr>
        <p:blipFill>
          <a:blip r:embed="rId4"/>
          <a:stretch/>
        </p:blipFill>
        <p:spPr>
          <a:xfrm>
            <a:off x="539640" y="1268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7" descr="нюх"/>
          <p:cNvPicPr/>
          <p:nvPr/>
        </p:nvPicPr>
        <p:blipFill>
          <a:blip r:embed="rId5"/>
          <a:stretch/>
        </p:blipFill>
        <p:spPr>
          <a:xfrm>
            <a:off x="6516720" y="907920"/>
            <a:ext cx="2016000" cy="2649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8" descr="лотос"/>
          <p:cNvPicPr/>
          <p:nvPr/>
        </p:nvPicPr>
        <p:blipFill>
          <a:blip r:embed="rId6"/>
          <a:stretch/>
        </p:blipFill>
        <p:spPr>
          <a:xfrm>
            <a:off x="5796000" y="3860640"/>
            <a:ext cx="2952720" cy="2089440"/>
          </a:xfrm>
          <a:prstGeom prst="rect">
            <a:avLst/>
          </a:prstGeom>
          <a:ln w="0">
            <a:noFill/>
          </a:ln>
        </p:spPr>
      </p:pic>
    </p:spTree>
  </p:cSld>
  <p:transition advTm="18000"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«Не глаз видит, не ухо слышит, </a:t>
            </a:r>
            <a:br>
              <a:rPr sz="3200"/>
            </a:b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не нос ощущает, а мозг!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Из внешнего мира мы получаем информацию в виде чувств, передаём эту информацию в мозг, чтобы он мог их осознать и принять нужное реш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се органы чувств действуют совместно, главных и второстепенных среди них нет. Они помогают друг другу и дополняют друг друга. И все они имеют память. Человек имеет 5 органов чувств. Все другие теории о том, что их 6, 7, 8 пока не имеют доказательной научной основы. Есть что исследовать, время покажет, вс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переди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6" descr="мозг2"/>
          <p:cNvPicPr/>
          <p:nvPr/>
        </p:nvPicPr>
        <p:blipFill>
          <a:blip r:embed="rId1"/>
          <a:stretch/>
        </p:blipFill>
        <p:spPr>
          <a:xfrm>
            <a:off x="6800760" y="5143680"/>
            <a:ext cx="2343240" cy="1714320"/>
          </a:xfrm>
          <a:prstGeom prst="rect">
            <a:avLst/>
          </a:prstGeom>
          <a:ln w="0">
            <a:noFill/>
          </a:ln>
        </p:spPr>
      </p:pic>
    </p:spTree>
  </p:cSld>
  <p:transition advTm="28000">
    <p:split dir="out" orient="ver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Интернет-ресурсы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sdorov.ru/attachments/Image/risunok76.png?template=gener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www.velvet.by/files/userfiles/4467/nose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o-samom-glavnom.tv/sites/default/files/img/nos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yogagimalai.files.wordpress.com/2012/03/feeling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900igr.net/datai/okruzhajuschij-mir/Mir-chuvstv/0002-001-Glaza-organ-zrenija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upload.wikimedia.org/wikipedia/commons/7/71/Menschliches_auge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images.newsukraine.com.ua/news/2010/5/6/ushi-spasli-zhizn-malchiku/real/01_ushi-spasli-zhizn-malchiku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img0.liveinternet.ru/images/attach/c/1/61/872/61872732_48624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gorod-magov.ucoz.org/_fr/7/9200476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img1.liveinternet.ru/images/attach/b/3/4/448/4448126_mozg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3" name="Picture 2" descr="http://900igr.net/datas/religii-i-etika/Dobrota-spaset-mir/0006-006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сширение знаний о пяти основных системах организма человека – органах чувст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знать какие органы чувств существуют и какую функцию в организме они выполняю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какой орган чувств самый главны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1520" y="260280"/>
            <a:ext cx="7991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Verdana"/>
              </a:rPr>
              <a:t>Основополагающий вопрос проекта:</a:t>
            </a:r>
            <a:br>
              <a:rPr sz="21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жно ли прожить без органов чувств и какой из них самый главный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2" descr="H:\органы чувств\Безымянный 1.jpg"/>
          <p:cNvPicPr/>
          <p:nvPr/>
        </p:nvPicPr>
        <p:blipFill>
          <a:blip r:embed="rId1"/>
          <a:srcRect l="0" t="9592" r="0" b="0"/>
          <a:stretch/>
        </p:blipFill>
        <p:spPr>
          <a:xfrm>
            <a:off x="1042920" y="2492280"/>
            <a:ext cx="7704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84360" y="476280"/>
            <a:ext cx="820872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рганы чувств человека даны природой для хорошей адаптации в окружающем мире. Ранее, в первобытном мире, органы чувств давали возможность избежать смертельной опасности и помогали в добыче пропитания. Органы чувств объединены в пять основных систем, благодаря которым мы можем видеть, чувствовать запахи, прикосновения, слышать звуки, ощущать вкус потребляемой пищ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тапы проект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8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яю творческое название проек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ляю план работ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у материал для през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следую материа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ляю доклад и презентац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280" y="301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лан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то такое органы чувств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 работают органы чувств и анализаторы в целом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 предупредить возможные нарушения работы органов чувств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ключ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4" descr="10"/>
          <p:cNvPicPr/>
          <p:nvPr/>
        </p:nvPicPr>
        <p:blipFill>
          <a:blip r:embed="rId1"/>
          <a:stretch/>
        </p:blipFill>
        <p:spPr>
          <a:xfrm>
            <a:off x="0" y="4581360"/>
            <a:ext cx="1835280" cy="1839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Пальцы"/>
          <p:cNvPicPr/>
          <p:nvPr/>
        </p:nvPicPr>
        <p:blipFill>
          <a:blip r:embed="rId2"/>
          <a:stretch/>
        </p:blipFill>
        <p:spPr>
          <a:xfrm>
            <a:off x="7164360" y="333360"/>
            <a:ext cx="17287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ганы, с помощью которых человек воспринимает или «чувствует» окружающий мир, называю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ами чувств.</a:t>
            </a:r>
            <a:br>
              <a:rPr sz="40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9" descr="глаз"/>
          <p:cNvPicPr/>
          <p:nvPr/>
        </p:nvPicPr>
        <p:blipFill>
          <a:blip r:embed="rId1"/>
          <a:stretch/>
        </p:blipFill>
        <p:spPr>
          <a:xfrm>
            <a:off x="1619280" y="1557360"/>
            <a:ext cx="2424240" cy="1684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уши"/>
          <p:cNvPicPr/>
          <p:nvPr/>
        </p:nvPicPr>
        <p:blipFill>
          <a:blip r:embed="rId2"/>
          <a:stretch/>
        </p:blipFill>
        <p:spPr>
          <a:xfrm>
            <a:off x="5796000" y="1347840"/>
            <a:ext cx="1871640" cy="1790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язык"/>
          <p:cNvPicPr/>
          <p:nvPr/>
        </p:nvPicPr>
        <p:blipFill>
          <a:blip r:embed="rId3"/>
          <a:stretch/>
        </p:blipFill>
        <p:spPr>
          <a:xfrm>
            <a:off x="5508720" y="5084640"/>
            <a:ext cx="2081160" cy="177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нос"/>
          <p:cNvPicPr/>
          <p:nvPr/>
        </p:nvPicPr>
        <p:blipFill>
          <a:blip r:embed="rId4"/>
          <a:stretch/>
        </p:blipFill>
        <p:spPr>
          <a:xfrm>
            <a:off x="1785960" y="4941720"/>
            <a:ext cx="3146400" cy="1886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кожа2"/>
          <p:cNvPicPr/>
          <p:nvPr/>
        </p:nvPicPr>
        <p:blipFill>
          <a:blip r:embed="rId5"/>
          <a:stretch/>
        </p:blipFill>
        <p:spPr>
          <a:xfrm>
            <a:off x="1692360" y="3213000"/>
            <a:ext cx="6192720" cy="161928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20:04Z</dcterms:created>
  <dc:creator>впл</dc:creator>
  <dc:description/>
  <dc:language>en-US</dc:language>
  <cp:lastModifiedBy>user</cp:lastModifiedBy>
  <dcterms:modified xsi:type="dcterms:W3CDTF">2016-12-02T11:31:21Z</dcterms:modified>
  <cp:revision>27</cp:revision>
  <dc:subject/>
  <dc:title>Биология Тема « Органы чувств» (8 класс)</dc:title>
</cp:coreProperties>
</file>