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1B5-56FF-4B6B-98D8-44F0389B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E17-E26B-44BB-8892-CDCCB93A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4A6-AD48-4513-A4E0-D2114A11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4F8-1182-4FF0-AFE5-0BB608D9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E0F-A1A9-4FBB-82E7-278629AF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F27-5A2E-4AC7-A719-459521EC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042-A9E9-41F4-82B2-48D008A5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978-B446-4AA3-B7C5-BDF01E53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CA1-E212-4A34-8C83-1CA93DA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C8D-1220-4088-8563-044AA5A9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182-A780-4E05-AD6E-FFA7872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15F-1C3A-43C0-93F9-6EFDE0BF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65E3-7C00-49B4-9034-5BCCF18A6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116000" y="2205000"/>
            <a:ext cx="71280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е выкрики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быть терпел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ать возможность высказаться своим товарищ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важать друг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лушать и сл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900000" y="549360"/>
            <a:ext cx="748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ы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Исправь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солю щи сол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Я солю щи сол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сел и огурец с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Я сел и огурец с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е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полю грядки и полю ц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Я полю грядки и пол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ю ц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Допиши приставки. </a:t>
            </a:r>
            <a:br>
              <a:rPr sz="4000"/>
            </a:b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Не забудь про ъ знак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лк ужасно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азъ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рё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ъ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сть ежа не может 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Ёж хотя он и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ъ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добе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ъ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денья неудоб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-19080" y="1474920"/>
            <a:ext cx="913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е чересчур ли ты добряк?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знаку мягкому промолвил твёрдый зна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лова и звуки ты всегда смягчить стремишь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, в алфавит ты не годишься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то б говорил, но ты б уж помолчал!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 Ь твёрдому на это отвеча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Ты твёрд и груб, как суковатый дуб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вным-давно пора, как букву ять, тебя из азбуки изъять!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Друзья! Ваш разговор – никчёмные слова,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ышав этот спор, сказала буква 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ы оба хороши, достойны че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да стоите в нужном мес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ь"/>
          <p:cNvPicPr/>
          <p:nvPr/>
        </p:nvPicPr>
        <p:blipFill>
          <a:blip r:embed="rId1"/>
          <a:stretch/>
        </p:blipFill>
        <p:spPr>
          <a:xfrm>
            <a:off x="2268360" y="0"/>
            <a:ext cx="151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ъ"/>
          <p:cNvPicPr/>
          <p:nvPr/>
        </p:nvPicPr>
        <p:blipFill>
          <a:blip r:embed="rId2"/>
          <a:stretch/>
        </p:blipFill>
        <p:spPr>
          <a:xfrm>
            <a:off x="4932360" y="0"/>
            <a:ext cx="13143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Овал 11"/>
          <p:cNvGrpSpPr/>
          <p:nvPr/>
        </p:nvGrpSpPr>
        <p:grpSpPr>
          <a:xfrm>
            <a:off x="3475080" y="255600"/>
            <a:ext cx="1573200" cy="1335240"/>
            <a:chOff x="3475080" y="255600"/>
            <a:chExt cx="1573200" cy="1335240"/>
          </a:xfrm>
        </p:grpSpPr>
        <p:pic>
          <p:nvPicPr>
            <p:cNvPr id="57" name="Овал 11" descr=""/>
            <p:cNvPicPr/>
            <p:nvPr/>
          </p:nvPicPr>
          <p:blipFill>
            <a:blip r:embed="rId1"/>
            <a:stretch/>
          </p:blipFill>
          <p:spPr>
            <a:xfrm>
              <a:off x="3475080" y="255600"/>
              <a:ext cx="15732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960720" y="709560"/>
              <a:ext cx="55584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Овал 20"/>
          <p:cNvGrpSpPr/>
          <p:nvPr/>
        </p:nvGrpSpPr>
        <p:grpSpPr>
          <a:xfrm>
            <a:off x="811080" y="622440"/>
            <a:ext cx="1530360" cy="1334880"/>
            <a:chOff x="811080" y="622440"/>
            <a:chExt cx="1530360" cy="1334880"/>
          </a:xfrm>
        </p:grpSpPr>
        <p:pic>
          <p:nvPicPr>
            <p:cNvPr id="68" name="Овал 20" descr=""/>
            <p:cNvPicPr/>
            <p:nvPr/>
          </p:nvPicPr>
          <p:blipFill>
            <a:blip r:embed="rId2"/>
            <a:stretch/>
          </p:blipFill>
          <p:spPr>
            <a:xfrm>
              <a:off x="811080" y="622440"/>
              <a:ext cx="153036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274760" y="10731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  <a:ea typeface="Arial"/>
                </a:rPr>
                <a:t>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Овал 29"/>
          <p:cNvGrpSpPr/>
          <p:nvPr/>
        </p:nvGrpSpPr>
        <p:grpSpPr>
          <a:xfrm>
            <a:off x="7424640" y="1122480"/>
            <a:ext cx="1762200" cy="1334880"/>
            <a:chOff x="7424640" y="1122480"/>
            <a:chExt cx="1762200" cy="1334880"/>
          </a:xfrm>
        </p:grpSpPr>
        <p:pic>
          <p:nvPicPr>
            <p:cNvPr id="79" name="Овал 29" descr=""/>
            <p:cNvPicPr/>
            <p:nvPr/>
          </p:nvPicPr>
          <p:blipFill>
            <a:blip r:embed="rId3"/>
            <a:stretch/>
          </p:blipFill>
          <p:spPr>
            <a:xfrm>
              <a:off x="7424640" y="1122480"/>
              <a:ext cx="17622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004240" y="157320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Овал 83"/>
          <p:cNvGrpSpPr/>
          <p:nvPr/>
        </p:nvGrpSpPr>
        <p:grpSpPr>
          <a:xfrm>
            <a:off x="5711760" y="304920"/>
            <a:ext cx="1554120" cy="1334880"/>
            <a:chOff x="5711760" y="304920"/>
            <a:chExt cx="1554120" cy="1334880"/>
          </a:xfrm>
        </p:grpSpPr>
        <p:pic>
          <p:nvPicPr>
            <p:cNvPr id="135" name="Овал 83" descr=""/>
            <p:cNvPicPr/>
            <p:nvPr/>
          </p:nvPicPr>
          <p:blipFill>
            <a:blip r:embed="rId4"/>
            <a:stretch/>
          </p:blipFill>
          <p:spPr>
            <a:xfrm>
              <a:off x="5711760" y="304920"/>
              <a:ext cx="155412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93"/>
          <p:cNvGrpSpPr/>
          <p:nvPr/>
        </p:nvGrpSpPr>
        <p:grpSpPr>
          <a:xfrm>
            <a:off x="-60480" y="2023920"/>
            <a:ext cx="1528920" cy="1328760"/>
            <a:chOff x="-60480" y="2023920"/>
            <a:chExt cx="1528920" cy="1328760"/>
          </a:xfrm>
        </p:grpSpPr>
        <p:pic>
          <p:nvPicPr>
            <p:cNvPr id="147" name="Овал 93" descr=""/>
            <p:cNvPicPr/>
            <p:nvPr/>
          </p:nvPicPr>
          <p:blipFill>
            <a:blip r:embed="rId5"/>
            <a:stretch/>
          </p:blipFill>
          <p:spPr>
            <a:xfrm>
              <a:off x="-60480" y="2023920"/>
              <a:ext cx="15289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78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81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84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7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90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93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56"/>
          <p:cNvSpPr txBox="1"/>
          <p:nvPr/>
        </p:nvSpPr>
        <p:spPr>
          <a:xfrm>
            <a:off x="1116000" y="2708280"/>
            <a:ext cx="71438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1" name="Овал 11"/>
          <p:cNvGrpSpPr/>
          <p:nvPr/>
        </p:nvGrpSpPr>
        <p:grpSpPr>
          <a:xfrm>
            <a:off x="6010200" y="2822400"/>
            <a:ext cx="1994040" cy="1951200"/>
            <a:chOff x="6010200" y="2822400"/>
            <a:chExt cx="1994040" cy="1951200"/>
          </a:xfrm>
        </p:grpSpPr>
        <p:pic>
          <p:nvPicPr>
            <p:cNvPr id="202" name="Овал 11" descr=""/>
            <p:cNvPicPr/>
            <p:nvPr/>
          </p:nvPicPr>
          <p:blipFill>
            <a:blip r:embed="rId12"/>
            <a:stretch/>
          </p:blipFill>
          <p:spPr>
            <a:xfrm>
              <a:off x="6010200" y="2822400"/>
              <a:ext cx="19940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346800" y="3125880"/>
              <a:ext cx="13287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Овал 11"/>
          <p:cNvGrpSpPr/>
          <p:nvPr/>
        </p:nvGrpSpPr>
        <p:grpSpPr>
          <a:xfrm>
            <a:off x="1079640" y="2676600"/>
            <a:ext cx="1998360" cy="1955880"/>
            <a:chOff x="1079640" y="2676600"/>
            <a:chExt cx="1998360" cy="1955880"/>
          </a:xfrm>
        </p:grpSpPr>
        <p:pic>
          <p:nvPicPr>
            <p:cNvPr id="205" name="Овал 11" descr=""/>
            <p:cNvPicPr/>
            <p:nvPr/>
          </p:nvPicPr>
          <p:blipFill>
            <a:blip r:embed="rId13"/>
            <a:stretch/>
          </p:blipFill>
          <p:spPr>
            <a:xfrm>
              <a:off x="1079640" y="2676600"/>
              <a:ext cx="199836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417680" y="2982960"/>
              <a:ext cx="13287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Arial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ставьте разделительные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Ь или Ъ знаки в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ю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х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роб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ставьте разделительные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Ь или Ъ знаки в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ю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роб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берите слова по соста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ьюга            въезд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ьеса             съед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оробьи        подъез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лгоритм правописания разделительного Ь и 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ышу звук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гласн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ед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гласны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Определяю состав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После приставки-  пишу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ом месте слова – пишу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85572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4033800" cy="2792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108000" y="3554280"/>
            <a:ext cx="4248000" cy="291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4321080" cy="281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 rot="2809800">
            <a:off x="6407280" y="3537000"/>
            <a:ext cx="252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ю, в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ют, об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хал, в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зд, 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лся, п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ю, сем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, с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2:58:36Z</dcterms:created>
  <dc:creator>Admin</dc:creator>
  <dc:description/>
  <dc:language>en-US</dc:language>
  <cp:lastModifiedBy>User</cp:lastModifiedBy>
  <dcterms:modified xsi:type="dcterms:W3CDTF">2018-01-18T16:55:37Z</dcterms:modified>
  <cp:revision>2</cp:revision>
  <dc:subject/>
  <dc:title>Слайд 1</dc:title>
</cp:coreProperties>
</file>