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85FEF-D86D-4859-924A-A51D86BEE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0DD43-29ED-4BDA-99E6-9D38EC98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44399-2402-4296-AE3E-B290F1F15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1EE82-6DB4-4B48-9253-A72033F83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3617-C908-48DB-BA51-B7FBBDB39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4679-C3AB-4C0E-8EA3-A5EFD16C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58E1-A4CA-4644-9008-048308DD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A62F-7D4D-4893-B246-72705A4E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3DEB-3C8B-44B8-9BFC-9CFA98F1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4D98-F746-4164-AE06-E57B4D4F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657A-C432-491A-9E73-FD0A3BDB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CEA4F-D39F-441E-9DBB-548998F7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1B72-ACE2-45F5-B3EC-9F2E19AF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CA08-1299-4B9A-A620-66C77DEA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8D8A-2216-4879-9B8F-CAB5B753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4CBE-AD54-4630-B806-DA866EF5A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55ED-471B-4A58-A537-EB72EAB86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5D361-E748-4EE8-82B2-B5489B76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80CF4-931C-415F-AA2A-4E3706FF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0F927-7B31-4546-96E0-2FD70F3E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FDEB3-255C-4B82-9FA4-AC1D6491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5C611-4A2B-4441-BFA0-33677CB6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BA4DB-95DC-40F1-B04A-937C5BE2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30EC8-A071-4B4E-A8A1-BDECCADA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0A80-3B93-41F6-B97E-AD9F941CBA2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48EB-F750-485A-8CD2-F71DA1EF5E7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 flipV="1">
            <a:off x="1671480" y="736200"/>
            <a:ext cx="3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21136800">
            <a:off x="2410920" y="443664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594216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зентация по МХК для 9 класса. Автор: учитель МХК Фомченко Е.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003640" y="404640"/>
            <a:ext cx="3670560" cy="48135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539640" y="0"/>
            <a:ext cx="410364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дуг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95280" y="1197000"/>
            <a:ext cx="439272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усского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4000" y="2990880"/>
            <a:ext cx="5256000" cy="28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нц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564000" y="404640"/>
            <a:ext cx="5329080" cy="4248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68360" y="189000"/>
            <a:ext cx="3095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усские хороводы обычно были девичьими. Вершиной их танцевального мастерства всегда считалось умение плавно пройти по кругу, как бы неся на голове драгоценный сосуд с дорогим содержимым. При этом плясуньи едва заметно перебирали ногами под длинным сарафаном, определяя общий ритм и счёт шагов. Создавалось впечатление , что девушка не идёт, а словно плывёт как лебёдушка, по воде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5157720"/>
            <a:ext cx="8424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менно такие, плавные и степенные девичьи хороводы с лёгким притопыванием каблучками, были популярны на Рус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6840720" cy="4969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95280" y="544500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зглавляла и направляла хоровод ведущая – «хороводница», обычно самая бойкая и говорливая, умелая и авторитетная в деревне женщина. Она вела хоровод, обучала танцевальному искусству новичков, приглашала в круг и молодых парн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348000" y="189000"/>
            <a:ext cx="4681440" cy="3024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50920" y="189000"/>
            <a:ext cx="3097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 временем круговые хороводные движения начали распадаться на бесчисленное множество составляющих его плясок. Так зарождалось народное танцевальное искусство: появлялись пляски – кадрили с интереснейшими рисунками (прямыми линиями, кругами и зигзагами), переплясы – вольные, импровизированные танцы, не сковывающие танцора определённой композицией, дающие возможность каждому показать любимые движения и всё, на что он способе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rcRect l="0" t="0" r="0" b="22218"/>
          <a:stretch/>
        </p:blipFill>
        <p:spPr>
          <a:xfrm>
            <a:off x="3635280" y="3284640"/>
            <a:ext cx="53294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7272360" cy="51116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63640" y="537372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 числу таких танцев относится популярная в народе мужская пляска – трепак. Об этой пляске в народе сложено не мало пословиц, подчёркивающих её отчаянный, залихвастый характер: «Не жалей каблука, валяй трепака» или «Бей трепака, не жалей каблука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737388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332000" y="189000"/>
            <a:ext cx="6622920" cy="48956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39640" y="5084640"/>
            <a:ext cx="835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авно уже подмечено, как гармоничны и выразительны движения русских танцоров, как великолепны их горделивая осанка, степенная и плавная походка. Они легко и свободно владеют своим телом, а потому их движения лишены скованности, рождаются непринуждённо и выглядят как абсолютная импровизац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564000" y="981000"/>
            <a:ext cx="5261040" cy="4464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68360" y="404640"/>
            <a:ext cx="29512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усский танец, как музыка и песня, - один из древнейших и любимейших видов народного танца. У каждого танца – своя многовековая история и традиции. Невозможно сосчитать, сколько народных танцев бытует сегодня в России, но для каждого из них характерны широта движений, молодецкая удаль, особая жизнерадостность, поэтичность и тонкий лиризм, скромность, простота, сочетающиеся с чувством собственного достоин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7050240" cy="46814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95280" y="5300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515772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усский народный танец возник очень давно и восходит к языческим игрищам наших предков. Во многих танцах, дошедших до наших дней, мы видим приметы далёкой старины, связанные с обожествлением природы, когда небо, солнце, лес и луга представлялись, а песни и танцы, сопровождающие народные праздники, свидетельствуют о прочных художественных традиция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7178760" cy="49071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24000" y="5300640"/>
            <a:ext cx="88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средней полосе России, как только начинали колоситься озимые, молодые люди собирались за околицей и проигрывали танец который назывался «Колосок». Этот танец имел отзвуки языческих ритуальных игрищ, призванных содействовать хорошему колошению хлебов, а следовательно, богатому урожаю в будущ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427640" y="260280"/>
            <a:ext cx="4286160" cy="54738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50920" y="189000"/>
            <a:ext cx="3960720" cy="66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зднее танцевальное творчество получило выражение в выступлениях странствующих скоморохов, в их озорных песнях и весёлых плясках. Эти потешки демонстрировали собравшимся меткие шутки, поучительные небылицы и комические сценки из крестьянской жиз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нние упоминания о скоморохах встречаются ещё в «Повести временных лет» - одной из первых русских летописей, созданной в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еке. Упоминаются скоморохи и в народных былинах, воспевающих русских богатырей. Ни один «почётный пир», ни одно народное празднество и гулянье не обходилось без их участ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5877000"/>
            <a:ext cx="50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3564000" cy="3240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680000" cy="3311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826920" y="5229360"/>
            <a:ext cx="7993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в Софийском соборе в Киеве – красивейшем храме древней Руси, построенном в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еке, сохранились фрески с изображением пляшущих скоморох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6923160" cy="4895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11280" y="537372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амой первой и простейшей формой русского народного танца является хоровод. Он сочетает танец с пением, с драматическим действием, изображающим определённые трудовые или иные процесс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566040" cy="5407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39640" y="616572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5805360"/>
            <a:ext cx="8496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стория возникновения хороводов восходит ещё ко временам Древней Греции, когда плясавшие в честь богини Афродиты нимфы делились в танце на множество групп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564000" y="333360"/>
            <a:ext cx="5111640" cy="5832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24000" y="404640"/>
            <a:ext cx="295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Хороводные развлечения начинали устраивать с приходом весны. Как только появлялась первая зелёная травка, в народе говорили: «Весна пришла – игра пошла». Местом для проведения хороводов выбирались живописные лесные поляны вдоль берегов рек и озёр, луга за околицей деревни, пригорки близ церкви, а зимой – обычные деревенские изб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09:29:17Z</dcterms:created>
  <dc:creator>Елена</dc:creator>
  <dc:description/>
  <dc:language>en-US</dc:language>
  <cp:lastModifiedBy>Елена</cp:lastModifiedBy>
  <dcterms:modified xsi:type="dcterms:W3CDTF">2012-05-01T17:21:11Z</dcterms:modified>
  <cp:revision>6</cp:revision>
  <dc:subject/>
  <dc:title>Слайд 1</dc:title>
</cp:coreProperties>
</file>