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3734-E76C-4C98-974C-DA1D5B68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CE62-3C14-4661-935F-6CBC94AB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8577-64B8-4570-AF53-60EF9E07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33AA-4160-4DA6-A429-0DA97861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F66-8698-403F-860F-3E0774C0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3DA-5274-4352-84E3-2345CBD3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9E59-486B-4BFC-B60D-DBA9E65F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EE7-ABCB-4FEB-A95D-134E725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6B5F-548C-4CA1-899E-5D06E592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26C-12DE-4B92-B584-FBD5026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5187-297D-458C-8121-A7D2A40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C810-5134-4073-8615-CF7CCA2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3C66-E9A7-4FDD-810F-AA08BAC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32A8-0743-435D-886F-54BA0C8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8CE-E36D-4DFE-ADCE-5A652F9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28DF-6829-4F21-B7BB-DEFEBE8B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E1C8-7C63-4BB2-AE46-7DAC4049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481D-48A9-435D-AC99-CCA2FB0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25B4-544C-45BC-BA46-CA3B06B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482E-DCC7-4F4D-970A-F6FDE9F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4DB2-18B2-40B8-8BA6-1CF2E61D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3E4F-6BBD-4EBB-8D8E-ADA4D07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4053-6468-415C-8686-32EAAED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D0C4-D595-4099-9747-EFE5C14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894-A1D3-4186-9969-7326373655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C52-A281-4887-B8B6-E99E3BB214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1671480" y="736200"/>
            <a:ext cx="3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136800">
            <a:off x="2410920" y="4436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9421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по МХК для 9 класса. Автор: учитель МХК Фомченко Е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670560" cy="4813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39640" y="0"/>
            <a:ext cx="41036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уг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197000"/>
            <a:ext cx="439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ог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2990880"/>
            <a:ext cx="525600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ц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32908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30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е хороводы обычно были девичьими. Вершиной их танцевального мастерства всегда считалось умение плавно пройти по кругу, как бы неся на голове драгоценный сосуд с дорогим содержимым. При этом плясуньи едва заметно перебирали ногами под длинным сарафаном, определяя общий ритм и счёт шагов. Создавалось впечатление , что девушка не идёт, а словно плывёт как лебёдушка, по вод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157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менно такие, плавные и степенные девичьи хороводы с лёгким притопыванием каблучками, были популярны на Ру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49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5445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главляла и направляла хоровод ведущая – «хороводница», обычно самая бойкая и говорливая, умелая и авторитетная в деревне женщина. Она вела хоровод, обучала танцевальному искусству новичков, приглашала в круг и молодых пар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4681440" cy="302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189000"/>
            <a:ext cx="309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 временем круговые хороводные движения начали распадаться на бесчисленное множество составляющих его плясок. Так зарождалось народное танцевальное искусство: появлялись пляски – кадрили с интереснейшими рисунками (прямыми линиями, кругами и зигзагами), переплясы – вольные, импровизированные танцы, не сковывающие танцора определённой композицией, дающие возможность каждому показать любимые движения и всё, на что он способ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0" b="22218"/>
          <a:stretch/>
        </p:blipFill>
        <p:spPr>
          <a:xfrm>
            <a:off x="3635280" y="3284640"/>
            <a:ext cx="532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2360" cy="511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537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 числу таких танцев относится популярная в народе мужская пляска – трепак. Об этой пляске в народе сложено не мало пословиц, подчёркивающих её отчаянный, залихвастый характер: «Не жалей каблука, валяй трепака» или «Бей трепака, не жалей каблу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3738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622920" cy="489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5084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но уже подмечено, как гармоничны и выразительны движения русских танцоров, как великолепны их горделивая осанка, степенная и плавная походка. Они легко и свободно владеют своим телом, а потому их движения лишены скованности, рождаются непринуждённо и выглядят как абсолютная импров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5261040" cy="446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404640"/>
            <a:ext cx="2951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й танец, как музыка и песня, - один из древнейших и любимейших видов народного танца. У каждого танца – своя многовековая история и традиции. Невозможно сосчитать, сколько народных танцев бытует сегодня в России, но для каждого из них характерны широта движений, молодецкая удаль, особая жизнерадостность, поэтичность и тонкий лиризм, скромность, простота, сочетающиеся с чувством собственного достоин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050240" cy="4681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5300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157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й народный танец возник очень давно и восходит к языческим игрищам наших предков. Во многих танцах, дошедших до наших дней, мы видим приметы далёкой старины, связанные с обожествлением природы, когда небо, солнце, лес и луга представлялись, а песни и танцы, сопровождающие народные праздники, свидетельствуют о прочных художественных тради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178760" cy="490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530064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средней полосе России, как только начинали колоситься озимые, молодые люди собирались за околицей и проигрывали танец который назывался «Колосок». Этот танец имел отзвуки языческих ритуальных игрищ, призванных содействовать хорошему колошению хлебов, а следовательно, богатому урожаю в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286160" cy="5473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189000"/>
            <a:ext cx="3960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днее танцевальное творчество получило выражение в выступлениях странствующих скоморохов, в их озорных песнях и весёлых плясках. Эти потешки демонстрировали собравшимся меткие шутки, поучительные небылицы и комические сценки из крестьянск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ние упоминания о скоморохах встречаются ещё в «Повести временных лет» - одной из первых русских летописей, созданной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е. Упоминаются скоморохи и в народных былинах, воспевающих русских богатырей. Ни один «почётный пир», ни одно народное празднество и гулянье не обходилось без их учас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5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680000" cy="331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5229360"/>
            <a:ext cx="799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 Софийском соборе в Киеве – красивейшем храме древней Руси, построенном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е, сохранились фрески с изображением пляшущих скоморо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923160" cy="48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37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й первой и простейшей формой русского народного танца является хоровод. Он сочетает танец с пением, с драматическим действием, изображающим определённые трудовые или иные процес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566040" cy="540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6165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805360"/>
            <a:ext cx="849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рия возникновения хороводов восходит ещё ко временам Древней Греции, когда плясавшие в честь богини Афродиты нимфы делились в танце на множество груп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111640" cy="583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40464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роводные развлечения начинали устраивать с приходом весны. Как только появлялась первая зелёная травка, в народе говорили: «Весна пришла – игра пошла». Местом для проведения хороводов выбирались живописные лесные поляны вдоль берегов рек и озёр, луга за околицей деревни, пригорки близ церкви, а зимой – обычные деревенские из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9:29:17Z</dcterms:created>
  <dc:creator>Елена</dc:creator>
  <dc:description/>
  <dc:language>en-US</dc:language>
  <cp:lastModifiedBy>Елена</cp:lastModifiedBy>
  <dcterms:modified xsi:type="dcterms:W3CDTF">2012-05-01T17:21:11Z</dcterms:modified>
  <cp:revision>6</cp:revision>
  <dc:subject/>
  <dc:title>Слайд 1</dc:title>
</cp:coreProperties>
</file>