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9.gif" ContentType="image/gif"/>
  <Override PartName="/ppt/media/image13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1D924-C9E6-464D-B82F-653578DBB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E9440-4D3A-4CF0-A2EB-5E1D7AB40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95E9D-EC40-42A5-8335-CD12A46F6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98B89-0C05-42C4-AB34-559F0E006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18D3D-D4FF-479B-81CE-1343A6C80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504B0-1230-42A7-AD55-38C2836D9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4A670-C964-4C57-AB60-75F40C096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9491A-2A08-4CDD-B127-AB180E0F1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5343C-B0AB-4BAB-B7B6-276BCD03C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2D5BD-728D-40F7-B0E3-D9919DDEE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4FF6B-082A-4708-B1D9-A0C65D1BD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1361D-A747-4348-84B4-9F2EA7379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01541-D5C3-42C8-B186-8C4E92518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9B91B-26BE-47FC-8FC5-C07F00844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21272-508E-4E2B-A8E8-07168644D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BB0EC-755D-4D50-A7DF-95B0A3456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703BB-B134-41F8-A1AC-7D5120E37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68C9311-2919-4F45-B8CE-F9BB8924F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2416AD5-10F1-400C-81CD-C6D8A59E0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6F2C408-0957-4FC6-A6B2-93B757266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136F5A6-0131-4FD9-89D5-35DFAEB2E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9ED1FAD-D861-4A91-A24E-9B9B5FBF4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738A9-A796-4CFD-809E-B1063A2B1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FCC40A0-839F-4843-B28B-56389136F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8D1A37-A2BF-46C1-938E-1BF5FB008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A9A2FFC-75EA-43B4-AC40-0C5F2E739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7648631-46FA-4CB7-AF8D-E808A6091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107EE93-B84B-43F2-963C-7E48D13A6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D0CF2BE-D1B7-4545-88AF-FE3FBABED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19AE63B-8B89-4C1C-BB3B-68CED7A3B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756FCB-BF4D-4C24-A08D-29B80C6CF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886F7B-561C-4D71-83C7-E9EC8D2C3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1AC5B7-CE54-4B77-A9D0-295258280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28B98-285C-4EC1-A538-FC463A828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1D71F4-D15E-4DBC-B601-6CB192A7F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600870-DA98-4427-8996-F5E14A04A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EC2656-417D-46E6-BC03-384EB8C24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E77D27-D05D-4DA0-A79E-ED48F45FB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7F633B-CD1D-4718-962C-D30A39EE2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9DE83E-F5DF-43F1-96A7-2708E48AE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9B18F8-C923-4270-8F8A-3443D119F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07249F-82D9-4832-A087-146A197C2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7B8CDB-2651-46BC-B5F8-7DBC4CCB9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FDC99-CAA5-41AF-A4FD-2892EBD6F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A2CA3-893C-4509-9BAD-7127E1C92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4EA0F-7326-4BD7-8571-62464FC40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AFD2D-F43C-4D2F-AC2F-3D3937900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664C8-8DBD-42EB-B30E-A0115C1BD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51C90-CA91-4D1C-BA17-F3C1318F1CEB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Скругленный прямоугольник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Скругленный прямоугольник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51AD7-F932-4A67-B6C7-6F04F9607942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BA104-DDF2-4836-BD94-77934AC40631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A7B22-14CE-4680-9D3E-21A236E6590B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gif"/><Relationship Id="rId7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1197000"/>
            <a:ext cx="8458200" cy="15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Trebuchet MS"/>
              </a:rPr>
              <a:t>«Внеурочная деятельность, её цели и задачи»</a:t>
            </a: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457200" y="3900600"/>
            <a:ext cx="4952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424456"/>
                </a:solidFill>
                <a:latin typeface="Georgia"/>
              </a:rPr>
              <a:t>Выступление учителя начальных классов – Горбиковой Светланы Борисовны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16" name="Picture 2" descr="C:\Users\Антон\Documents\ЛИЦЕЙ №11\IMG_7490.JPG"/>
          <p:cNvPicPr/>
          <p:nvPr/>
        </p:nvPicPr>
        <p:blipFill>
          <a:blip r:embed="rId1"/>
          <a:stretch/>
        </p:blipFill>
        <p:spPr>
          <a:xfrm>
            <a:off x="5940360" y="2651040"/>
            <a:ext cx="247644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6840" y="24015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rebuchet MS"/>
              </a:rPr>
              <a:t>« </a:t>
            </a:r>
            <a:r>
              <a:rPr b="1" i="1" lang="ru-RU" sz="3200" spc="-1" strike="noStrike">
                <a:solidFill>
                  <a:srgbClr val="ffffff"/>
                </a:solidFill>
                <a:latin typeface="Trebuchet MS"/>
              </a:rPr>
              <a:t>Нет такого человека, который не смог бы </a:t>
            </a:r>
            <a:br>
              <a:rPr sz="3200"/>
            </a:br>
            <a:r>
              <a:rPr b="1" i="1" lang="ru-RU" sz="3200" spc="-1" strike="noStrike">
                <a:solidFill>
                  <a:srgbClr val="ffffff"/>
                </a:solidFill>
                <a:latin typeface="Trebuchet MS"/>
              </a:rPr>
              <a:t>значительно развить свои способности к лидерству, </a:t>
            </a:r>
            <a:br>
              <a:rPr sz="3200"/>
            </a:br>
            <a:r>
              <a:rPr b="1" i="1" lang="ru-RU" sz="3200" spc="-1" strike="noStrike">
                <a:solidFill>
                  <a:srgbClr val="ffffff"/>
                </a:solidFill>
                <a:latin typeface="Trebuchet MS"/>
              </a:rPr>
              <a:t>немного поразмыслив над этим и попрактиковавшись». </a:t>
            </a:r>
            <a:br>
              <a:rPr sz="3200"/>
            </a:br>
            <a:r>
              <a:rPr b="1" i="1" lang="ru-RU" sz="3200" spc="-1" strike="noStrike">
                <a:solidFill>
                  <a:srgbClr val="ffffff"/>
                </a:solidFill>
                <a:latin typeface="Trebuchet MS"/>
              </a:rPr>
              <a:t>Лорд Слим </a:t>
            </a:r>
            <a:endParaRPr b="0" lang="en-US" sz="32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457200" y="3900600"/>
            <a:ext cx="49528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424456"/>
              </a:solidFill>
              <a:latin typeface="Georgia"/>
            </a:endParaRPr>
          </a:p>
        </p:txBody>
      </p:sp>
      <p:pic>
        <p:nvPicPr>
          <p:cNvPr id="219" name="Picture 2" descr="C:\Users\Антон\Documents\ЛИЦЕЙ №11\IMG_7496.JPG"/>
          <p:cNvPicPr/>
          <p:nvPr/>
        </p:nvPicPr>
        <p:blipFill>
          <a:blip r:embed="rId1"/>
          <a:stretch/>
        </p:blipFill>
        <p:spPr>
          <a:xfrm>
            <a:off x="3348000" y="3716280"/>
            <a:ext cx="404964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1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4015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rebuchet MS"/>
              </a:rPr>
              <a:t>АКТУАЛЬНОСТЬ ПРОГРАММЫ </a:t>
            </a:r>
            <a:br>
              <a:rPr sz="4400"/>
            </a:b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7200" y="3900600"/>
            <a:ext cx="4952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424456"/>
                </a:solidFill>
                <a:latin typeface="Georgia"/>
              </a:rPr>
              <a:t>Россия в наше время нуждаются в новом поколении активистов, людей обладающих стратегическим мышлением, неординарным видением ситуации, уверенностью в успехе. Особую актуальность и остроту приобрела задача подготовки лидеров, стимулирование их организаторской деятельности.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22" name="Picture 2" descr="C:\Users\Антон\Documents\ЛИЦЕЙ №11\IMG_7487.JPG"/>
          <p:cNvPicPr/>
          <p:nvPr/>
        </p:nvPicPr>
        <p:blipFill>
          <a:blip r:embed="rId1"/>
          <a:stretch/>
        </p:blipFill>
        <p:spPr>
          <a:xfrm>
            <a:off x="5219640" y="3645000"/>
            <a:ext cx="3714840" cy="24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500040"/>
            <a:ext cx="8458200" cy="1000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rebuchet MS"/>
              </a:rPr>
              <a:t>ЦЕЛЬ И ЗАДАЧИ </a:t>
            </a: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456840" y="1571760"/>
            <a:ext cx="81154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24456"/>
                </a:solidFill>
                <a:latin typeface="Georgia"/>
              </a:rPr>
              <a:t>Цель</a:t>
            </a:r>
            <a:r>
              <a:rPr b="0" i="1" lang="ru-RU" sz="2400" spc="-1" strike="noStrike">
                <a:solidFill>
                  <a:srgbClr val="424456"/>
                </a:solidFill>
                <a:latin typeface="Georgia"/>
              </a:rPr>
              <a:t>: </a:t>
            </a:r>
            <a:r>
              <a:rPr b="0" lang="ru-RU" sz="1600" spc="-1" strike="noStrike">
                <a:solidFill>
                  <a:srgbClr val="ff0000"/>
                </a:solidFill>
                <a:latin typeface="Georgia"/>
              </a:rPr>
              <a:t>создание благоприятных условий для выявления, развития и поддержки лидерских качеств одаренных детей в различных областях интеллектуальной и творческой деятельности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Georgia"/>
              </a:rPr>
              <a:t>Задачи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Georgia"/>
              </a:rPr>
              <a:t>·          </a:t>
            </a:r>
            <a:r>
              <a:rPr b="0" i="1" lang="ru-RU" sz="1600" spc="-1" strike="noStrike">
                <a:solidFill>
                  <a:srgbClr val="ff0000"/>
                </a:solidFill>
                <a:latin typeface="Georgia"/>
              </a:rPr>
              <a:t>Образовательные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0000"/>
                </a:solidFill>
                <a:uFillTx/>
                <a:latin typeface="Georgia"/>
              </a:rPr>
              <a:t>способствовать формированию:</a:t>
            </a:r>
            <a:r>
              <a:rPr b="0" lang="ru-RU" sz="1600" spc="-1" strike="noStrike">
                <a:solidFill>
                  <a:srgbClr val="ff0000"/>
                </a:solidFill>
                <a:latin typeface="Georgia"/>
              </a:rPr>
              <a:t> лидерских качеств, навыков руководства и умений руководитель, психологической и коммуникативной культуры, способности к рефлексии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Georgia"/>
              </a:rPr>
              <a:t>·          </a:t>
            </a:r>
            <a:r>
              <a:rPr b="0" i="1" lang="ru-RU" sz="1600" spc="-1" strike="noStrike">
                <a:solidFill>
                  <a:srgbClr val="ff0000"/>
                </a:solidFill>
                <a:latin typeface="Georgia"/>
              </a:rPr>
              <a:t>Развивающие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0000"/>
                </a:solidFill>
                <a:uFillTx/>
                <a:latin typeface="Georgia"/>
              </a:rPr>
              <a:t>способствовать развитию:</a:t>
            </a:r>
            <a:r>
              <a:rPr b="0" lang="ru-RU" sz="1600" spc="-1" strike="noStrike">
                <a:solidFill>
                  <a:srgbClr val="ff0000"/>
                </a:solidFill>
                <a:latin typeface="Georgia"/>
              </a:rPr>
              <a:t> аналитического и критического мышления, самооценки, навыков работы в группе, в команде; творческих и интеллектуальных способностей; эмоциональной устойчивости в сложных жизненных ситуациях, воли и настойчивости; умения самокритичного отношения к себе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Georgia"/>
              </a:rPr>
              <a:t>·          </a:t>
            </a:r>
            <a:r>
              <a:rPr b="0" i="1" lang="ru-RU" sz="1600" spc="-1" strike="noStrike">
                <a:solidFill>
                  <a:srgbClr val="ff0000"/>
                </a:solidFill>
                <a:latin typeface="Georgia"/>
              </a:rPr>
              <a:t>Воспитательные 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0000"/>
                </a:solidFill>
                <a:uFillTx/>
                <a:latin typeface="Georgia"/>
              </a:rPr>
              <a:t>создать условия для:</a:t>
            </a:r>
            <a:r>
              <a:rPr b="0" lang="ru-RU" sz="1600" spc="-1" strike="noStrike">
                <a:solidFill>
                  <a:srgbClr val="ff0000"/>
                </a:solidFill>
                <a:latin typeface="Georgia"/>
              </a:rPr>
              <a:t>нравственного становления учащихся, мотивации к социально значимой деятельности, активизации ученического самоуправления, создания благоприятного психологического климата снижения уровня тревожности в детском коллективе.</a:t>
            </a:r>
            <a:r>
              <a:rPr b="1" lang="ru-RU" sz="1600" spc="-1" strike="noStrike">
                <a:solidFill>
                  <a:srgbClr val="ff0000"/>
                </a:solidFill>
                <a:latin typeface="Georgia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9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2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763640" y="500040"/>
            <a:ext cx="5112000" cy="2712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rebuchet MS"/>
              </a:rPr>
              <a:t>Формы проведения учебных </a:t>
            </a:r>
            <a:r>
              <a:rPr b="1" lang="ru-RU" sz="1600" spc="-1" strike="noStrike">
                <a:solidFill>
                  <a:srgbClr val="ffffff"/>
                </a:solidFill>
                <a:latin typeface="Trebuchet MS"/>
              </a:rPr>
              <a:t>занятий</a:t>
            </a:r>
            <a:r>
              <a:rPr b="0" lang="ru-RU" sz="1600" spc="-1" strike="noStrike">
                <a:solidFill>
                  <a:srgbClr val="ffffff"/>
                </a:solidFill>
                <a:latin typeface="Trebuchet MS"/>
              </a:rPr>
              <a:t> подбираются с учетом цели и задач, познавательных интересов и индивидуальных возможностей воспитанников, специфики содержания данной образовательной программы и возраста воспитанников:</a:t>
            </a:r>
            <a:endParaRPr b="0" lang="en-US" sz="1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456840" y="3714840"/>
            <a:ext cx="5186520" cy="264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" spc="-1" strike="noStrike">
                <a:solidFill>
                  <a:srgbClr val="424456"/>
                </a:solidFill>
                <a:latin typeface="Georgia"/>
              </a:rPr>
              <a:t>·          </a:t>
            </a:r>
            <a:r>
              <a:rPr b="0" lang="ru-RU" sz="1600" spc="-1" strike="noStrike">
                <a:solidFill>
                  <a:srgbClr val="7030a0"/>
                </a:solidFill>
                <a:latin typeface="Georgia"/>
              </a:rPr>
              <a:t>Деловые и ролевые игры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030a0"/>
                </a:solidFill>
                <a:latin typeface="Georgia"/>
              </a:rPr>
              <a:t>·          Упражнения на взаимодействия в группе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030a0"/>
                </a:solidFill>
                <a:latin typeface="Georgia"/>
              </a:rPr>
              <a:t>·          Тренинги. 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030a0"/>
                </a:solidFill>
                <a:latin typeface="Georgia"/>
              </a:rPr>
              <a:t>·          Творческие задания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030a0"/>
                </a:solidFill>
                <a:latin typeface="Georgia"/>
              </a:rPr>
              <a:t>·          Конкурсы (участие в районных, областных и всероссийских). 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030a0"/>
                </a:solidFill>
                <a:latin typeface="Georgia"/>
              </a:rPr>
              <a:t>·          Проигрывание ситуаций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030a0"/>
                </a:solidFill>
                <a:latin typeface="Georgia"/>
              </a:rPr>
              <a:t>·          Дискуссии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030a0"/>
                </a:solidFill>
                <a:latin typeface="Georgia"/>
              </a:rPr>
              <a:t>·          Моделирование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030a0"/>
                </a:solidFill>
                <a:latin typeface="Georgia"/>
              </a:rPr>
              <a:t>·          Проектирование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030a0"/>
                </a:solidFill>
                <a:latin typeface="Georgia"/>
              </a:rPr>
              <a:t>·          Встречи со специалистами и интересными людьми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030a0"/>
                </a:solidFill>
                <a:latin typeface="Georgia"/>
              </a:rPr>
              <a:t>·          Экспресс тесты и опросы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030a0"/>
                </a:solidFill>
                <a:latin typeface="Georgia"/>
              </a:rPr>
              <a:t>·          КТД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27" name="Picture 10" descr="C:\Users\Антон\Documents\Создание презентаций\Детская\Картинки\LFOND6.JPG"/>
          <p:cNvPicPr/>
          <p:nvPr/>
        </p:nvPicPr>
        <p:blipFill>
          <a:blip r:embed="rId1"/>
          <a:stretch/>
        </p:blipFill>
        <p:spPr>
          <a:xfrm>
            <a:off x="7451640" y="5661000"/>
            <a:ext cx="1524240" cy="119232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7" descr="C:\Users\Антон\Documents\Создание презентаций\Детская\Картинки\осень листопад.bmp"/>
          <p:cNvPicPr/>
          <p:nvPr/>
        </p:nvPicPr>
        <p:blipFill>
          <a:blip r:embed="rId2"/>
          <a:stretch/>
        </p:blipFill>
        <p:spPr>
          <a:xfrm>
            <a:off x="6732720" y="38160"/>
            <a:ext cx="2350800" cy="184788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13" descr="C:\Users\Антон\Documents\Создание презентаций\Детская\Картинки\DETI6916.JPG"/>
          <p:cNvPicPr/>
          <p:nvPr/>
        </p:nvPicPr>
        <p:blipFill>
          <a:blip r:embed="rId3"/>
          <a:stretch/>
        </p:blipFill>
        <p:spPr>
          <a:xfrm>
            <a:off x="7823160" y="4037040"/>
            <a:ext cx="1152720" cy="163980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9" descr="C:\Users\Антон\Documents\Создание презентаций\Детская\Картинки\весна.jpg"/>
          <p:cNvPicPr/>
          <p:nvPr/>
        </p:nvPicPr>
        <p:blipFill>
          <a:blip r:embed="rId4"/>
          <a:stretch/>
        </p:blipFill>
        <p:spPr>
          <a:xfrm>
            <a:off x="406440" y="1341360"/>
            <a:ext cx="939600" cy="125748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4" descr="C:\Users\Антон\Documents\Создание презентаций\Детская\Детские кружки\0004.JPG"/>
          <p:cNvPicPr/>
          <p:nvPr/>
        </p:nvPicPr>
        <p:blipFill>
          <a:blip r:embed="rId5"/>
          <a:stretch/>
        </p:blipFill>
        <p:spPr>
          <a:xfrm>
            <a:off x="5586480" y="4398840"/>
            <a:ext cx="1828800" cy="227016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6" descr="C:\Users\Антон\Documents\Создание презентаций\еда анимашки\eda16.gif"/>
          <p:cNvPicPr/>
          <p:nvPr/>
        </p:nvPicPr>
        <p:blipFill>
          <a:blip r:embed="rId6"/>
          <a:stretch/>
        </p:blipFill>
        <p:spPr>
          <a:xfrm>
            <a:off x="6189840" y="2133720"/>
            <a:ext cx="2786040" cy="192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4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2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2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2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2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6840" y="2401560"/>
            <a:ext cx="699444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rebuchet MS"/>
              </a:rPr>
              <a:t>СПЕЦИФИКА ЭКСПЕРИМЕНТАЛЬНОГО ПОДХОДА 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Trebuchet MS"/>
              </a:rPr>
              <a:t>К ОРГАНИЗАЦИИ ОБРАЗОВАТЕЛЬНОГО ПРОЦЕССА</a:t>
            </a:r>
            <a:endParaRPr b="0" lang="en-US" sz="32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457200" y="3900600"/>
            <a:ext cx="4952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Georgia"/>
              </a:rPr>
              <a:t>Суть экспериментального подхода </a:t>
            </a:r>
            <a:r>
              <a:rPr b="0" lang="ru-RU" sz="1800" spc="-1" strike="noStrike">
                <a:solidFill>
                  <a:srgbClr val="00b050"/>
                </a:solidFill>
                <a:latin typeface="Georgia"/>
              </a:rPr>
              <a:t>к содержанию и формам организации образовательной деятельности в рамках экспериментальной программы «Школа Лидерства»: выявление, развитие и поддержка лидерских качеств воспитанников в различных областях интеллектуальной и творческой деятельности (краеведение, психология, избирательное право, журналистика, музыка, изобразительная деятельность, фото искусство)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35" name="Picture 2" descr="C:\Users\Антон\Documents\Создание презентаций\Детская\Детские кружки\0009.JPG"/>
          <p:cNvPicPr/>
          <p:nvPr/>
        </p:nvPicPr>
        <p:blipFill>
          <a:blip r:embed="rId1"/>
          <a:stretch/>
        </p:blipFill>
        <p:spPr>
          <a:xfrm>
            <a:off x="276120" y="0"/>
            <a:ext cx="2948040" cy="198432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7" descr="C:\Users\Антон\Documents\Создание презентаций\Детская\Детские кружки\2.JPG"/>
          <p:cNvPicPr/>
          <p:nvPr/>
        </p:nvPicPr>
        <p:blipFill>
          <a:blip r:embed="rId2"/>
          <a:stretch/>
        </p:blipFill>
        <p:spPr>
          <a:xfrm>
            <a:off x="6372360" y="1440"/>
            <a:ext cx="2692440" cy="218628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7" descr="C:\Users\Home\Downloads\1е.jpg"/>
          <p:cNvPicPr/>
          <p:nvPr/>
        </p:nvPicPr>
        <p:blipFill>
          <a:blip r:embed="rId3"/>
          <a:stretch/>
        </p:blipFill>
        <p:spPr>
          <a:xfrm>
            <a:off x="5796000" y="4365720"/>
            <a:ext cx="2911320" cy="21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0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1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2" dur="250" autoRev="1" fill="hold"/>
                                        <p:tgtEl>
                                          <p:spTgt spid="23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indefinite"/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6840" y="1052640"/>
            <a:ext cx="8458200" cy="403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b050"/>
                </a:solidFill>
                <a:latin typeface="Trebuchet MS"/>
              </a:rPr>
              <a:t>«Если человек хочет прийти к самому себе, </a:t>
            </a:r>
            <a:br>
              <a:rPr sz="4400"/>
            </a:br>
            <a:r>
              <a:rPr b="0" i="1" lang="ru-RU" sz="4400" spc="-1" strike="noStrike">
                <a:solidFill>
                  <a:srgbClr val="00b050"/>
                </a:solidFill>
                <a:latin typeface="Trebuchet MS"/>
              </a:rPr>
              <a:t>его путь лежит через мир».</a:t>
            </a:r>
            <a:br>
              <a:rPr sz="4400"/>
            </a:br>
            <a:r>
              <a:rPr b="0" i="1" lang="ru-RU" sz="4400" spc="-1" strike="noStrike">
                <a:solidFill>
                  <a:srgbClr val="00b050"/>
                </a:solidFill>
                <a:latin typeface="Trebuchet MS"/>
              </a:rPr>
              <a:t>Виктор Франкл</a:t>
            </a:r>
            <a:br>
              <a:rPr sz="4400"/>
            </a:br>
            <a:r>
              <a:rPr b="1" lang="ru-RU" sz="4400" spc="-1" strike="noStrike">
                <a:solidFill>
                  <a:srgbClr val="00b050"/>
                </a:solidFill>
                <a:latin typeface="Trebuchet MS"/>
              </a:rPr>
              <a:t> </a:t>
            </a:r>
            <a:br>
              <a:rPr sz="4400"/>
            </a:b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457200" y="3900600"/>
            <a:ext cx="49528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424456"/>
              </a:solidFill>
              <a:latin typeface="Georgia"/>
            </a:endParaRPr>
          </a:p>
        </p:txBody>
      </p:sp>
      <p:pic>
        <p:nvPicPr>
          <p:cNvPr id="240" name="Picture 3" descr="C:\Users\Антон\Documents\Создание презентаций\Детская\Детские кружки\222.JPG"/>
          <p:cNvPicPr/>
          <p:nvPr/>
        </p:nvPicPr>
        <p:blipFill>
          <a:blip r:embed="rId1"/>
          <a:stretch/>
        </p:blipFill>
        <p:spPr>
          <a:xfrm>
            <a:off x="4572000" y="4149720"/>
            <a:ext cx="1643040" cy="121932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4" descr="C:\Users\Антон\Documents\Создание презентаций\Детская\Детские кружки\210700_2.JPG"/>
          <p:cNvPicPr/>
          <p:nvPr/>
        </p:nvPicPr>
        <p:blipFill>
          <a:blip r:embed="rId2"/>
          <a:stretch/>
        </p:blipFill>
        <p:spPr>
          <a:xfrm>
            <a:off x="6804000" y="5378400"/>
            <a:ext cx="1911240" cy="121608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6" descr="C:\Users\Антон\Documents\Создание презентаций\Детская\Детские кружки\S_1.JPG"/>
          <p:cNvPicPr/>
          <p:nvPr/>
        </p:nvPicPr>
        <p:blipFill>
          <a:blip r:embed="rId3"/>
          <a:stretch/>
        </p:blipFill>
        <p:spPr>
          <a:xfrm>
            <a:off x="539640" y="4149720"/>
            <a:ext cx="3245040" cy="23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6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1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6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4015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457200" y="3900600"/>
            <a:ext cx="49528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424456"/>
              </a:solidFill>
              <a:latin typeface="Georgia"/>
            </a:endParaRPr>
          </a:p>
        </p:txBody>
      </p:sp>
      <p:pic>
        <p:nvPicPr>
          <p:cNvPr id="245" name="Рисунок 3" descr="Голубые холмы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6" name="Прямоугольник 4" descr=""/>
          <p:cNvPicPr/>
          <p:nvPr/>
        </p:nvPicPr>
        <p:blipFill>
          <a:blip r:embed="rId2"/>
          <a:stretch/>
        </p:blipFill>
        <p:spPr>
          <a:xfrm>
            <a:off x="1073160" y="407880"/>
            <a:ext cx="8126280" cy="56754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3" descr="C:\Users\Антон\Documents\Создание презентаций\Детская\Детские кружки\DETI1729.JPG"/>
          <p:cNvPicPr/>
          <p:nvPr/>
        </p:nvPicPr>
        <p:blipFill>
          <a:blip r:embed="rId3"/>
          <a:stretch/>
        </p:blipFill>
        <p:spPr>
          <a:xfrm>
            <a:off x="1076400" y="727200"/>
            <a:ext cx="2232000" cy="245412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2" descr="C:\Users\Антон\Documents\Создание презентаций\Детская\Детские кружки\DETI1262.JPG"/>
          <p:cNvPicPr/>
          <p:nvPr/>
        </p:nvPicPr>
        <p:blipFill>
          <a:blip r:embed="rId4"/>
          <a:stretch/>
        </p:blipFill>
        <p:spPr>
          <a:xfrm>
            <a:off x="6084720" y="3406680"/>
            <a:ext cx="2448000" cy="247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7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2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08T04:43:54Z</dcterms:created>
  <dc:creator>user3208</dc:creator>
  <dc:description/>
  <dc:language>en-US</dc:language>
  <cp:lastModifiedBy>Home</cp:lastModifiedBy>
  <dcterms:modified xsi:type="dcterms:W3CDTF">2012-11-08T16:01:31Z</dcterms:modified>
  <cp:revision>10</cp:revision>
  <dc:subject/>
  <dc:title>«Внеурочная деятельность, её цели и задачи»</dc:title>
</cp:coreProperties>
</file>