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441-4FF1-40D6-A76F-CAECA0C8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656-81D3-48E5-B6D5-6A02FCF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307-33B7-4D2F-9EC7-3B4A2A67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584-A814-4A55-B2E7-A4D702C7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A85C-90E4-4570-92F6-63A8A536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BA46-A3C0-49B9-9B22-F025548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A530-D088-465C-A823-8B53752B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C882-B524-4663-9DEA-26665249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D296-4D57-45A9-BE8D-F7C63439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682-D462-4F96-B894-D2A3DEC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03B3-1E99-4767-9A0B-F907442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1FB-BCE8-41F1-A231-514F4BF0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7FC-6CEC-41EB-9F5D-50A00C24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9CD9-6C22-45EE-81AA-A12F6AB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E93C-30C5-4FC6-A0ED-5BB606F3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62D-6041-4660-B075-FED3E904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888D-1B0D-4777-BE39-6DC6E91D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97F2B-915F-4D32-9E78-F41E7859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F5E5D-E41C-4286-81ED-88A96168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BD9A5-3CF8-44D3-BC10-9127056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87AEC-0B47-48F2-A102-C82B766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F8B17-B59B-4398-89F7-6EDF7CB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E85-76D2-4913-B712-B76E3104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7F561-5763-42CF-9E2D-CDF30C71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8385A-0AE7-42F1-ACDD-CF876B0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79068-1FBF-4035-A580-3F49BA7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248A3-62F3-4CD0-ADB2-1EA5F29C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35F22-ADB5-40A6-A6C6-14E1959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6C0A4-45A8-43A7-8589-9E112D7A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F1D1D-1856-4E17-A42C-1384D8DE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CA71-C25C-48B2-A38C-DB4C8FB6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6846-E890-40EE-9A3F-12FEAA4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FEF9-3C01-43B9-BD76-43EA7328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F90-A5B3-499F-812F-0A5D65AC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743E-947A-4598-A5AD-E51F9F06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2ABD-BCA0-454C-B09E-331F92F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E53A-C2AA-4F92-86FA-8407925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CC05-6E6F-4F42-9E21-2D002C6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A9D2-E479-4F98-92B6-B9133B8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BC33-79E9-482C-85ED-5E69EA8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9AC6-1E98-4BB2-9B70-46E24ACE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1892-BFDE-4A8E-9A04-451FEBBA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CFB17-08D8-4706-9A3B-197E63F3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A47-AB32-4356-8806-C430893F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99F-75B6-4234-993F-1BB1DFB4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2BE-4967-4634-B06D-5E14050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7AF-0032-4CCF-8AC3-7F66719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9CB-8648-4E7E-91F2-1E769BCB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3176-BF7C-4550-9FA6-6FFA46C620E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A3D-40FA-4DE8-896F-7DF84F28428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B4D6-C491-462B-BF2D-5F225E21D23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967-7473-4211-B3D7-BFC130B884E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197000"/>
            <a:ext cx="84582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rebuchet MS"/>
              </a:rPr>
              <a:t>«Внеурочная деятельность, её цели и задачи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Выступление учителя начальных классов – Горбиковой Светланы Борисов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C:\Users\Антон\Documents\ЛИЦЕЙ №11\IMG_7490.JPG"/>
          <p:cNvPicPr/>
          <p:nvPr/>
        </p:nvPicPr>
        <p:blipFill>
          <a:blip r:embed="rId1"/>
          <a:stretch/>
        </p:blipFill>
        <p:spPr>
          <a:xfrm>
            <a:off x="5940360" y="2651040"/>
            <a:ext cx="247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rebuchet MS"/>
              </a:rPr>
              <a:t>« </a:t>
            </a: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Нет такого человека, который не смог бы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значительно развить свои способности к лидерству,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немного поразмыслив над этим и попрактиковавшись». 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rebuchet MS"/>
              </a:rPr>
              <a:t>Лорд Слим 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9" name="Picture 2" descr="C:\Users\Антон\Documents\ЛИЦЕЙ №11\IMG_7496.JPG"/>
          <p:cNvPicPr/>
          <p:nvPr/>
        </p:nvPicPr>
        <p:blipFill>
          <a:blip r:embed="rId1"/>
          <a:stretch/>
        </p:blipFill>
        <p:spPr>
          <a:xfrm>
            <a:off x="3348000" y="3716280"/>
            <a:ext cx="4049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АКТУАЛЬНОСТЬ ПРОГРАММЫ 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Georgia"/>
              </a:rPr>
              <a:t>Россия в наше время нуждаются в новом поколении активистов, людей обладающих стратегическим мышлением, неординарным видением ситуации, уверенностью в успехе. Особую актуальность и остроту приобрела задача подготовки лидеров, стимулирование их организаторской деятельност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C:\Users\Антон\Documents\ЛИЦЕЙ №11\IMG_7487.JPG"/>
          <p:cNvPicPr/>
          <p:nvPr/>
        </p:nvPicPr>
        <p:blipFill>
          <a:blip r:embed="rId1"/>
          <a:stretch/>
        </p:blipFill>
        <p:spPr>
          <a:xfrm>
            <a:off x="5219640" y="3645000"/>
            <a:ext cx="37148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582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ЦЕЛЬ И ЗАДАЧИ 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57176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Цель</a:t>
            </a: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: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создание благоприятных условий для выявления, развития и поддержки лидерских качеств одаренных детей в различных областях интеллектуальной и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·          </a:t>
            </a:r>
            <a:r>
              <a:rPr b="0" i="1" lang="ru-RU" sz="1600" spc="-1" strike="noStrike">
                <a:solidFill>
                  <a:srgbClr val="ff0000"/>
                </a:solidFill>
                <a:latin typeface="Georgia"/>
              </a:rPr>
              <a:t>Образовательны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способствовать формированию: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лидерских качеств, навыков руководства и умений руководитель, психологической и коммуникативной культуры, способности к рефлек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·          </a:t>
            </a:r>
            <a:r>
              <a:rPr b="0" i="1" lang="ru-RU" sz="1600" spc="-1" strike="noStrike">
                <a:solidFill>
                  <a:srgbClr val="ff0000"/>
                </a:solidFill>
                <a:latin typeface="Georgia"/>
              </a:rPr>
              <a:t>Развивающи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способствовать развитию: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аналитического и критического мышления, самооценки, навыков работы в группе, в команде; творческих и интеллектуальных способностей; эмоциональной устойчивости в сложных жизненных ситуациях, воли и настойчивости; умения самокритичного отношения к себ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·          </a:t>
            </a:r>
            <a:r>
              <a:rPr b="0" i="1" lang="ru-RU" sz="1600" spc="-1" strike="noStrike">
                <a:solidFill>
                  <a:srgbClr val="ff0000"/>
                </a:solidFill>
                <a:latin typeface="Georgia"/>
              </a:rPr>
              <a:t>Воспитательные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Georgia"/>
              </a:rPr>
              <a:t>создать условия для: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нравственного становления учащихся, мотивации к социально значимой деятельности, активизации ученического самоуправления, создания благоприятного психологического климата снижения уровня тревожности в детском коллективе.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63640" y="500040"/>
            <a:ext cx="5112000" cy="27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Формы проведения учебных </a:t>
            </a: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занятий</a:t>
            </a: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 подбираются с учетом цели и задач, познавательных интересов и индивидуальных возможностей воспитанников, специфики содержания данной образовательной программы и возраста воспитанников: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3714840"/>
            <a:ext cx="5186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424456"/>
                </a:solidFill>
                <a:latin typeface="Georgia"/>
              </a:rPr>
              <a:t>·          </a:t>
            </a: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Деловые и ролевые игр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Упражнения на взаимодействия в групп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Тренинг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Творческие зада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Конкурсы (участие в районных, областных и всероссийских)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Проигрывание ситуаци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Диску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Моделирова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Проектирова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Встречи со специалистами и интересными людь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Экспресс тесты и опрос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Georgia"/>
              </a:rPr>
              <a:t>·          КТ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10" descr="C:\Users\Антон\Documents\Создание презентаций\Детская\Картинки\LFOND6.JPG"/>
          <p:cNvPicPr/>
          <p:nvPr/>
        </p:nvPicPr>
        <p:blipFill>
          <a:blip r:embed="rId1"/>
          <a:stretch/>
        </p:blipFill>
        <p:spPr>
          <a:xfrm>
            <a:off x="7451640" y="5661000"/>
            <a:ext cx="1524240" cy="119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Антон\Documents\Создание презентаций\Детская\Картинки\осень листопад.bmp"/>
          <p:cNvPicPr/>
          <p:nvPr/>
        </p:nvPicPr>
        <p:blipFill>
          <a:blip r:embed="rId2"/>
          <a:stretch/>
        </p:blipFill>
        <p:spPr>
          <a:xfrm>
            <a:off x="6732720" y="38160"/>
            <a:ext cx="2350800" cy="184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C:\Users\Антон\Documents\Создание презентаций\Детская\Картинки\DETI6916.JPG"/>
          <p:cNvPicPr/>
          <p:nvPr/>
        </p:nvPicPr>
        <p:blipFill>
          <a:blip r:embed="rId3"/>
          <a:stretch/>
        </p:blipFill>
        <p:spPr>
          <a:xfrm>
            <a:off x="7823160" y="4037040"/>
            <a:ext cx="1152720" cy="1639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C:\Users\Антон\Documents\Создание презентаций\Детская\Картинки\весна.jpg"/>
          <p:cNvPicPr/>
          <p:nvPr/>
        </p:nvPicPr>
        <p:blipFill>
          <a:blip r:embed="rId4"/>
          <a:stretch/>
        </p:blipFill>
        <p:spPr>
          <a:xfrm>
            <a:off x="406440" y="1341360"/>
            <a:ext cx="939600" cy="125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Users\Антон\Documents\Создание презентаций\Детская\Детские кружки\0004.JPG"/>
          <p:cNvPicPr/>
          <p:nvPr/>
        </p:nvPicPr>
        <p:blipFill>
          <a:blip r:embed="rId5"/>
          <a:stretch/>
        </p:blipFill>
        <p:spPr>
          <a:xfrm>
            <a:off x="5586480" y="439884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Антон\Documents\Создание презентаций\еда анимашки\eda16.gif"/>
          <p:cNvPicPr/>
          <p:nvPr/>
        </p:nvPicPr>
        <p:blipFill>
          <a:blip r:embed="rId6"/>
          <a:stretch/>
        </p:blipFill>
        <p:spPr>
          <a:xfrm>
            <a:off x="6189840" y="2133720"/>
            <a:ext cx="27860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69944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ПЕЦИФИКА ЭКСПЕРИМЕНТАЛЬНОГО ПОДХОД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 ОРГАНИЗАЦИИ ОБРАЗОВАТЕЛЬНОГО ПРОЦЕСС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Суть экспериментального подхода </a:t>
            </a:r>
            <a:r>
              <a:rPr b="0" lang="ru-RU" sz="1800" spc="-1" strike="noStrike">
                <a:solidFill>
                  <a:srgbClr val="00b050"/>
                </a:solidFill>
                <a:latin typeface="Georgia"/>
              </a:rPr>
              <a:t>к содержанию и формам организации образовательной деятельности в рамках экспериментальной программы «Школа Лидерства»: выявление, развитие и поддержка лидерских качеств воспитанников в различных областях интеллектуальной и творческой деятельности (краеведение, психология, избирательное право, журналистика, музыка, изобразительная деятельность, фото искусство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C:\Users\Антон\Documents\Создание презентаций\Детская\Детские кружки\0009.JPG"/>
          <p:cNvPicPr/>
          <p:nvPr/>
        </p:nvPicPr>
        <p:blipFill>
          <a:blip r:embed="rId1"/>
          <a:stretch/>
        </p:blipFill>
        <p:spPr>
          <a:xfrm>
            <a:off x="276120" y="0"/>
            <a:ext cx="2948040" cy="1984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C:\Users\Антон\Documents\Создание презентаций\Детская\Детские кружки\2.JPG"/>
          <p:cNvPicPr/>
          <p:nvPr/>
        </p:nvPicPr>
        <p:blipFill>
          <a:blip r:embed="rId2"/>
          <a:stretch/>
        </p:blipFill>
        <p:spPr>
          <a:xfrm>
            <a:off x="6372360" y="1440"/>
            <a:ext cx="2692440" cy="2186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C:\Users\Home\Downloads\1е.jpg"/>
          <p:cNvPicPr/>
          <p:nvPr/>
        </p:nvPicPr>
        <p:blipFill>
          <a:blip r:embed="rId3"/>
          <a:stretch/>
        </p:blipFill>
        <p:spPr>
          <a:xfrm>
            <a:off x="5796000" y="4365720"/>
            <a:ext cx="2911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Trebuchet MS"/>
              </a:rPr>
              <a:t>«Если человек хочет прийти к самому себе, </a:t>
            </a:r>
            <a:br>
              <a:rPr sz="4400"/>
            </a:br>
            <a:r>
              <a:rPr b="0" i="1" lang="ru-RU" sz="4400" spc="-1" strike="noStrike">
                <a:solidFill>
                  <a:srgbClr val="00b050"/>
                </a:solidFill>
                <a:latin typeface="Trebuchet MS"/>
              </a:rPr>
              <a:t>его путь лежит через мир».</a:t>
            </a:r>
            <a:br>
              <a:rPr sz="4400"/>
            </a:br>
            <a:r>
              <a:rPr b="0" i="1" lang="ru-RU" sz="4400" spc="-1" strike="noStrike">
                <a:solidFill>
                  <a:srgbClr val="00b050"/>
                </a:solidFill>
                <a:latin typeface="Trebuchet MS"/>
              </a:rPr>
              <a:t>Виктор Франкл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rebuchet MS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40" name="Picture 3" descr="C:\Users\Антон\Documents\Создание презентаций\Детская\Детские кружки\222.JPG"/>
          <p:cNvPicPr/>
          <p:nvPr/>
        </p:nvPicPr>
        <p:blipFill>
          <a:blip r:embed="rId1"/>
          <a:stretch/>
        </p:blipFill>
        <p:spPr>
          <a:xfrm>
            <a:off x="4572000" y="4149720"/>
            <a:ext cx="1643040" cy="12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Антон\Documents\Создание презентаций\Детская\Детские кружки\210700_2.JPG"/>
          <p:cNvPicPr/>
          <p:nvPr/>
        </p:nvPicPr>
        <p:blipFill>
          <a:blip r:embed="rId2"/>
          <a:stretch/>
        </p:blipFill>
        <p:spPr>
          <a:xfrm>
            <a:off x="6804000" y="5378400"/>
            <a:ext cx="1911240" cy="12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Антон\Documents\Создание презентаций\Детская\Детские кружки\S_1.JPG"/>
          <p:cNvPicPr/>
          <p:nvPr/>
        </p:nvPicPr>
        <p:blipFill>
          <a:blip r:embed="rId3"/>
          <a:stretch/>
        </p:blipFill>
        <p:spPr>
          <a:xfrm>
            <a:off x="539640" y="4149720"/>
            <a:ext cx="32450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45" name="Рисунок 3" descr="Голубые холм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407880"/>
            <a:ext cx="8126280" cy="5675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Антон\Documents\Создание презентаций\Детская\Детские кружки\DETI1729.JPG"/>
          <p:cNvPicPr/>
          <p:nvPr/>
        </p:nvPicPr>
        <p:blipFill>
          <a:blip r:embed="rId3"/>
          <a:stretch/>
        </p:blipFill>
        <p:spPr>
          <a:xfrm>
            <a:off x="1076400" y="727200"/>
            <a:ext cx="2232000" cy="2454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Users\Антон\Documents\Создание презентаций\Детская\Детские кружки\DETI1262.JPG"/>
          <p:cNvPicPr/>
          <p:nvPr/>
        </p:nvPicPr>
        <p:blipFill>
          <a:blip r:embed="rId4"/>
          <a:stretch/>
        </p:blipFill>
        <p:spPr>
          <a:xfrm>
            <a:off x="6084720" y="3406680"/>
            <a:ext cx="244800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4:43:54Z</dcterms:created>
  <dc:creator>user3208</dc:creator>
  <dc:description/>
  <dc:language>en-US</dc:language>
  <cp:lastModifiedBy>Home</cp:lastModifiedBy>
  <dcterms:modified xsi:type="dcterms:W3CDTF">2012-11-08T16:01:31Z</dcterms:modified>
  <cp:revision>10</cp:revision>
  <dc:subject/>
  <dc:title>«Внеурочная деятельность, её цели и задачи»</dc:title>
</cp:coreProperties>
</file>