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28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5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B89-9E2A-4B47-8AE7-8D5E0807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73C-0285-4E0E-9C2A-2FD5AE57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87F-1169-4853-8989-05B8F584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CA6-C8A6-4C63-AC63-A89D76FB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715-93E5-4DEC-9744-90E56B97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664F-A3B1-43F1-A5C2-7C13AA34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8C8B-FF2B-47CC-9A44-3416F28E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2AD-0BCC-4798-ADFE-F60D2AC6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553-B26A-4BD5-ACA9-BC674583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FF39-0B73-48D2-AB74-BB2933C5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5744-0C86-428B-AD48-5F5EC9B6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373-9873-4FBB-90F3-34015C2A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b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F784-06E0-4EAE-8D67-3A69579508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42864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800"/>
                </a:solidFill>
                <a:latin typeface="Comic Sans MS"/>
              </a:rPr>
              <a:t>1 марта – Всемирный день ко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1080" y="4005360"/>
            <a:ext cx="3167280" cy="21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84360" y="476280"/>
            <a:ext cx="79200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акие  раз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2627280" y="242100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ш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Picture 6" descr="km_neko_286"/>
          <p:cNvPicPr/>
          <p:nvPr/>
        </p:nvPicPr>
        <p:blipFill>
          <a:blip r:embed="rId1"/>
          <a:stretch/>
        </p:blipFill>
        <p:spPr>
          <a:xfrm>
            <a:off x="684360" y="4508640"/>
            <a:ext cx="3047760" cy="2133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78544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шки с самого раннего возраста очень тон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личают особенности поведения человека. Им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 этого зависит формирование их харак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хое обращение с кошками приводит к тому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и становятся нервозными, пугливыми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ишком агрессивн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койный и приветлив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арактер хозяина перед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тся животному. У кош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а защитная реак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шка отлично поним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напавший на ее хозя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ловек – вра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animals_33"/>
          <p:cNvPicPr/>
          <p:nvPr/>
        </p:nvPicPr>
        <p:blipFill>
          <a:blip r:embed="rId1"/>
          <a:stretch/>
        </p:blipFill>
        <p:spPr>
          <a:xfrm>
            <a:off x="4932360" y="2924280"/>
            <a:ext cx="3956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жде всего необходимо определить, кошку какой по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 хотите завести. При выборе надо учитывать не т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ешний вид, но и присущие каждой породе особ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едения. Не менее важно решить, кого вы предпочтете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шку или к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ую бы кошку вы не выбрали, она должна подр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только, чтобы обходиться без матери. Если кот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лучить с матерью, они не смогут получить то, от ч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жет зависеть их жизнь (например, драка, охо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539640" y="333360"/>
            <a:ext cx="799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Кошка  в  дом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pic>
        <p:nvPicPr>
          <p:cNvPr id="76" name="Picture 5" descr="1983740_fatanimals223"/>
          <p:cNvPicPr/>
          <p:nvPr/>
        </p:nvPicPr>
        <p:blipFill>
          <a:blip r:embed="rId1"/>
          <a:stretch/>
        </p:blipFill>
        <p:spPr>
          <a:xfrm>
            <a:off x="3059280" y="4581360"/>
            <a:ext cx="25923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шки – едва ли не самые заботливые матери в мир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вотных, у них наиболее сильно развит матери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стинкт.  С каждым днем котенок все больше проявл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терес к окружающему миру, однако несколько пер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дель мать остается для малыша главным в его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щество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km_neko_281"/>
          <p:cNvPicPr/>
          <p:nvPr/>
        </p:nvPicPr>
        <p:blipFill>
          <a:blip r:embed="rId1"/>
          <a:stretch/>
        </p:blipFill>
        <p:spPr>
          <a:xfrm>
            <a:off x="2050920" y="2565360"/>
            <a:ext cx="5761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85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шку можно держать в помещении и не выпускать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лицу, но надо обязательно помнить о том, что это живот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юбит простор, движение. Сейчас держат кошек в клетках,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в этом случае животное надо выпускать из клетки и да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бодно двигаться по квартире. Если кошку содержат не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етке, ей надо отвести в квартире специальное место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дых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небольшое возвышение или в тени). Кошка долж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увствовать себя удобно и комфор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395280" y="189000"/>
            <a:ext cx="835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сто кошки в дом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1" name="Picture 5" descr="CAT_0177"/>
          <p:cNvPicPr/>
          <p:nvPr/>
        </p:nvPicPr>
        <p:blipFill>
          <a:blip r:embed="rId1"/>
          <a:stretch/>
        </p:blipFill>
        <p:spPr>
          <a:xfrm>
            <a:off x="5940360" y="4437000"/>
            <a:ext cx="2911680" cy="2184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Picture 8" descr="km_neko_285"/>
          <p:cNvPicPr/>
          <p:nvPr/>
        </p:nvPicPr>
        <p:blipFill>
          <a:blip r:embed="rId2"/>
          <a:stretch/>
        </p:blipFill>
        <p:spPr>
          <a:xfrm>
            <a:off x="1979640" y="4648320"/>
            <a:ext cx="2952720" cy="2066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дним из важнейших условий содержания кошек яв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х правильное и полноценное питание. Особое вним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о уделять кошкам, ожидающим котят и кормящ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вредить животному может не только недостаток, н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лишек пищи, ее неправильный сост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естественных условиях кошка сама себе находит добыч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енно такой естественной добычи не хватает для правиль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го формирования и нормальной жизнедеятельности д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шним кошкам. При содержании в комнате функ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добытчика» берет на себя хозяин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250920" y="189000"/>
            <a:ext cx="84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тание  коше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5" name="Picture 5" descr="post-3-12156882047604"/>
          <p:cNvPicPr/>
          <p:nvPr/>
        </p:nvPicPr>
        <p:blipFill>
          <a:blip r:embed="rId1"/>
          <a:stretch/>
        </p:blipFill>
        <p:spPr>
          <a:xfrm>
            <a:off x="5940360" y="4653000"/>
            <a:ext cx="261936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ща для животных – источник физической энерг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мена веществ в организме. Благодаря ей форм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ется скелет, происходит смена шерстяного покр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беременных кошек это основа питания плода,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мящих – источник образования мол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ph02757u"/>
          <p:cNvPicPr/>
          <p:nvPr/>
        </p:nvPicPr>
        <p:blipFill>
          <a:blip r:embed="rId1"/>
          <a:stretch/>
        </p:blipFill>
        <p:spPr>
          <a:xfrm>
            <a:off x="468360" y="2349360"/>
            <a:ext cx="2519280" cy="2216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S6003367"/>
          <p:cNvPicPr/>
          <p:nvPr/>
        </p:nvPicPr>
        <p:blipFill>
          <a:blip r:embed="rId2"/>
          <a:stretch/>
        </p:blipFill>
        <p:spPr>
          <a:xfrm>
            <a:off x="2340000" y="472428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молоко"/>
          <p:cNvPicPr/>
          <p:nvPr/>
        </p:nvPicPr>
        <p:blipFill>
          <a:blip r:embed="rId3"/>
          <a:stretch/>
        </p:blipFill>
        <p:spPr>
          <a:xfrm>
            <a:off x="5292720" y="2421000"/>
            <a:ext cx="275580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хлеб"/>
          <p:cNvPicPr/>
          <p:nvPr/>
        </p:nvPicPr>
        <p:blipFill>
          <a:blip r:embed="rId4"/>
          <a:stretch/>
        </p:blipFill>
        <p:spPr>
          <a:xfrm>
            <a:off x="6732720" y="4797360"/>
            <a:ext cx="1593720" cy="1773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мясо"/>
          <p:cNvPicPr/>
          <p:nvPr/>
        </p:nvPicPr>
        <p:blipFill>
          <a:blip r:embed="rId5"/>
          <a:stretch/>
        </p:blipFill>
        <p:spPr>
          <a:xfrm>
            <a:off x="3348000" y="2637000"/>
            <a:ext cx="16178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dc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египетской религии важная роль отводилась кошке, которая называлась "мяу", звукоподражательным словом, перешедшим во все языки; от него же происходит глагол "мяукать".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dc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мире существует 3 породы голых кошек-сфинк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611280" y="404640"/>
            <a:ext cx="799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наете ли вы, что..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4" name="Picture 5" descr="28"/>
          <p:cNvPicPr/>
          <p:nvPr/>
        </p:nvPicPr>
        <p:blipFill>
          <a:blip r:embed="rId1"/>
          <a:stretch/>
        </p:blipFill>
        <p:spPr>
          <a:xfrm>
            <a:off x="539640" y="3500280"/>
            <a:ext cx="2065320" cy="252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канадский сфинкс"/>
          <p:cNvPicPr/>
          <p:nvPr/>
        </p:nvPicPr>
        <p:blipFill>
          <a:blip r:embed="rId2"/>
          <a:stretch/>
        </p:blipFill>
        <p:spPr>
          <a:xfrm>
            <a:off x="3780000" y="3357720"/>
            <a:ext cx="1392120" cy="2757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донской сфинкс"/>
          <p:cNvPicPr/>
          <p:nvPr/>
        </p:nvPicPr>
        <p:blipFill>
          <a:blip r:embed="rId3"/>
          <a:stretch/>
        </p:blipFill>
        <p:spPr>
          <a:xfrm>
            <a:off x="6588000" y="3284640"/>
            <a:ext cx="1621080" cy="25779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9"/>
          <p:cNvSpPr/>
          <p:nvPr/>
        </p:nvSpPr>
        <p:spPr>
          <a:xfrm>
            <a:off x="255240" y="602136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тербургский сфинк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или петербол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3351240" y="623736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надский сфинк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6158520" y="5950080"/>
            <a:ext cx="25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нской сфинк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или донской лыса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86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6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87280" y="1413000"/>
            <a:ext cx="88567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шка является одним из самых распространенных домаш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отных. Человек приручил кошку гораздо позже, чем соба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зные времена к кошке относились по-разному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826920" y="260280"/>
            <a:ext cx="7274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Немного истор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8" name="Picture 5" descr="киска"/>
          <p:cNvPicPr/>
          <p:nvPr/>
        </p:nvPicPr>
        <p:blipFill>
          <a:blip r:embed="rId1"/>
          <a:stretch/>
        </p:blipFill>
        <p:spPr>
          <a:xfrm>
            <a:off x="2771640" y="2852640"/>
            <a:ext cx="325944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Древнем Египте ее почитали как священное живот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ществовала даже кошачья богиня Баст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 всех частей царства приносили в дар бог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мволы преданности в форме малень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шачьих фигурок из керамики и бронз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egipt"/>
          <p:cNvPicPr/>
          <p:nvPr/>
        </p:nvPicPr>
        <p:blipFill>
          <a:blip r:embed="rId1"/>
          <a:stretch/>
        </p:blipFill>
        <p:spPr>
          <a:xfrm>
            <a:off x="4500720" y="3789360"/>
            <a:ext cx="2119320" cy="2860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1" name="Picture 5" descr="Бастет 1"/>
          <p:cNvPicPr/>
          <p:nvPr/>
        </p:nvPicPr>
        <p:blipFill>
          <a:blip r:embed="rId2"/>
          <a:stretch/>
        </p:blipFill>
        <p:spPr>
          <a:xfrm>
            <a:off x="6804000" y="1413000"/>
            <a:ext cx="2149560" cy="3527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2" name="Picture 6" descr="бастет"/>
          <p:cNvPicPr/>
          <p:nvPr/>
        </p:nvPicPr>
        <p:blipFill>
          <a:blip r:embed="rId3"/>
          <a:stretch/>
        </p:blipFill>
        <p:spPr>
          <a:xfrm>
            <a:off x="395280" y="2205000"/>
            <a:ext cx="1401840" cy="3687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3" name="Picture 7" descr="egypt_4"/>
          <p:cNvPicPr/>
          <p:nvPr/>
        </p:nvPicPr>
        <p:blipFill>
          <a:blip r:embed="rId4"/>
          <a:stretch/>
        </p:blipFill>
        <p:spPr>
          <a:xfrm>
            <a:off x="2411280" y="2708280"/>
            <a:ext cx="1760760" cy="244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Древнем Египте  хоронили бальзамированных умерш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шек, помещая в украшенные саркофа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убийство кошки виновному грозила см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041"/>
          <p:cNvPicPr/>
          <p:nvPr/>
        </p:nvPicPr>
        <p:blipFill>
          <a:blip r:embed="rId1"/>
          <a:stretch/>
        </p:blipFill>
        <p:spPr>
          <a:xfrm>
            <a:off x="539640" y="2644920"/>
            <a:ext cx="4608720" cy="35208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6" name="Picture 5" descr="303"/>
          <p:cNvPicPr/>
          <p:nvPr/>
        </p:nvPicPr>
        <p:blipFill>
          <a:blip r:embed="rId2"/>
          <a:stretch/>
        </p:blipFill>
        <p:spPr>
          <a:xfrm>
            <a:off x="5435640" y="1989000"/>
            <a:ext cx="3233520" cy="4305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во времена средневековья в некоторых западноевропей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их странах кошку считали прислужницей дьяво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ладельцев черных кошек обвиняли в связях с нечист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km_neko_122"/>
          <p:cNvPicPr/>
          <p:nvPr/>
        </p:nvPicPr>
        <p:blipFill>
          <a:blip r:embed="rId1"/>
          <a:stretch/>
        </p:blipFill>
        <p:spPr>
          <a:xfrm>
            <a:off x="395280" y="1844640"/>
            <a:ext cx="5905440" cy="484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06"/>
          <p:cNvPicPr/>
          <p:nvPr/>
        </p:nvPicPr>
        <p:blipFill>
          <a:blip r:embed="rId2"/>
          <a:stretch/>
        </p:blipFill>
        <p:spPr>
          <a:xfrm>
            <a:off x="6516720" y="3429000"/>
            <a:ext cx="2381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96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годня редко можно встретить человека, испытывающ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рицательные эмоции по отношению  к  кошке. По популяр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сти кошка опережает собаку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юбая квартира, в ко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елилась кошка, становится более уют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CAT_0189"/>
          <p:cNvPicPr/>
          <p:nvPr/>
        </p:nvPicPr>
        <p:blipFill>
          <a:blip r:embed="rId1"/>
          <a:stretch/>
        </p:blipFill>
        <p:spPr>
          <a:xfrm>
            <a:off x="1692360" y="2205000"/>
            <a:ext cx="583236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8920" y="1197000"/>
            <a:ext cx="87138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шка домашняя относится к отряду хищных млекопитающи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ейству кошачьих  и роду кошек. Это семейство объедин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давно вымерших, так и ныне существующих представит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й. Известно 37   видов кошачьих. Древним исходным и глав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ым предком всех пород и разновидностей кошки считается д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я североафриканская буланая или ливийская.</a:t>
            </a:r>
            <a:r>
              <a:rPr b="0" lang="ru-RU" sz="2400" spc="-1" strike="noStrike">
                <a:solidFill>
                  <a:srgbClr val="eee67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иком состоянии эти кошки сохранились и до наших д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распространены по всей территории Африки и в обшир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оне от Средиземноморья до Китая. По внешнему виду э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шки похожи на сильно исхудавших домашних кош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ручаются лег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678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324000" y="189000"/>
            <a:ext cx="8353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исхождение домашней кошк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" name="Picture 5" descr="km_neko_208"/>
          <p:cNvPicPr/>
          <p:nvPr/>
        </p:nvPicPr>
        <p:blipFill>
          <a:blip r:embed="rId1"/>
          <a:stretch/>
        </p:blipFill>
        <p:spPr>
          <a:xfrm>
            <a:off x="4643280" y="4653000"/>
            <a:ext cx="27496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шка  из  обычного,  полезного  для  человека  животно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новится одним из его ближайших друзей. Но при э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шки сохраняют в доме своего владельца полн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зависимость и самостоятельность. При всем дружелюб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 отношении к человеку кошка никогда не станет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угой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km_neko_291"/>
          <p:cNvPicPr/>
          <p:nvPr/>
        </p:nvPicPr>
        <p:blipFill>
          <a:blip r:embed="rId1"/>
          <a:stretch/>
        </p:blipFill>
        <p:spPr>
          <a:xfrm>
            <a:off x="6588000" y="2349360"/>
            <a:ext cx="2297160" cy="3281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km_neko_309"/>
          <p:cNvPicPr/>
          <p:nvPr/>
        </p:nvPicPr>
        <p:blipFill>
          <a:blip r:embed="rId2"/>
          <a:stretch/>
        </p:blipFill>
        <p:spPr>
          <a:xfrm>
            <a:off x="250920" y="2708280"/>
            <a:ext cx="2654280" cy="2124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km_neko_303"/>
          <p:cNvPicPr/>
          <p:nvPr/>
        </p:nvPicPr>
        <p:blipFill>
          <a:blip r:embed="rId3"/>
          <a:stretch/>
        </p:blipFill>
        <p:spPr>
          <a:xfrm>
            <a:off x="3059280" y="3933720"/>
            <a:ext cx="3301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шка – животное исключительно свободолюбивое, отлич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тся подвижностью, умеет ловить мелких живот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 обеспечивает  кошку только пристанищем и проп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нием. Кошка почти не поддается дрессировке, хотя 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ить ей определенные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 rot="649800">
            <a:off x="178920" y="-315720"/>
            <a:ext cx="421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собенности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характ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71" name="Picture 6" descr="1741555_fatanimals201"/>
          <p:cNvPicPr/>
          <p:nvPr/>
        </p:nvPicPr>
        <p:blipFill>
          <a:blip r:embed="rId1"/>
          <a:stretch/>
        </p:blipFill>
        <p:spPr>
          <a:xfrm>
            <a:off x="4572000" y="3789360"/>
            <a:ext cx="43704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6:45:27Z</dcterms:created>
  <dc:creator>User</dc:creator>
  <dc:description/>
  <dc:language>en-US</dc:language>
  <cp:lastModifiedBy>Lenovo</cp:lastModifiedBy>
  <dcterms:modified xsi:type="dcterms:W3CDTF">2018-02-28T17:17:07Z</dcterms:modified>
  <cp:revision>9</cp:revision>
  <dc:subject/>
  <dc:title>Слайд 1</dc:title>
</cp:coreProperties>
</file>