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8.jpeg" ContentType="image/jpeg"/>
  <Override PartName="/ppt/media/image28.png" ContentType="image/png"/>
  <Override PartName="/ppt/media/image7.jpeg" ContentType="image/jpeg"/>
  <Override PartName="/ppt/media/image23.png" ContentType="image/png"/>
  <Override PartName="/ppt/media/image13.jpeg" ContentType="image/jpeg"/>
  <Override PartName="/ppt/media/image26.jpeg" ContentType="image/jpeg"/>
  <Override PartName="/ppt/media/image5.jpeg" ContentType="image/jpeg"/>
  <Override PartName="/ppt/media/image27.jpeg" ContentType="image/jpeg"/>
  <Override PartName="/ppt/media/image6.jpeg" ContentType="image/jpeg"/>
  <Override PartName="/ppt/media/image11.jpeg" ContentType="image/jpeg"/>
  <Override PartName="/ppt/media/image9.jpeg" ContentType="image/jpeg"/>
  <Override PartName="/ppt/media/image10.gif" ContentType="image/gif"/>
  <Override PartName="/ppt/media/image30.jpeg" ContentType="image/jpeg"/>
  <Override PartName="/ppt/media/image3.jpeg" ContentType="image/jpeg"/>
  <Override PartName="/ppt/media/image24.jpeg" ContentType="image/jpeg"/>
  <Override PartName="/ppt/media/image12.jpeg" ContentType="image/jpeg"/>
  <Override PartName="/ppt/media/image4.png" ContentType="image/png"/>
  <Override PartName="/ppt/media/image2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image25.jpeg" ContentType="image/jpeg"/>
  <Override PartName="/ppt/media/image29.png" ContentType="image/png"/>
  <Override PartName="/ppt/media/image2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E76A4-A8EE-486A-8BFD-E5B6B7DFA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EC9E3-DDC0-4860-A655-A65063905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BE3DA-10CE-46F1-935C-52DFACEE5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E62F1-9038-44EE-B7EE-5A5FE26EE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958E9-A238-4BA3-85D2-398599F55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5EDF8-3D16-4D01-A278-6555AA35C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4C9E2-3826-4D37-837E-7239CA1EE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5A992-928F-4614-ADBC-2B7824784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25CC8-BEE6-4B13-8F08-E17AE43C3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D2AAE-F64D-46FB-B51A-3584DE269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86B74-88E2-448E-959E-D64B5670A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28349-9E95-466F-9546-A8796E5D0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b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5F048-7AE7-4EED-8888-0CBD69951D5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4000" y="3428640"/>
            <a:ext cx="8516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a800"/>
                </a:solidFill>
                <a:latin typeface="Comic Sans MS"/>
              </a:rPr>
              <a:t>1 марта – Всемирный день коше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901080" y="4005360"/>
            <a:ext cx="3167280" cy="21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ru-RU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WordArt 4"/>
          <p:cNvSpPr txBox="1"/>
          <p:nvPr/>
        </p:nvSpPr>
        <p:spPr>
          <a:xfrm>
            <a:off x="684360" y="476280"/>
            <a:ext cx="7920000" cy="165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Такие  разные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4" name="WordArt 5"/>
          <p:cNvSpPr txBox="1"/>
          <p:nvPr/>
        </p:nvSpPr>
        <p:spPr>
          <a:xfrm>
            <a:off x="2627280" y="2421000"/>
            <a:ext cx="3816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ошк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45" name="Picture 6" descr="km_neko_286"/>
          <p:cNvPicPr/>
          <p:nvPr/>
        </p:nvPicPr>
        <p:blipFill>
          <a:blip r:embed="rId1"/>
          <a:stretch/>
        </p:blipFill>
        <p:spPr>
          <a:xfrm>
            <a:off x="684360" y="4508640"/>
            <a:ext cx="3047760" cy="2133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179280" y="549360"/>
            <a:ext cx="8785440" cy="57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ошки с самого раннего возраста очень тонк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азличают особенности поведения человека. Именн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т этого зависит формирование их характер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лохое обращение с кошками приводит к тому, чт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ни становятся нервозными, пугливыми ил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лишком агрессивным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покойный и приветливы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характер хозяина переда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ется животному. У коше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азвита защитная реакц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ошка отлично понимает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что напавший на ее хозя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человек – враг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animals_33"/>
          <p:cNvPicPr/>
          <p:nvPr/>
        </p:nvPicPr>
        <p:blipFill>
          <a:blip r:embed="rId1"/>
          <a:stretch/>
        </p:blipFill>
        <p:spPr>
          <a:xfrm>
            <a:off x="4932360" y="2924280"/>
            <a:ext cx="395604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250920" y="1125360"/>
            <a:ext cx="864216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ежде всего необходимо определить, кошку какой поро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ы хотите завести. При выборе надо учитывать не тольк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нешний вид, но и присущие каждой породе особеннос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ведения. Не менее важно решить, кого вы предпочтете -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ошку или ко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акую бы кошку вы не выбрали, она должна подрас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астолько, чтобы обходиться без матери. Если котя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азлучить с матерью, они не смогут получить то, от чег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ожет зависеть их жизнь (например, драка, охота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WordArt 4"/>
          <p:cNvSpPr txBox="1"/>
          <p:nvPr/>
        </p:nvSpPr>
        <p:spPr>
          <a:xfrm>
            <a:off x="539640" y="333360"/>
            <a:ext cx="79930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Impact"/>
              </a:rPr>
              <a:t>Кошка  в  дом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Impact"/>
              <a:ea typeface="Impact"/>
            </a:endParaRPr>
          </a:p>
        </p:txBody>
      </p:sp>
      <p:pic>
        <p:nvPicPr>
          <p:cNvPr id="76" name="Picture 5" descr="1983740_fatanimals223"/>
          <p:cNvPicPr/>
          <p:nvPr/>
        </p:nvPicPr>
        <p:blipFill>
          <a:blip r:embed="rId1"/>
          <a:stretch/>
        </p:blipFill>
        <p:spPr>
          <a:xfrm>
            <a:off x="3059280" y="4581360"/>
            <a:ext cx="2592360" cy="19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178920" y="333360"/>
            <a:ext cx="871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ошки – едва ли не самые заботливые матери в мире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животных, у них наиболее сильно развит материнск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нстинкт.  С каждым днем котенок все больше проявляе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нтерес к окружающему миру, однако несколько первы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едель мать остается для малыша главным в его жизн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уществом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km_neko_281"/>
          <p:cNvPicPr/>
          <p:nvPr/>
        </p:nvPicPr>
        <p:blipFill>
          <a:blip r:embed="rId1"/>
          <a:stretch/>
        </p:blipFill>
        <p:spPr>
          <a:xfrm>
            <a:off x="2050920" y="2565360"/>
            <a:ext cx="576108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179280" y="1125000"/>
            <a:ext cx="885672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ошку можно держать в помещении и не выпускать 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улицу, но надо обязательно помнить о том, что это животно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любит простор, движение. Сейчас держат кошек в клетках, 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 в этом случае животное надо выпускать из клетки и дава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вободно двигаться по квартире. Если кошку содержат не 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летке, ей надо отвести в квартире специальное место дл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тдых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(небольшое возвышение или в тени). Кошка долж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чувствовать себя удобно и комфорт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WordArt 4"/>
          <p:cNvSpPr txBox="1"/>
          <p:nvPr/>
        </p:nvSpPr>
        <p:spPr>
          <a:xfrm>
            <a:off x="395280" y="189000"/>
            <a:ext cx="83534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место кошки в доме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81" name="Picture 5" descr="CAT_0177"/>
          <p:cNvPicPr/>
          <p:nvPr/>
        </p:nvPicPr>
        <p:blipFill>
          <a:blip r:embed="rId1"/>
          <a:stretch/>
        </p:blipFill>
        <p:spPr>
          <a:xfrm>
            <a:off x="5940360" y="4437000"/>
            <a:ext cx="2911680" cy="2184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82" name="Picture 8" descr="km_neko_285"/>
          <p:cNvPicPr/>
          <p:nvPr/>
        </p:nvPicPr>
        <p:blipFill>
          <a:blip r:embed="rId2"/>
          <a:stretch/>
        </p:blipFill>
        <p:spPr>
          <a:xfrm>
            <a:off x="1979640" y="4648320"/>
            <a:ext cx="2952720" cy="20667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107640" y="1125000"/>
            <a:ext cx="878508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дним из важнейших условий содержания кошек являет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х правильное и полноценное питание. Особое внима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адо уделять кошкам, ожидающим котят и кормящи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авредить животному может не только недостаток, но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злишек пищи, ее неправильный соста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 естественных условиях кошка сама себе находит добыч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менно такой естественной добычи не хватает для правиль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ого формирования и нормальной жизнедеятельности до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ашним кошкам. При содержании в комнате функцию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«добытчика» берет на себя хозяин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WordArt 4"/>
          <p:cNvSpPr txBox="1"/>
          <p:nvPr/>
        </p:nvSpPr>
        <p:spPr>
          <a:xfrm>
            <a:off x="250920" y="189000"/>
            <a:ext cx="84247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Top">
              <a:avLst>
                <a:gd name="adj" fmla="val 4675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итание  кошек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85" name="Picture 5" descr="post-3-12156882047604"/>
          <p:cNvPicPr/>
          <p:nvPr/>
        </p:nvPicPr>
        <p:blipFill>
          <a:blip r:embed="rId1"/>
          <a:stretch/>
        </p:blipFill>
        <p:spPr>
          <a:xfrm>
            <a:off x="5940360" y="4653000"/>
            <a:ext cx="2619360" cy="19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250560" y="260280"/>
            <a:ext cx="87138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ища для животных – источник физической энерги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мена веществ в организме. Благодаря ей форми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уется скелет, происходит смена шерстяного покров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ля беременных кошек это основа питания плода, дл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рмящих – источник образования моло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ph02757u"/>
          <p:cNvPicPr/>
          <p:nvPr/>
        </p:nvPicPr>
        <p:blipFill>
          <a:blip r:embed="rId1"/>
          <a:stretch/>
        </p:blipFill>
        <p:spPr>
          <a:xfrm>
            <a:off x="468360" y="2349360"/>
            <a:ext cx="2519280" cy="22161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6" descr="S6003367"/>
          <p:cNvPicPr/>
          <p:nvPr/>
        </p:nvPicPr>
        <p:blipFill>
          <a:blip r:embed="rId2"/>
          <a:stretch/>
        </p:blipFill>
        <p:spPr>
          <a:xfrm>
            <a:off x="2340000" y="4724280"/>
            <a:ext cx="2592360" cy="19447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7" descr="молоко"/>
          <p:cNvPicPr/>
          <p:nvPr/>
        </p:nvPicPr>
        <p:blipFill>
          <a:blip r:embed="rId3"/>
          <a:stretch/>
        </p:blipFill>
        <p:spPr>
          <a:xfrm>
            <a:off x="5292720" y="2421000"/>
            <a:ext cx="2755800" cy="20574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8" descr="хлеб"/>
          <p:cNvPicPr/>
          <p:nvPr/>
        </p:nvPicPr>
        <p:blipFill>
          <a:blip r:embed="rId4"/>
          <a:stretch/>
        </p:blipFill>
        <p:spPr>
          <a:xfrm>
            <a:off x="6732720" y="4797360"/>
            <a:ext cx="1593720" cy="17733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9" descr="мясо"/>
          <p:cNvPicPr/>
          <p:nvPr/>
        </p:nvPicPr>
        <p:blipFill>
          <a:blip r:embed="rId5"/>
          <a:stretch/>
        </p:blipFill>
        <p:spPr>
          <a:xfrm>
            <a:off x="3348000" y="2637000"/>
            <a:ext cx="1617840" cy="18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8dc6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В египетской религии важная роль отводилась кошке, которая называлась "мяу", звукоподражательным словом, перешедшим во все языки; от него же происходит глагол "мяукать".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8dc6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мире существует 3 породы голых кошек-сфинксов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WordArt 4"/>
          <p:cNvSpPr txBox="1"/>
          <p:nvPr/>
        </p:nvSpPr>
        <p:spPr>
          <a:xfrm>
            <a:off x="611280" y="404640"/>
            <a:ext cx="79930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Знаете ли вы, что...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94" name="Picture 5" descr="28"/>
          <p:cNvPicPr/>
          <p:nvPr/>
        </p:nvPicPr>
        <p:blipFill>
          <a:blip r:embed="rId1"/>
          <a:stretch/>
        </p:blipFill>
        <p:spPr>
          <a:xfrm>
            <a:off x="539640" y="3500280"/>
            <a:ext cx="2065320" cy="25210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" descr="канадский сфинкс"/>
          <p:cNvPicPr/>
          <p:nvPr/>
        </p:nvPicPr>
        <p:blipFill>
          <a:blip r:embed="rId2"/>
          <a:stretch/>
        </p:blipFill>
        <p:spPr>
          <a:xfrm>
            <a:off x="3780000" y="3357720"/>
            <a:ext cx="1392120" cy="27572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7" descr="донской сфинкс"/>
          <p:cNvPicPr/>
          <p:nvPr/>
        </p:nvPicPr>
        <p:blipFill>
          <a:blip r:embed="rId3"/>
          <a:stretch/>
        </p:blipFill>
        <p:spPr>
          <a:xfrm>
            <a:off x="6588000" y="3284640"/>
            <a:ext cx="1621080" cy="257796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9"/>
          <p:cNvSpPr/>
          <p:nvPr/>
        </p:nvSpPr>
        <p:spPr>
          <a:xfrm>
            <a:off x="255240" y="602136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тербургский сфинкс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или петерболд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10"/>
          <p:cNvSpPr/>
          <p:nvPr/>
        </p:nvSpPr>
        <p:spPr>
          <a:xfrm>
            <a:off x="3351240" y="6237360"/>
            <a:ext cx="232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надский сфинкс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11"/>
          <p:cNvSpPr/>
          <p:nvPr/>
        </p:nvSpPr>
        <p:spPr>
          <a:xfrm>
            <a:off x="6158520" y="5950080"/>
            <a:ext cx="253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нской сфинк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или донской лысак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5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" dur="80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" dur="80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" dur="80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4860"/>
                            </p:stCondLst>
                            <p:childTnLst>
                              <p:par>
                                <p:cTn id="5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" dur="8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" dur="8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" dur="8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6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6060"/>
                            </p:stCondLst>
                            <p:childTnLst>
                              <p:par>
                                <p:cTn id="7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287280" y="1413000"/>
            <a:ext cx="885672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шка является одним из самых распространенных домашни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животных. Человек приручил кошку гораздо позже, чем собак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разные времена к кошке относились по-разному.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WordArt 4"/>
          <p:cNvSpPr txBox="1"/>
          <p:nvPr/>
        </p:nvSpPr>
        <p:spPr>
          <a:xfrm>
            <a:off x="826920" y="260280"/>
            <a:ext cx="727416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Comic Sans MS"/>
              </a:rPr>
              <a:t>Немного истори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48" name="Picture 5" descr="киска"/>
          <p:cNvPicPr/>
          <p:nvPr/>
        </p:nvPicPr>
        <p:blipFill>
          <a:blip r:embed="rId1"/>
          <a:stretch/>
        </p:blipFill>
        <p:spPr>
          <a:xfrm>
            <a:off x="2771640" y="2852640"/>
            <a:ext cx="3259440" cy="36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85672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 Древнем Египте ее почитали как священное животно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уществовала даже кошачья богиня Басте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о всех частей царства приносили в дар богин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имволы преданности в форме маленьки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ошачьих фигурок из керамики и бронзы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egipt"/>
          <p:cNvPicPr/>
          <p:nvPr/>
        </p:nvPicPr>
        <p:blipFill>
          <a:blip r:embed="rId1"/>
          <a:stretch/>
        </p:blipFill>
        <p:spPr>
          <a:xfrm>
            <a:off x="4500720" y="3789360"/>
            <a:ext cx="2119320" cy="286056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pic>
        <p:nvPicPr>
          <p:cNvPr id="51" name="Picture 5" descr="Бастет 1"/>
          <p:cNvPicPr/>
          <p:nvPr/>
        </p:nvPicPr>
        <p:blipFill>
          <a:blip r:embed="rId2"/>
          <a:stretch/>
        </p:blipFill>
        <p:spPr>
          <a:xfrm>
            <a:off x="6804000" y="1413000"/>
            <a:ext cx="2149560" cy="352728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pic>
        <p:nvPicPr>
          <p:cNvPr id="52" name="Picture 6" descr="бастет"/>
          <p:cNvPicPr/>
          <p:nvPr/>
        </p:nvPicPr>
        <p:blipFill>
          <a:blip r:embed="rId3"/>
          <a:stretch/>
        </p:blipFill>
        <p:spPr>
          <a:xfrm>
            <a:off x="395280" y="2205000"/>
            <a:ext cx="1401840" cy="368784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pic>
        <p:nvPicPr>
          <p:cNvPr id="53" name="Picture 7" descr="egypt_4"/>
          <p:cNvPicPr/>
          <p:nvPr/>
        </p:nvPicPr>
        <p:blipFill>
          <a:blip r:embed="rId4"/>
          <a:stretch/>
        </p:blipFill>
        <p:spPr>
          <a:xfrm>
            <a:off x="2411280" y="2708280"/>
            <a:ext cx="1760760" cy="244800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7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178920" y="189000"/>
            <a:ext cx="8713800" cy="59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 Древнем Египте  хоронили бальзамированных умерши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ошек, помещая в украшенные саркофаг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а убийство кошки виновному грозила смер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3300"/>
                </a:solidFill>
                <a:latin typeface="Georgi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0041"/>
          <p:cNvPicPr/>
          <p:nvPr/>
        </p:nvPicPr>
        <p:blipFill>
          <a:blip r:embed="rId1"/>
          <a:stretch/>
        </p:blipFill>
        <p:spPr>
          <a:xfrm>
            <a:off x="539640" y="2644920"/>
            <a:ext cx="4608720" cy="352080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pic>
        <p:nvPicPr>
          <p:cNvPr id="56" name="Picture 5" descr="303"/>
          <p:cNvPicPr/>
          <p:nvPr/>
        </p:nvPicPr>
        <p:blipFill>
          <a:blip r:embed="rId2"/>
          <a:stretch/>
        </p:blipFill>
        <p:spPr>
          <a:xfrm>
            <a:off x="5435640" y="1989000"/>
            <a:ext cx="3233520" cy="430560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178920" y="260280"/>
            <a:ext cx="87138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 во времена средневековья в некоторых западноевропей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ких странах кошку считали прислужницей дьявол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ладельцев черных кошек обвиняли в связях с нечист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ил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km_neko_122"/>
          <p:cNvPicPr/>
          <p:nvPr/>
        </p:nvPicPr>
        <p:blipFill>
          <a:blip r:embed="rId1"/>
          <a:stretch/>
        </p:blipFill>
        <p:spPr>
          <a:xfrm>
            <a:off x="395280" y="1844640"/>
            <a:ext cx="5905440" cy="4848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" descr="06"/>
          <p:cNvPicPr/>
          <p:nvPr/>
        </p:nvPicPr>
        <p:blipFill>
          <a:blip r:embed="rId2"/>
          <a:stretch/>
        </p:blipFill>
        <p:spPr>
          <a:xfrm>
            <a:off x="6516720" y="3429000"/>
            <a:ext cx="238104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179280" y="333000"/>
            <a:ext cx="896472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егодня редко можно встретить человека, испытывающег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трицательные эмоции по отношению  к  кошке. По популяр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ости кошка опережает собаку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Любая квартира, в котор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селилась кошка, становится более уютн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CAT_0189"/>
          <p:cNvPicPr/>
          <p:nvPr/>
        </p:nvPicPr>
        <p:blipFill>
          <a:blip r:embed="rId1"/>
          <a:stretch/>
        </p:blipFill>
        <p:spPr>
          <a:xfrm>
            <a:off x="1692360" y="2205000"/>
            <a:ext cx="5832360" cy="43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178920" y="1197000"/>
            <a:ext cx="8713800" cy="481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шка домашняя относится к отряду хищных млекопитающих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емейству кошачьих  и роду кошек. Это семейство объединяе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ак давно вымерших, так и ныне существующих представите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лей. Известно 37   видов кошачьих. Древним исходным и глав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ым предком всех пород и разновидностей кошки считается ди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ая североафриканская буланая или ливийская.</a:t>
            </a:r>
            <a:r>
              <a:rPr b="0" lang="ru-RU" sz="2400" spc="-1" strike="noStrike">
                <a:solidFill>
                  <a:srgbClr val="eee678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диком состоянии эти кошки сохранились и до наших дне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ни распространены по всей территории Африки и в обширн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оне от Средиземноморья до Китая. По внешнему виду э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шки похожи на сильно исхудавших домашних кошек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иручаются легк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ee678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WordArt 4"/>
          <p:cNvSpPr txBox="1"/>
          <p:nvPr/>
        </p:nvSpPr>
        <p:spPr>
          <a:xfrm>
            <a:off x="324000" y="189000"/>
            <a:ext cx="835344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роисхождение домашней кошки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64" name="Picture 5" descr="km_neko_208"/>
          <p:cNvPicPr/>
          <p:nvPr/>
        </p:nvPicPr>
        <p:blipFill>
          <a:blip r:embed="rId1"/>
          <a:stretch/>
        </p:blipFill>
        <p:spPr>
          <a:xfrm>
            <a:off x="4643280" y="4653000"/>
            <a:ext cx="2749680" cy="206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250920" y="333000"/>
            <a:ext cx="864216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ошка  из  обычного,  полезного  для  человека  животного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тановится одним из его ближайших друзей. Но при это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ошки сохраняют в доме своего владельца полную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езависимость и самостоятельность. При всем дружелюб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ом отношении к человеку кошка никогда не станет ег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лугой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km_neko_291"/>
          <p:cNvPicPr/>
          <p:nvPr/>
        </p:nvPicPr>
        <p:blipFill>
          <a:blip r:embed="rId1"/>
          <a:stretch/>
        </p:blipFill>
        <p:spPr>
          <a:xfrm>
            <a:off x="6588000" y="2349360"/>
            <a:ext cx="2297160" cy="32814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" descr="km_neko_309"/>
          <p:cNvPicPr/>
          <p:nvPr/>
        </p:nvPicPr>
        <p:blipFill>
          <a:blip r:embed="rId2"/>
          <a:stretch/>
        </p:blipFill>
        <p:spPr>
          <a:xfrm>
            <a:off x="250920" y="2708280"/>
            <a:ext cx="2654280" cy="21240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6" descr="km_neko_303"/>
          <p:cNvPicPr/>
          <p:nvPr/>
        </p:nvPicPr>
        <p:blipFill>
          <a:blip r:embed="rId3"/>
          <a:stretch/>
        </p:blipFill>
        <p:spPr>
          <a:xfrm>
            <a:off x="3059280" y="3933720"/>
            <a:ext cx="3301920" cy="26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179280" y="1600200"/>
            <a:ext cx="878544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ошка – животное исключительно свободолюбивое, отлича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ется подвижностью, умеет ловить мелких животны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Человек обеспечивает  кошку только пристанищем и пропи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анием. Кошка почти не поддается дрессировке, хотя можн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ивить ей определенные навык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WordArt 4"/>
          <p:cNvSpPr txBox="1"/>
          <p:nvPr/>
        </p:nvSpPr>
        <p:spPr>
          <a:xfrm rot="649800">
            <a:off x="178920" y="-315720"/>
            <a:ext cx="4211640" cy="24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"/>
              </a:rPr>
              <a:t>Особенности 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"/>
              </a:rPr>
              <a:t>характер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Arial"/>
              <a:ea typeface="Arial"/>
            </a:endParaRPr>
          </a:p>
        </p:txBody>
      </p:sp>
      <p:pic>
        <p:nvPicPr>
          <p:cNvPr id="71" name="Picture 6" descr="1741555_fatanimals201"/>
          <p:cNvPicPr/>
          <p:nvPr/>
        </p:nvPicPr>
        <p:blipFill>
          <a:blip r:embed="rId1"/>
          <a:stretch/>
        </p:blipFill>
        <p:spPr>
          <a:xfrm>
            <a:off x="4572000" y="3789360"/>
            <a:ext cx="4370400" cy="29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1T16:45:27Z</dcterms:created>
  <dc:creator>User</dc:creator>
  <dc:description/>
  <dc:language>en-US</dc:language>
  <cp:lastModifiedBy>Lenovo</cp:lastModifiedBy>
  <dcterms:modified xsi:type="dcterms:W3CDTF">2018-02-28T17:17:07Z</dcterms:modified>
  <cp:revision>9</cp:revision>
  <dc:subject/>
  <dc:title>Слайд 1</dc:title>
</cp:coreProperties>
</file>