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80C1-D251-4359-A51B-AF2CC653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DF41-1D49-417F-AA2D-2940C992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68E8-F518-4153-80A2-CA08B9A7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CBCD-933F-4760-835D-C48D08ED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63E-11AE-4C23-8537-76E509C0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B2ED-8EBE-4E20-A3AE-6B3A2F0F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6339-5DA4-442D-942D-C6D786F3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1A8A-AF42-45B7-8F85-BED97DBB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8159-C559-4CD4-9A5C-56812203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3299-1795-4D51-BA7F-61EF452E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E7A5-01DF-4DB8-A3D9-29F43890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7B5-682B-4B7C-B661-5EB06492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E735-FBE7-4ED5-8FA3-E77559CE4C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ozin-oosh@yandex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274760" y="2438280"/>
            <a:ext cx="669780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АТЕМАТИКА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2932200" y="3321000"/>
            <a:ext cx="3168720" cy="3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048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 КЛАСС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43" name="Прямоугольник 1" descr=""/>
          <p:cNvPicPr/>
          <p:nvPr/>
        </p:nvPicPr>
        <p:blipFill>
          <a:blip r:embed="rId1"/>
          <a:stretch/>
        </p:blipFill>
        <p:spPr>
          <a:xfrm>
            <a:off x="4559400" y="4029120"/>
            <a:ext cx="4413240" cy="10126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3"/>
          <p:cNvSpPr/>
          <p:nvPr/>
        </p:nvSpPr>
        <p:spPr>
          <a:xfrm>
            <a:off x="2286000" y="243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разовательное учреждение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ная общеобразовательная школа р.п. Озинк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инского района Саратовской области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.8-ое Марта, д.9, р.п. Озинки, Саратовская область,4136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</a:t>
            </a:r>
            <a:r>
              <a:rPr b="0" lang="de-DE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: (884576) 4-15-78, e-mail: </a:t>
            </a:r>
            <a:r>
              <a:rPr b="0" lang="de-DE" sz="9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ozin-oosh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ПО 51418924, ОГРН 1026400706650, ИНН/КПП 6423004423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«</a:t>
            </a:r>
            <a:r>
              <a:rPr b="1" lang="ru-RU" sz="4400" spc="-1" strike="noStrike" u="sng">
                <a:solidFill>
                  <a:srgbClr val="000099"/>
                </a:solidFill>
                <a:uFillTx/>
                <a:latin typeface="Times New Roman"/>
              </a:rPr>
              <a:t>Сложение и вычитание чисел в пределах 1000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(закрепление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207280" cy="27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 лишнее число в каждой группе:</a:t>
            </a: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6   53   458   27   99   31   52   48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00    100    542    700    900    200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48    460    752    340    76     953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54    246    927    400    299   76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0920" y="4292280"/>
            <a:ext cx="842472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оложи числа 3-й строки в порядке возрастан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оложи числа 4-й строки в порядке убы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авн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78…374                           487…700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05…550                           673…637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ределите, кто верно нашел значение суммы и значение разности, Маша    или Миш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5582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Маша:            Миш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346                        +346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99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45                        13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_889                        _889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67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22                          21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то допустил ошибки и в чем их причин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620280"/>
            <a:ext cx="835344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ую цифру можно поставить вместо *, чтобы получилось верное неравенств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*4  &lt;  514              715  &gt;  7*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06   &gt; *06              628  &lt;  62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ставь пропущенные цифры и зна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*37                 86*                73*               62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4*7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4*3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2*6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**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8*                *97               *75                26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числи примеры столбиком и расшифруй сло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836280"/>
            <a:ext cx="77724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13 + 18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36 – 2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81 + 11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9 + 17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99 – 2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03 – 28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71 + 68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09560" y="4646520"/>
            <a:ext cx="77122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2"/>
          <p:cNvSpPr txBox="1"/>
          <p:nvPr/>
        </p:nvSpPr>
        <p:spPr>
          <a:xfrm rot="21271200">
            <a:off x="899640" y="1484280"/>
            <a:ext cx="7272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030000"/>
                </a:gradFill>
                <a:latin typeface="Impact"/>
              </a:rPr>
              <a:t>МОЛОДЦЫ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03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льнара</cp:lastModifiedBy>
  <dcterms:modified xsi:type="dcterms:W3CDTF">2018-03-23T21:45:44Z</dcterms:modified>
  <cp:revision>6</cp:revision>
  <dc:subject/>
  <dc:title>PowerPoint Presentation</dc:title>
</cp:coreProperties>
</file>