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344-F337-4C51-AF54-3BF1B816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FD8-0D27-4778-863D-1024E3A0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C6F-4974-4339-B007-771B3758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D86-05F5-492C-AC14-7697B496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08F-C6DC-4187-BC89-FF0647F5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D18-05CA-4543-8921-461A5B1B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2D0-ADC8-4CC8-8E52-72C14BA3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042-BDF3-443C-85A9-6817B80E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B91-6BBD-416B-884C-3C4CF7CB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337-3EA3-4094-8098-05243300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9EC-200C-40D0-B940-EABD0760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9AF-F813-4DA8-B11F-AE93AA21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18A0-1EF5-4386-BE50-2D03A3CD24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ozin-oosh@yandex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74760" y="2438280"/>
            <a:ext cx="669780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К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932200" y="3321000"/>
            <a:ext cx="3168720" cy="3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48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КЛАС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4559400" y="4029120"/>
            <a:ext cx="4413240" cy="1012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2286000" y="24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ная общеобразовательная школа р.п. Озинк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инского района Саратовской области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8-ое Марта, д.9, р.п. Озинки, Саратовская область,4136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: (884576) 4-15-78, e-mail: </a:t>
            </a:r>
            <a:r>
              <a:rPr b="0" lang="de-DE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ozin-oosh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ПО 51418924, ОГРН 1026400706650, ИНН/КПП 6423004423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«</a:t>
            </a:r>
            <a:r>
              <a:rPr b="1" lang="ru-RU" sz="4400" spc="-1" strike="noStrike" u="sng">
                <a:solidFill>
                  <a:srgbClr val="000099"/>
                </a:solidFill>
                <a:uFillTx/>
                <a:latin typeface="Times New Roman"/>
              </a:rPr>
              <a:t>Сложение и вычитание чисел в пределах 1000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(закрепл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0728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 лишнее число в каждой группе: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6   53   458   27   99   31   52   48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0    100    542    700    900    200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48    460    752    340    76     95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54    246    927    400    299   76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4292280"/>
            <a:ext cx="8424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и числа 3-й строки в порядке возраста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и числа 4-й строки в порядке убы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ав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78…374                           487…700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5…550                           673…637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ите, кто верно нашел значение суммы и значение разности, Маша    или Миш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582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Маша:            Миш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46                        +346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99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45                        13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889                        _889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67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22                          21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допустил ошибки и в чем их причи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3534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 цифру можно поставить вместо *, чтобы получилось верное неравенст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*4  &lt;  514              715  &gt;  7*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6   &gt; *06              628  &lt;  62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тавь пропущенные цифры и зна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37                 86*                73*               62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*7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*3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2*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**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8*                *97               *75                26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числи примеры столбиком и расшифруй сл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836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13 + 18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36 – 2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1 + 11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9 + 17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99 – 2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3 – 2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71 + 6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09560" y="4646520"/>
            <a:ext cx="77122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 rot="21271200">
            <a:off x="899640" y="1484280"/>
            <a:ext cx="727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30000"/>
                </a:gradFill>
                <a:latin typeface="Impact"/>
              </a:rPr>
              <a:t>МОЛОДЦ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3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ьнара</cp:lastModifiedBy>
  <dcterms:modified xsi:type="dcterms:W3CDTF">2018-03-23T21:45:44Z</dcterms:modified>
  <cp:revision>6</cp:revision>
  <dc:subject/>
  <dc:title>PowerPoint Presentation</dc:title>
</cp:coreProperties>
</file>