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3D7-D266-47AF-88AB-10D4F5D9E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FE74-DE4D-4A4D-B6C6-FE1D9BD384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219-CCF1-46B8-95EB-60B137F0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C64-3781-45CC-9DC0-92139BC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F03-DC13-4358-8D57-69A9E406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6AF-A36A-49AE-A3FA-5D6B4F11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846-32AB-42FF-92A9-D302170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6F8-2F40-436B-BCDE-ED317700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C55-1A56-4015-85B1-EB74F50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D36-EB5E-4D13-B1FA-F24CBCE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043-90D9-413E-A739-88B05BF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1A9-6292-4003-80CD-7A75892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B78-5210-4A69-8DB9-F8FAFDA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7AB-81D2-4301-8A93-84E36D8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DEBC-E51D-4A31-881D-83FD99684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27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042920" y="198900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рхангельск – город анге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716360" y="39337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онина Т.В. , музыкальный руководитель,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кв. катего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арпова И.В. 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521360" y="407160"/>
            <a:ext cx="659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Муниципального образования «Город Архангельс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«Детский сад общеразвивающего вида № 113 «Ветеро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4140360" y="573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атушка россия.mp3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Архангельск 2.jpg"/>
          <p:cNvPicPr/>
          <p:nvPr/>
        </p:nvPicPr>
        <p:blipFill>
          <a:blip r:embed="rId2"/>
          <a:stretch/>
        </p:blipFill>
        <p:spPr>
          <a:xfrm>
            <a:off x="0" y="115920"/>
            <a:ext cx="9109080" cy="6049800"/>
          </a:xfrm>
          <a:prstGeom prst="rect">
            <a:avLst/>
          </a:prstGeom>
          <a:ln w="0">
            <a:noFill/>
          </a:ln>
        </p:spPr>
      </p:pic>
      <p:pic>
        <p:nvPicPr>
          <p:cNvPr id="86" name="матушка россия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41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Архангельск 2.jpg"/>
          <p:cNvPicPr/>
          <p:nvPr/>
        </p:nvPicPr>
        <p:blipFill>
          <a:blip r:embed="rId1"/>
          <a:stretch/>
        </p:blipFill>
        <p:spPr>
          <a:xfrm>
            <a:off x="125280" y="476280"/>
            <a:ext cx="889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и по запросу памятник архангелу михаилу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166840" cy="275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3419640" y="2133720"/>
            <a:ext cx="253656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Картинки по запросу герб с архангельм михаилом"/>
          <p:cNvPicPr/>
          <p:nvPr/>
        </p:nvPicPr>
        <p:blipFill>
          <a:blip r:embed="rId4"/>
          <a:srcRect l="32310" t="0" r="34094" b="0"/>
          <a:stretch/>
        </p:blipFill>
        <p:spPr>
          <a:xfrm>
            <a:off x="684360" y="907920"/>
            <a:ext cx="2636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охожее изображение"/>
          <p:cNvPicPr/>
          <p:nvPr/>
        </p:nvPicPr>
        <p:blipFill>
          <a:blip r:embed="rId2"/>
          <a:srcRect l="668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3294000" cy="3503520"/>
          </a:xfrm>
          <a:prstGeom prst="rect">
            <a:avLst/>
          </a:prstGeom>
          <a:ln w="0">
            <a:noFill/>
          </a:ln>
        </p:spPr>
      </p:pic>
      <p:pic>
        <p:nvPicPr>
          <p:cNvPr id="69" name="kolokol-nyy-zvon-prazdnichnyy-zvon.mp3" descr=""/>
          <p:cNvPicPr/>
          <p:nvPr/>
        </p:nvPicPr>
        <p:blipFill>
          <a:blip r:embed="rId4"/>
          <a:stretch/>
        </p:blipFill>
        <p:spPr>
          <a:xfrm>
            <a:off x="795672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и по запросу торговые ряды  гостинные дворы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и по запросу северные сувениры архангельск"/>
          <p:cNvPicPr/>
          <p:nvPr/>
        </p:nvPicPr>
        <p:blipFill>
          <a:blip r:embed="rId2"/>
          <a:stretch/>
        </p:blipFill>
        <p:spPr>
          <a:xfrm>
            <a:off x="5867280" y="3645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Картинки по запросу щепная птица счастья"/>
          <p:cNvPicPr/>
          <p:nvPr/>
        </p:nvPicPr>
        <p:blipFill>
          <a:blip r:embed="rId3"/>
          <a:stretch/>
        </p:blipFill>
        <p:spPr>
          <a:xfrm>
            <a:off x="1116000" y="549360"/>
            <a:ext cx="3105000" cy="26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Картинки по запросу козуля пряник"/>
          <p:cNvPicPr/>
          <p:nvPr/>
        </p:nvPicPr>
        <p:blipFill>
          <a:blip r:embed="rId4"/>
          <a:stretch/>
        </p:blipFill>
        <p:spPr>
          <a:xfrm>
            <a:off x="4716360" y="836640"/>
            <a:ext cx="3519720" cy="26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Картинки по запросу колокольчик расписной"/>
          <p:cNvPicPr/>
          <p:nvPr/>
        </p:nvPicPr>
        <p:blipFill>
          <a:blip r:embed="rId5"/>
          <a:srcRect l="7460" t="0" r="17941" b="0"/>
          <a:stretch/>
        </p:blipFill>
        <p:spPr>
          <a:xfrm>
            <a:off x="971640" y="3141720"/>
            <a:ext cx="2320920" cy="311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Похожее изображение"/>
          <p:cNvPicPr/>
          <p:nvPr/>
        </p:nvPicPr>
        <p:blipFill>
          <a:blip r:embed="rId6"/>
          <a:stretch/>
        </p:blipFill>
        <p:spPr>
          <a:xfrm>
            <a:off x="3276720" y="3716280"/>
            <a:ext cx="26668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и по запросу памятник архангелу михаилу архангель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17:27:12Z</dcterms:created>
  <dc:creator>Инна Карпова</dc:creator>
  <dc:description/>
  <dc:language>en-US</dc:language>
  <cp:lastModifiedBy>Microsoft</cp:lastModifiedBy>
  <dcterms:modified xsi:type="dcterms:W3CDTF">2018-03-15T17:49:26Z</dcterms:modified>
  <cp:revision>26</cp:revision>
  <dc:subject/>
  <dc:title>Слайд 1</dc:title>
</cp:coreProperties>
</file>