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41B6-2D04-484D-8971-37A9939E9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73C0-4B7A-4018-B303-163A2E52F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0A2-6D58-4009-BABF-FC974107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1BB-D985-499E-9B4E-9F7A4BF6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5F1-6D6B-4540-8FFB-19ACDC57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C48-E28E-40C1-9BCA-311345C9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067-5272-4C3D-B6D7-D5D3F02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45A-08E3-4129-8631-059328F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62A-2C60-4C0E-B4B1-FDB360D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C7A-F15C-413D-8B46-DAC49CD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698-CA09-4B7D-A205-71AD663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E04-F2DB-4A6B-825C-089F71A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722-04D5-495E-BC88-10DCD32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A7E-0AED-49F3-97DE-3E147A8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91BD-0B97-4DF5-B347-560C6BAD8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27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042920" y="198900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рхангельск – город анге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716360" y="39337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онина Т.В. , музыкальный руководитель,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кв. катего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арпова И.В. 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521360" y="407160"/>
            <a:ext cx="659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Муниципального образования «Город Архангельс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«Детский сад общеразвивающего вида № 113 «Ветеро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4140360" y="573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атушка россия.mp3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Архангельск 2.jpg"/>
          <p:cNvPicPr/>
          <p:nvPr/>
        </p:nvPicPr>
        <p:blipFill>
          <a:blip r:embed="rId2"/>
          <a:stretch/>
        </p:blipFill>
        <p:spPr>
          <a:xfrm>
            <a:off x="0" y="115920"/>
            <a:ext cx="9109080" cy="6049800"/>
          </a:xfrm>
          <a:prstGeom prst="rect">
            <a:avLst/>
          </a:prstGeom>
          <a:ln w="0">
            <a:noFill/>
          </a:ln>
        </p:spPr>
      </p:pic>
      <p:pic>
        <p:nvPicPr>
          <p:cNvPr id="86" name="матушка россия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41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Архангельск 2.jpg"/>
          <p:cNvPicPr/>
          <p:nvPr/>
        </p:nvPicPr>
        <p:blipFill>
          <a:blip r:embed="rId1"/>
          <a:stretch/>
        </p:blipFill>
        <p:spPr>
          <a:xfrm>
            <a:off x="125280" y="476280"/>
            <a:ext cx="889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и по запросу памятник архангелу михаилу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166840" cy="275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3419640" y="2133720"/>
            <a:ext cx="253656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Картинки по запросу герб с архангельм михаилом"/>
          <p:cNvPicPr/>
          <p:nvPr/>
        </p:nvPicPr>
        <p:blipFill>
          <a:blip r:embed="rId4"/>
          <a:srcRect l="32310" t="0" r="34094" b="0"/>
          <a:stretch/>
        </p:blipFill>
        <p:spPr>
          <a:xfrm>
            <a:off x="684360" y="907920"/>
            <a:ext cx="2636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охожее изображение"/>
          <p:cNvPicPr/>
          <p:nvPr/>
        </p:nvPicPr>
        <p:blipFill>
          <a:blip r:embed="rId2"/>
          <a:srcRect l="668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3294000" cy="3503520"/>
          </a:xfrm>
          <a:prstGeom prst="rect">
            <a:avLst/>
          </a:prstGeom>
          <a:ln w="0">
            <a:noFill/>
          </a:ln>
        </p:spPr>
      </p:pic>
      <p:pic>
        <p:nvPicPr>
          <p:cNvPr id="69" name="kolokol-nyy-zvon-prazdnichnyy-zvon.mp3" descr=""/>
          <p:cNvPicPr/>
          <p:nvPr/>
        </p:nvPicPr>
        <p:blipFill>
          <a:blip r:embed="rId4"/>
          <a:stretch/>
        </p:blipFill>
        <p:spPr>
          <a:xfrm>
            <a:off x="795672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и по запросу торговые ряды  гостинные дворы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и по запросу северные сувениры архангельск"/>
          <p:cNvPicPr/>
          <p:nvPr/>
        </p:nvPicPr>
        <p:blipFill>
          <a:blip r:embed="rId2"/>
          <a:stretch/>
        </p:blipFill>
        <p:spPr>
          <a:xfrm>
            <a:off x="5867280" y="3645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Картинки по запросу щепная птица счастья"/>
          <p:cNvPicPr/>
          <p:nvPr/>
        </p:nvPicPr>
        <p:blipFill>
          <a:blip r:embed="rId3"/>
          <a:stretch/>
        </p:blipFill>
        <p:spPr>
          <a:xfrm>
            <a:off x="1116000" y="549360"/>
            <a:ext cx="3105000" cy="26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Картинки по запросу козуля пряник"/>
          <p:cNvPicPr/>
          <p:nvPr/>
        </p:nvPicPr>
        <p:blipFill>
          <a:blip r:embed="rId4"/>
          <a:stretch/>
        </p:blipFill>
        <p:spPr>
          <a:xfrm>
            <a:off x="4716360" y="836640"/>
            <a:ext cx="3519720" cy="26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Картинки по запросу колокольчик расписной"/>
          <p:cNvPicPr/>
          <p:nvPr/>
        </p:nvPicPr>
        <p:blipFill>
          <a:blip r:embed="rId5"/>
          <a:srcRect l="7460" t="0" r="17941" b="0"/>
          <a:stretch/>
        </p:blipFill>
        <p:spPr>
          <a:xfrm>
            <a:off x="971640" y="3141720"/>
            <a:ext cx="2320920" cy="311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Похожее изображение"/>
          <p:cNvPicPr/>
          <p:nvPr/>
        </p:nvPicPr>
        <p:blipFill>
          <a:blip r:embed="rId6"/>
          <a:stretch/>
        </p:blipFill>
        <p:spPr>
          <a:xfrm>
            <a:off x="3276720" y="3716280"/>
            <a:ext cx="26668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и по запросу памятник архангелу михаилу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17:27:12Z</dcterms:created>
  <dc:creator>Инна Карпова</dc:creator>
  <dc:description/>
  <dc:language>en-US</dc:language>
  <cp:lastModifiedBy>Microsoft</cp:lastModifiedBy>
  <dcterms:modified xsi:type="dcterms:W3CDTF">2018-03-15T17:49:26Z</dcterms:modified>
  <cp:revision>26</cp:revision>
  <dc:subject/>
  <dc:title>Слайд 1</dc:title>
</cp:coreProperties>
</file>