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83B-1C94-4297-953B-0876776E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BCF-1306-49AE-A28B-3F686F0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006-EB0A-41C9-894E-BDE5E63A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05C-4933-45B0-B6F6-2FD3E906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0E08-CD22-4F70-905B-FD48E6DE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82C-B5E9-4459-954B-AF6F1F4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54F-40F3-43DA-992B-0C246150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E536-D109-4418-BF3B-8E3F721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8D2-7F08-48D2-9D57-53E349C3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18B7-A24C-4121-B4C0-C5E4F18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922-94A9-4E55-B617-1BB0D7C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5DF-C020-4253-8FF4-EC027ABC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C1C-495E-44E8-B1F0-1E5431D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9324-DA9F-421A-A750-576C763B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86A-2EB6-4F4A-9CBA-A907B7E6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172E-6DCA-43BC-8940-F2DB26F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78F8-B185-47F6-A64A-F70B71E5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796-5F89-4ED5-BAB6-7407E3F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D3C-54BB-4BCE-85DA-4AAF774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D9F-CD54-4EA6-8732-F1A77BD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BEA-FCF3-47DC-9EB3-72478F5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A97-BA41-45E1-BCF5-15FA2FE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1E9-37B7-4845-BF03-0E3050A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67A-27BD-4119-BAAA-E05482F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B7D-482F-41AA-99EB-3A9912273B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68FC-E578-4D08-BF9B-3A18C4EBF70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39160" cy="19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6600"/>
            </a:b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ДВА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КОРАБЛЯ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гамедова Наталья Никола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ОУ «Средняя общеобразовательная школа п. Белоярский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Уборка на корабле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82●4 = 728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7●3 = 92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9486 - 9527 = 29959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3564 + 9536 = 33190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2●20 = 264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Уборка на корабле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82●4 = 728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7●3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92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9486 – 9527 = 29959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3564 + 9536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310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2●2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64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изминут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ыбка рыбке говорил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вничками шевелила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"Чтобы быть здоровой, гладкой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делать мы зарядк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п направо, хлоп налево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стройны, как королевы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хвостиком вилять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, два, три, четыре, пя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подскока, три хлопк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овою два кивка"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8" descr="&amp;Kcy;&amp;acy;&amp;rcy;&amp;tcy;&amp;icy;&amp;ncy;&amp;kcy;&amp;icy; &amp;dcy;&amp;ocy;&amp;mcy;&amp;acy;&amp;shcy;&amp;ncy;&amp;icy;&amp;khcy; &amp;rcy;&amp;ycy;&amp;bcy;&amp;ocy;&amp;kcy;"/>
          <p:cNvPicPr/>
          <p:nvPr/>
        </p:nvPicPr>
        <p:blipFill>
          <a:blip r:embed="rId1"/>
          <a:stretch/>
        </p:blipFill>
        <p:spPr>
          <a:xfrm>
            <a:off x="5562720" y="30481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Капитанов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Picture 4" descr="i?id=b025263b1c1d96999d2313bfce908cda-16-144&amp;n=24"/>
          <p:cNvPicPr/>
          <p:nvPr/>
        </p:nvPicPr>
        <p:blipFill>
          <a:blip r:embed="rId1"/>
          <a:stretch/>
        </p:blipFill>
        <p:spPr>
          <a:xfrm>
            <a:off x="1981080" y="1828800"/>
            <a:ext cx="5372280" cy="3581280"/>
          </a:xfrm>
          <a:prstGeom prst="rect">
            <a:avLst/>
          </a:prstGeom>
          <a:ln w="0">
            <a:noFill/>
          </a:ln>
        </p:spPr>
      </p:pic>
      <p:pic>
        <p:nvPicPr>
          <p:cNvPr id="208" name="pesnya-o-kapitane-Kapitan-kapitan-ulybnites_(muz-muz.net).mp3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278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Капитанов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759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4" descr="i?id=b025263b1c1d96999d2313bfce908cda-16-144&amp;n=24"/>
          <p:cNvPicPr/>
          <p:nvPr/>
        </p:nvPicPr>
        <p:blipFill>
          <a:blip r:embed="rId1"/>
          <a:stretch/>
        </p:blipFill>
        <p:spPr>
          <a:xfrm>
            <a:off x="1905120" y="2895480"/>
            <a:ext cx="537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Обед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762120" y="1600200"/>
            <a:ext cx="723888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762120" y="3962520"/>
            <a:ext cx="7619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  «Обед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1066680" y="1600200"/>
            <a:ext cx="656928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1066680" y="3962520"/>
            <a:ext cx="731520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600200" y="16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447920" y="5562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тыр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«Обед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6 + 80 = 96 (Ч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2 + 7 = 89 (Е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 + 30 = 54 (Х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8 + 2 = 50 (О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4 – 50 = 34 (Н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3 – 40 = 33  (Ь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&amp;Kcy;&amp;acy;&amp;kcy;&amp;icy;&amp;iecy; &amp;kcy;&amp;rcy;&amp;yucy;&amp;chcy;&amp;kcy;&amp;icy; &amp;dcy;&amp;lcy;&amp;yacy; &amp;chcy;&amp;iecy;&amp;khcy;&amp;ocy;&amp;ncy;&amp;icy; - &amp;Ucy;&amp;lcy;&amp;softcy;&amp;tcy;&amp;rcy;&amp;acy;&amp;lcy;&amp;acy;&amp;jcy;&amp;tcy; &amp;scy;&amp;pcy;&amp;icy;&amp;ncy;&amp;ncy;&amp;icy;&amp;ncy;&amp;gcy;"/>
          <p:cNvPicPr/>
          <p:nvPr/>
        </p:nvPicPr>
        <p:blipFill>
          <a:blip r:embed="rId1"/>
          <a:stretch/>
        </p:blipFill>
        <p:spPr>
          <a:xfrm>
            <a:off x="3809880" y="2209680"/>
            <a:ext cx="48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 Перетягивание канат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Picture 4" descr="&amp;pcy;&amp;ocy;&amp;dcy;&amp;rcy;&amp;ocy;&amp;scy;&amp;tcy;&amp;kcy;&amp;icy; Images, Stock Pictures, Royalty Free &amp;pcy;&amp;ocy;&amp;dcy;&amp;rcy;&amp;ocy;&amp;scy;&amp;tcy;&amp;kcy;&amp;icy; Photos And Stock Photography"/>
          <p:cNvPicPr/>
          <p:nvPr/>
        </p:nvPicPr>
        <p:blipFill>
          <a:blip r:embed="rId1"/>
          <a:stretch/>
        </p:blipFill>
        <p:spPr>
          <a:xfrm>
            <a:off x="1219320" y="1981080"/>
            <a:ext cx="6492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лодц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7" descr="&amp;Icy;&amp;zcy;&amp;ocy;&amp;bcy;&amp;rcy;&amp;acy;&amp;zhcy;&amp;iecy;&amp;ncy;&amp;icy;&amp;iecy; - &amp;Mcy;&amp;ucy;&amp;ncy;&amp;icy;&amp;tscy;&amp;icy;&amp;pcy;&amp;acy;&amp;lcy;&amp;softcy;&amp;ncy;&amp;ocy;&amp;iecy; &amp;ocy;&amp;bcy;&amp;shchcy;&amp;iecy;&amp;ocy;&amp;bcy;&amp;rcy;&amp;acy;&amp;zcy;&amp;ocy;&amp;vcy;&amp;acy;&amp;tcy;&amp;iecy;&amp;lcy;&amp;softcy;&amp;ncy;&amp;ocy;&amp;iecy; &amp;ucy;&amp;chcy;&amp;rcy;&amp;iecy;&amp;zhcy;&amp;dcy;&amp;iecy;&amp;ncy;&amp;icy;&amp;iecy; &amp;scy;&amp;rcy;&amp;iecy;&amp;dcy;&amp;ncy;&amp;yacy;&amp;yacy; &amp;ocy;&amp;bcy;&amp;shchcy;&amp;iecy;&amp;ocy;&amp;bcy;&amp;rcy;&amp;acy;&amp;zcy;&amp;ocy;&amp;vcy;&amp;acy;&amp;tcy;&amp;iecy;&amp;lcy;&amp;softcy;&amp;ncy;&amp;acy;&amp;yacy; &amp;shcy;&amp;kcy;&amp;ocy;&amp;lcy;&amp;acy; &amp;numero;2 &amp;rcy;.&amp;pcy;. &amp;Ncy;&amp;ocy;&amp;vcy;&amp;ycy;&amp;iecy; &amp;Bcy;&amp;ucy;&amp;rcy;&amp;acy;&amp;scy;&amp;ycy;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евиз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«Один за всех и все за одного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&amp;Scy;&amp;acy;&amp;jcy;&amp;tcy; &amp;pcy;&amp;rcy;&amp;ocy;&amp;gcy;&amp;icy;&amp;mcy;&amp;ncy;&amp;acy;&amp;zcy;&amp;icy;&amp;icy; - &amp;Ocy;&amp;tcy;&amp;rcy;&amp;yacy;&amp;dcy; &quot;&amp;Dcy;&amp;rcy;&amp;ucy;&amp;zhcy;&amp;ncy;&amp;ycy;&amp;iecy; &amp;rcy;&amp;iecy;&amp;bcy;&amp;yacy;&amp;tcy;&amp;acy;&quot;"/>
          <p:cNvPicPr/>
          <p:nvPr/>
        </p:nvPicPr>
        <p:blipFill>
          <a:blip r:embed="rId1"/>
          <a:stretch/>
        </p:blipFill>
        <p:spPr>
          <a:xfrm>
            <a:off x="2209680" y="3124080"/>
            <a:ext cx="45720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9380520"/>
            <a:ext cx="39528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&amp;Pcy;&amp;icy;&amp;rcy;&amp;ocy;&amp;tcy;&amp;iecy;&amp;khcy;&amp;ncy;&amp;icy;&amp;chcy;&amp;iecy;&amp;scy;&amp;kcy;&amp;acy;&amp;yacy; &amp;kcy;&amp;ocy;&amp;mcy;&amp;pcy;&amp;acy;&amp;ncy;&amp;iukcy;&amp;yacy; &quot;&amp;Zcy;&amp;acy;&amp;gcy;&amp;rcy;&amp;acy;&amp;vcy;&amp;acy;&quot; - &amp;Scy;&amp;acy;&amp;lcy;&amp;yucy;&amp;tcy;&amp;ycy;, &amp;fcy;&amp;iecy;&amp;iecy;&amp;rcy;&amp;vcy;&amp;iecy;&amp;rcy;&amp;kcy;&amp;icy; - &amp;Vcy;&amp;scy;&amp;iecy; &amp;dcy;&amp;lcy;&amp;yacy; &amp;pcy;&amp;rcy;&amp;ocy;&amp;vcy;&amp;iecy;&amp;dcy;&amp;iecy;&amp;ncy;&amp;icy;&amp;yacy; &amp;scy;&amp;vcy;&amp;acy;&amp;dcy;&amp;softcy;&amp;bcy;&amp;ycy; &amp;vcy; &amp;Vcy;&amp;icy;&amp;ncy;&amp;ncy;&amp;icy;&amp;tscy;&amp;iecy; - C&amp;vcy;&amp;acy;&amp;dcy;&amp;iecy;&amp;bcy;&amp;ncy;&amp;ycy;&amp;iecy; &amp;pcy;&amp;lcy;&amp;acy;&amp;tcy;&amp;softcy;&amp;yacy;, C&amp;vcy;&amp;acy;&amp;dcy;&amp;iecy;&amp;bcy;&amp;ncy;&amp;ycy;&amp;jcy; &amp;kcy;&amp;ocy;&amp;scy;&amp;tcy;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1719720"/>
            <a:ext cx="1157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Рисунок 6" descr="На северном флоте"/>
          <p:cNvPicPr/>
          <p:nvPr/>
        </p:nvPicPr>
        <p:blipFill>
          <a:blip r:embed="rId1"/>
          <a:stretch/>
        </p:blipFill>
        <p:spPr>
          <a:xfrm>
            <a:off x="762120" y="762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Подводные лодки покидают базу в Полярном, 1942 г."/>
          <p:cNvPicPr/>
          <p:nvPr/>
        </p:nvPicPr>
        <p:blipFill>
          <a:blip r:embed="rId2"/>
          <a:stretch/>
        </p:blipFill>
        <p:spPr>
          <a:xfrm>
            <a:off x="4267080" y="7621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" descr="Морская база"/>
          <p:cNvPicPr/>
          <p:nvPr/>
        </p:nvPicPr>
        <p:blipFill>
          <a:blip r:embed="rId3"/>
          <a:stretch/>
        </p:blipFill>
        <p:spPr>
          <a:xfrm>
            <a:off x="762120" y="312408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1" descr="Морской конвой"/>
          <p:cNvPicPr/>
          <p:nvPr/>
        </p:nvPicPr>
        <p:blipFill>
          <a:blip r:embed="rId4"/>
          <a:stretch/>
        </p:blipFill>
        <p:spPr>
          <a:xfrm>
            <a:off x="4267080" y="3124080"/>
            <a:ext cx="3705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350 тыс. моряков награждены орденами и медалями, около 600 человек стали Героями Советского Союза, а семеро – разведчик-североморец В.Н. Леонов, морские летчики А.Е. Мазуренко, В.И. Раков, Б.Ф. Сафонов, Н.Г. Степанян, Н.В. Челноков и катерник А.О. Шабалин удостоены этого звания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жды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" descr="&amp;Rcy;&amp;acy;&amp;kcy;&amp;ocy;&amp;vcy; &amp;Vcy;&amp;acy;&amp;scy;&amp;icy;&amp;lcy;&amp;icy;&amp;jcy; &amp;Icy;&amp;vcy;&amp;acy;&amp;ncy;&amp;ocy;&amp;vcy;&amp;icy;&amp;chcy;"/>
          <p:cNvPicPr/>
          <p:nvPr/>
        </p:nvPicPr>
        <p:blipFill>
          <a:blip r:embed="rId1"/>
          <a:stretch/>
        </p:blipFill>
        <p:spPr>
          <a:xfrm>
            <a:off x="762120" y="2286000"/>
            <a:ext cx="2539800" cy="2971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066680" y="556272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ков В.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7" descr="&amp;Kcy;&amp;ucy;&amp;zcy;&amp;ncy;&amp;iecy;&amp;tscy;&amp;ocy;&amp;vcy; &amp;Ncy;&amp;icy;&amp;kcy;&amp;ocy;&amp;lcy;&amp;acy;&amp;jcy; &amp;Gcy;&amp;iecy;&amp;rcy;&amp;acy;&amp;scy;&amp;icy;&amp;mcy;&amp;ocy;&amp;vcy;&amp;icy;&amp;chcy;"/>
          <p:cNvPicPr/>
          <p:nvPr/>
        </p:nvPicPr>
        <p:blipFill>
          <a:blip r:embed="rId2"/>
          <a:stretch/>
        </p:blipFill>
        <p:spPr>
          <a:xfrm>
            <a:off x="3733920" y="2286000"/>
            <a:ext cx="23810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4038480" y="556272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знецов Н.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9" descr="leonov_vn"/>
          <p:cNvPicPr/>
          <p:nvPr/>
        </p:nvPicPr>
        <p:blipFill>
          <a:blip r:embed="rId3"/>
          <a:stretch/>
        </p:blipFill>
        <p:spPr>
          <a:xfrm>
            <a:off x="6400800" y="22860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6781320" y="55450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онов В.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175284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АБЛЯ</a:t>
            </a:r>
            <a:br>
              <a:rPr sz="66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4" descr="i?id=41a2aee931996adad367a57f7b678e0f-65-144&amp;n=24"/>
          <p:cNvPicPr/>
          <p:nvPr/>
        </p:nvPicPr>
        <p:blipFill>
          <a:blip r:embed="rId1"/>
          <a:stretch/>
        </p:blipFill>
        <p:spPr>
          <a:xfrm>
            <a:off x="4800600" y="19051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i?id=757540fb358df838bb874135cb276931-53-144&amp;n=24"/>
          <p:cNvPicPr/>
          <p:nvPr/>
        </p:nvPicPr>
        <p:blipFill>
          <a:blip r:embed="rId2"/>
          <a:stretch/>
        </p:blipFill>
        <p:spPr>
          <a:xfrm>
            <a:off x="609480" y="19051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368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Название корабля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i?id=757540fb358df838bb874135cb276931-53-144&amp;n=24"/>
          <p:cNvPicPr/>
          <p:nvPr/>
        </p:nvPicPr>
        <p:blipFill>
          <a:blip r:embed="rId1"/>
          <a:stretch/>
        </p:blipFill>
        <p:spPr>
          <a:xfrm>
            <a:off x="1219320" y="205740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?id=41a2aee931996adad367a57f7b678e0f-65-144&amp;n=24"/>
          <p:cNvPicPr/>
          <p:nvPr/>
        </p:nvPicPr>
        <p:blipFill>
          <a:blip r:embed="rId2"/>
          <a:stretch/>
        </p:blipFill>
        <p:spPr>
          <a:xfrm>
            <a:off x="4800600" y="1523880"/>
            <a:ext cx="3429000" cy="3810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828800" y="5715000"/>
            <a:ext cx="15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В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172560" y="5621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ЕЛ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урс «Штурман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zvuki-Gudok-parohoda(muzofon.com).mp3" descr=""/>
          <p:cNvPicPr/>
          <p:nvPr/>
        </p:nvPicPr>
        <p:blipFill>
          <a:blip r:embed="rId1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9D3D3803"/>
          <p:cNvPicPr/>
          <p:nvPr/>
        </p:nvPicPr>
        <p:blipFill>
          <a:blip r:embed="rId2"/>
          <a:srcRect l="26541" t="26968" r="40288" b="38358"/>
          <a:stretch/>
        </p:blipFill>
        <p:spPr>
          <a:xfrm>
            <a:off x="1508040" y="1600200"/>
            <a:ext cx="4206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7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курс «Штурман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4" descr="107D32AA"/>
          <p:cNvPicPr/>
          <p:nvPr/>
        </p:nvPicPr>
        <p:blipFill>
          <a:blip r:embed="rId1"/>
          <a:srcRect l="25194" t="24883" r="21429" b="17326"/>
          <a:stretch/>
        </p:blipFill>
        <p:spPr>
          <a:xfrm>
            <a:off x="1508040" y="1600200"/>
            <a:ext cx="6127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9</cp:lastModifiedBy>
  <dcterms:modified xsi:type="dcterms:W3CDTF">2015-04-24T06:41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