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1BE-2EB7-46DB-9E59-678DDA6C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46D-BC33-4F32-B243-DC803B70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A67-E6BB-42A9-A385-AEE10015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6AF-24AB-4D2E-AFCA-ADBAD4AB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CFAC-E0C2-41A5-9E36-3E6EE19F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E013-F319-42C7-A243-913129D6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A3E0-F32F-4D39-AD76-EB100D98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22FA-FE5A-4FD6-BF1A-49FC3576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03C4-E03C-4C04-806F-EB75431D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219E-85C0-4B25-A0A8-704AE9F9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8E78-E305-4116-8FF1-0478AF4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6A4-3E24-4155-80B7-B4CD3524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BFFD-3757-4403-A651-220A7357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855F-ED78-4134-A14A-72A0EC33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C1A6-5F4B-4922-B961-31E8C15F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BC27-0962-4898-B9A0-87F253ED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66A4-494E-4E4B-A1E3-2705926A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277-26BB-4D1B-8700-7F022E4B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BF1-596B-4D44-A83E-0B7E4147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3A6-39D6-4CEF-9C94-80249786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DFA-032F-4D3C-B2CC-5AA484D3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24A-0DF7-4396-BC95-EDBD9D7C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1C9-2E93-4E51-8B19-37B1413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DE6-7806-4D95-B1F4-1F94B354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644E-D1E2-495B-99B7-44A5696FB4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C15D-3243-48C4-8BBF-3A25FCF29CD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39160" cy="19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6600"/>
            </a:b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ДВА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КОРАБЛЯ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гамедова Наталья Николае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МОУ «Средняя общеобразовательная школа п. Белоярский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«Уборка на корабле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82●4 = 728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7●3 = 927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9486 - 9527 = 29959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3564 + 9536 = 33190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32●20 = 264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«Уборка на корабле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82●4 = 728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7●3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921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9486 – 9527 = 29959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3564 + 9536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3100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32●20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640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Физминутк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ыбка рыбке говорил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вничками шевелила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"Чтобы быть здоровой, гладкой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дем делать мы зарядку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лоп направо, хлоп налево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стройны, как королевы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дем хвостиком вилять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, два, три, четыре, пять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а подскока, три хлопк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ловою два кивка"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8" descr="&amp;Kcy;&amp;acy;&amp;rcy;&amp;tcy;&amp;icy;&amp;ncy;&amp;kcy;&amp;icy; &amp;dcy;&amp;ocy;&amp;mcy;&amp;acy;&amp;shcy;&amp;ncy;&amp;icy;&amp;khcy; &amp;rcy;&amp;ycy;&amp;bcy;&amp;ocy;&amp;kcy;"/>
          <p:cNvPicPr/>
          <p:nvPr/>
        </p:nvPicPr>
        <p:blipFill>
          <a:blip r:embed="rId1"/>
          <a:stretch/>
        </p:blipFill>
        <p:spPr>
          <a:xfrm>
            <a:off x="5562720" y="30481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Капитанов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7" name="Picture 4" descr="i?id=b025263b1c1d96999d2313bfce908cda-16-144&amp;n=24"/>
          <p:cNvPicPr/>
          <p:nvPr/>
        </p:nvPicPr>
        <p:blipFill>
          <a:blip r:embed="rId1"/>
          <a:stretch/>
        </p:blipFill>
        <p:spPr>
          <a:xfrm>
            <a:off x="1981080" y="1828800"/>
            <a:ext cx="5372280" cy="3581280"/>
          </a:xfrm>
          <a:prstGeom prst="rect">
            <a:avLst/>
          </a:prstGeom>
          <a:ln w="0">
            <a:noFill/>
          </a:ln>
        </p:spPr>
      </p:pic>
      <p:pic>
        <p:nvPicPr>
          <p:cNvPr id="208" name="pesnya-o-kapitane-Kapitan-kapitan-ulybnites_(muz-muz.net).mp3" descr=""/>
          <p:cNvPicPr/>
          <p:nvPr/>
        </p:nvPicPr>
        <p:blipFill>
          <a:blip r:embed="rId2"/>
          <a:stretch/>
        </p:blipFill>
        <p:spPr>
          <a:xfrm>
            <a:off x="81532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2278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курс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Капитанов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759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4" descr="i?id=b025263b1c1d96999d2313bfce908cda-16-144&amp;n=24"/>
          <p:cNvPicPr/>
          <p:nvPr/>
        </p:nvPicPr>
        <p:blipFill>
          <a:blip r:embed="rId1"/>
          <a:stretch/>
        </p:blipFill>
        <p:spPr>
          <a:xfrm>
            <a:off x="1905120" y="2895480"/>
            <a:ext cx="537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«Обед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Picture 4" descr="Изображение 010"/>
          <p:cNvPicPr/>
          <p:nvPr/>
        </p:nvPicPr>
        <p:blipFill>
          <a:blip r:embed="rId1"/>
          <a:stretch/>
        </p:blipFill>
        <p:spPr>
          <a:xfrm>
            <a:off x="762120" y="1600200"/>
            <a:ext cx="7238880" cy="1905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Изображение 009"/>
          <p:cNvPicPr/>
          <p:nvPr/>
        </p:nvPicPr>
        <p:blipFill>
          <a:blip r:embed="rId2"/>
          <a:stretch/>
        </p:blipFill>
        <p:spPr>
          <a:xfrm>
            <a:off x="762120" y="3962520"/>
            <a:ext cx="76197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   «Обед»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Picture 4" descr="Изображение 010"/>
          <p:cNvPicPr/>
          <p:nvPr/>
        </p:nvPicPr>
        <p:blipFill>
          <a:blip r:embed="rId1"/>
          <a:stretch/>
        </p:blipFill>
        <p:spPr>
          <a:xfrm>
            <a:off x="1066680" y="1600200"/>
            <a:ext cx="656928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Изображение 009"/>
          <p:cNvPicPr/>
          <p:nvPr/>
        </p:nvPicPr>
        <p:blipFill>
          <a:blip r:embed="rId2"/>
          <a:stretch/>
        </p:blipFill>
        <p:spPr>
          <a:xfrm>
            <a:off x="1066680" y="3962520"/>
            <a:ext cx="731520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1600200" y="16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447920" y="5562720"/>
            <a:ext cx="11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тыр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«Обед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6 + 80 = 96 (Ч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2 + 7 = 89 (Е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4 + 30 = 54 (Х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8 + 2 = 50 (О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4 – 50 = 34 (Н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3 – 40 = 33  (Ь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4" descr="&amp;Kcy;&amp;acy;&amp;kcy;&amp;icy;&amp;iecy; &amp;kcy;&amp;rcy;&amp;yucy;&amp;chcy;&amp;kcy;&amp;icy; &amp;dcy;&amp;lcy;&amp;yacy; &amp;chcy;&amp;iecy;&amp;khcy;&amp;ocy;&amp;ncy;&amp;icy; - &amp;Ucy;&amp;lcy;&amp;softcy;&amp;tcy;&amp;rcy;&amp;acy;&amp;lcy;&amp;acy;&amp;jcy;&amp;tcy; &amp;scy;&amp;pcy;&amp;icy;&amp;ncy;&amp;ncy;&amp;icy;&amp;ncy;&amp;gcy;"/>
          <p:cNvPicPr/>
          <p:nvPr/>
        </p:nvPicPr>
        <p:blipFill>
          <a:blip r:embed="rId1"/>
          <a:stretch/>
        </p:blipFill>
        <p:spPr>
          <a:xfrm>
            <a:off x="3809880" y="2209680"/>
            <a:ext cx="4800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 Перетягивание каната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4" name="Picture 4" descr="&amp;pcy;&amp;ocy;&amp;dcy;&amp;rcy;&amp;ocy;&amp;scy;&amp;tcy;&amp;kcy;&amp;icy; Images, Stock Pictures, Royalty Free &amp;pcy;&amp;ocy;&amp;dcy;&amp;rcy;&amp;ocy;&amp;scy;&amp;tcy;&amp;kcy;&amp;icy; Photos And Stock Photography"/>
          <p:cNvPicPr/>
          <p:nvPr/>
        </p:nvPicPr>
        <p:blipFill>
          <a:blip r:embed="rId1"/>
          <a:stretch/>
        </p:blipFill>
        <p:spPr>
          <a:xfrm>
            <a:off x="1219320" y="1981080"/>
            <a:ext cx="6492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лодц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Picture 7" descr="&amp;Icy;&amp;zcy;&amp;ocy;&amp;bcy;&amp;rcy;&amp;acy;&amp;zhcy;&amp;iecy;&amp;ncy;&amp;icy;&amp;iecy; - &amp;Mcy;&amp;ucy;&amp;ncy;&amp;icy;&amp;tscy;&amp;icy;&amp;pcy;&amp;acy;&amp;lcy;&amp;softcy;&amp;ncy;&amp;ocy;&amp;iecy; &amp;ocy;&amp;bcy;&amp;shchcy;&amp;iecy;&amp;ocy;&amp;bcy;&amp;rcy;&amp;acy;&amp;zcy;&amp;ocy;&amp;vcy;&amp;acy;&amp;tcy;&amp;iecy;&amp;lcy;&amp;softcy;&amp;ncy;&amp;ocy;&amp;iecy; &amp;ucy;&amp;chcy;&amp;rcy;&amp;iecy;&amp;zhcy;&amp;dcy;&amp;iecy;&amp;ncy;&amp;icy;&amp;iecy; &amp;scy;&amp;rcy;&amp;iecy;&amp;dcy;&amp;ncy;&amp;yacy;&amp;yacy; &amp;ocy;&amp;bcy;&amp;shchcy;&amp;iecy;&amp;ocy;&amp;bcy;&amp;rcy;&amp;acy;&amp;zcy;&amp;ocy;&amp;vcy;&amp;acy;&amp;tcy;&amp;iecy;&amp;lcy;&amp;softcy;&amp;ncy;&amp;acy;&amp;yacy; &amp;shcy;&amp;kcy;&amp;ocy;&amp;lcy;&amp;acy; &amp;numero;2 &amp;rcy;.&amp;pcy;. &amp;Ncy;&amp;ocy;&amp;vcy;&amp;ycy;&amp;iecy; &amp;Bcy;&amp;ucy;&amp;rcy;&amp;acy;&amp;scy;&amp;ycy;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евиз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«Один за всех и все за одного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&amp;Scy;&amp;acy;&amp;jcy;&amp;tcy; &amp;pcy;&amp;rcy;&amp;ocy;&amp;gcy;&amp;icy;&amp;mcy;&amp;ncy;&amp;acy;&amp;zcy;&amp;icy;&amp;icy; - &amp;Ocy;&amp;tcy;&amp;rcy;&amp;yacy;&amp;dcy; &quot;&amp;Dcy;&amp;rcy;&amp;ucy;&amp;zhcy;&amp;ncy;&amp;ycy;&amp;iecy; &amp;rcy;&amp;iecy;&amp;bcy;&amp;yacy;&amp;tcy;&amp;acy;&quot;"/>
          <p:cNvPicPr/>
          <p:nvPr/>
        </p:nvPicPr>
        <p:blipFill>
          <a:blip r:embed="rId1"/>
          <a:stretch/>
        </p:blipFill>
        <p:spPr>
          <a:xfrm>
            <a:off x="2209680" y="3124080"/>
            <a:ext cx="45720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9380520"/>
            <a:ext cx="395280" cy="99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4" descr="&amp;Pcy;&amp;icy;&amp;rcy;&amp;ocy;&amp;tcy;&amp;iecy;&amp;khcy;&amp;ncy;&amp;icy;&amp;chcy;&amp;iecy;&amp;scy;&amp;kcy;&amp;acy;&amp;yacy; &amp;kcy;&amp;ocy;&amp;mcy;&amp;pcy;&amp;acy;&amp;ncy;&amp;iukcy;&amp;yacy; &quot;&amp;Zcy;&amp;acy;&amp;gcy;&amp;rcy;&amp;acy;&amp;vcy;&amp;acy;&quot; - &amp;Scy;&amp;acy;&amp;lcy;&amp;yucy;&amp;tcy;&amp;ycy;, &amp;fcy;&amp;iecy;&amp;iecy;&amp;rcy;&amp;vcy;&amp;iecy;&amp;rcy;&amp;kcy;&amp;icy; - &amp;Vcy;&amp;scy;&amp;iecy; &amp;dcy;&amp;lcy;&amp;yacy; &amp;pcy;&amp;rcy;&amp;ocy;&amp;vcy;&amp;iecy;&amp;dcy;&amp;iecy;&amp;ncy;&amp;icy;&amp;yacy; &amp;scy;&amp;vcy;&amp;acy;&amp;dcy;&amp;softcy;&amp;bcy;&amp;ycy; &amp;vcy; &amp;Vcy;&amp;icy;&amp;ncy;&amp;ncy;&amp;icy;&amp;tscy;&amp;iecy; - C&amp;vcy;&amp;acy;&amp;dcy;&amp;iecy;&amp;bcy;&amp;ncy;&amp;ycy;&amp;iecy; &amp;pcy;&amp;lcy;&amp;acy;&amp;tcy;&amp;softcy;&amp;yacy;, C&amp;vcy;&amp;acy;&amp;dcy;&amp;iecy;&amp;bcy;&amp;ncy;&amp;ycy;&amp;jcy; &amp;kcy;&amp;ocy;&amp;scy;&amp;tcy;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-1719720"/>
            <a:ext cx="1157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Рисунок 6" descr="На северном флоте"/>
          <p:cNvPicPr/>
          <p:nvPr/>
        </p:nvPicPr>
        <p:blipFill>
          <a:blip r:embed="rId1"/>
          <a:stretch/>
        </p:blipFill>
        <p:spPr>
          <a:xfrm>
            <a:off x="762120" y="762120"/>
            <a:ext cx="3429000" cy="21333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" descr="Подводные лодки покидают базу в Полярном, 1942 г."/>
          <p:cNvPicPr/>
          <p:nvPr/>
        </p:nvPicPr>
        <p:blipFill>
          <a:blip r:embed="rId2"/>
          <a:stretch/>
        </p:blipFill>
        <p:spPr>
          <a:xfrm>
            <a:off x="4267080" y="762120"/>
            <a:ext cx="3657600" cy="21333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2" descr="Морская база"/>
          <p:cNvPicPr/>
          <p:nvPr/>
        </p:nvPicPr>
        <p:blipFill>
          <a:blip r:embed="rId3"/>
          <a:stretch/>
        </p:blipFill>
        <p:spPr>
          <a:xfrm>
            <a:off x="762120" y="312408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1" descr="Морской конвой"/>
          <p:cNvPicPr/>
          <p:nvPr/>
        </p:nvPicPr>
        <p:blipFill>
          <a:blip r:embed="rId4"/>
          <a:stretch/>
        </p:blipFill>
        <p:spPr>
          <a:xfrm>
            <a:off x="4267080" y="3124080"/>
            <a:ext cx="3705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350 тыс. моряков награждены орденами и медалями, около 600 человек стали Героями Советского Союза, а семеро – разведчик-североморец В.Н. Леонов, морские летчики А.Е. Мазуренко, В.И. Раков, Б.Ф. Сафонов, Н.Г. Степанян, Н.В. Челноков и катерник А.О. Шабалин удостоены этого звания</a:t>
            </a:r>
            <a:r>
              <a:rPr b="0" lang="ru-RU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ажды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4" descr="&amp;Rcy;&amp;acy;&amp;kcy;&amp;ocy;&amp;vcy; &amp;Vcy;&amp;acy;&amp;scy;&amp;icy;&amp;lcy;&amp;icy;&amp;jcy; &amp;Icy;&amp;vcy;&amp;acy;&amp;ncy;&amp;ocy;&amp;vcy;&amp;icy;&amp;chcy;"/>
          <p:cNvPicPr/>
          <p:nvPr/>
        </p:nvPicPr>
        <p:blipFill>
          <a:blip r:embed="rId1"/>
          <a:stretch/>
        </p:blipFill>
        <p:spPr>
          <a:xfrm>
            <a:off x="762120" y="2286000"/>
            <a:ext cx="2539800" cy="2971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066680" y="5562720"/>
            <a:ext cx="16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ков В.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7" descr="&amp;Kcy;&amp;ucy;&amp;zcy;&amp;ncy;&amp;iecy;&amp;tscy;&amp;ocy;&amp;vcy; &amp;Ncy;&amp;icy;&amp;kcy;&amp;ocy;&amp;lcy;&amp;acy;&amp;jcy; &amp;Gcy;&amp;iecy;&amp;rcy;&amp;acy;&amp;scy;&amp;icy;&amp;mcy;&amp;ocy;&amp;vcy;&amp;icy;&amp;chcy;"/>
          <p:cNvPicPr/>
          <p:nvPr/>
        </p:nvPicPr>
        <p:blipFill>
          <a:blip r:embed="rId2"/>
          <a:stretch/>
        </p:blipFill>
        <p:spPr>
          <a:xfrm>
            <a:off x="3733920" y="2286000"/>
            <a:ext cx="238104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8"/>
          <p:cNvSpPr/>
          <p:nvPr/>
        </p:nvSpPr>
        <p:spPr>
          <a:xfrm>
            <a:off x="4038480" y="556272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знецов Н.Г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9" descr="leonov_vn"/>
          <p:cNvPicPr/>
          <p:nvPr/>
        </p:nvPicPr>
        <p:blipFill>
          <a:blip r:embed="rId3"/>
          <a:stretch/>
        </p:blipFill>
        <p:spPr>
          <a:xfrm>
            <a:off x="6400800" y="22860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6781320" y="554508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онов В.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175284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АБЛЯ</a:t>
            </a:r>
            <a:br>
              <a:rPr sz="66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Picture 4" descr="i?id=41a2aee931996adad367a57f7b678e0f-65-144&amp;n=24"/>
          <p:cNvPicPr/>
          <p:nvPr/>
        </p:nvPicPr>
        <p:blipFill>
          <a:blip r:embed="rId1"/>
          <a:stretch/>
        </p:blipFill>
        <p:spPr>
          <a:xfrm>
            <a:off x="4800600" y="19051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i?id=757540fb358df838bb874135cb276931-53-144&amp;n=24"/>
          <p:cNvPicPr/>
          <p:nvPr/>
        </p:nvPicPr>
        <p:blipFill>
          <a:blip r:embed="rId2"/>
          <a:stretch/>
        </p:blipFill>
        <p:spPr>
          <a:xfrm>
            <a:off x="609480" y="1905120"/>
            <a:ext cx="3886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10368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Название корабля»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i?id=757540fb358df838bb874135cb276931-53-144&amp;n=24"/>
          <p:cNvPicPr/>
          <p:nvPr/>
        </p:nvPicPr>
        <p:blipFill>
          <a:blip r:embed="rId1"/>
          <a:stretch/>
        </p:blipFill>
        <p:spPr>
          <a:xfrm>
            <a:off x="1219320" y="2057400"/>
            <a:ext cx="2895480" cy="327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i?id=41a2aee931996adad367a57f7b678e0f-65-144&amp;n=24"/>
          <p:cNvPicPr/>
          <p:nvPr/>
        </p:nvPicPr>
        <p:blipFill>
          <a:blip r:embed="rId2"/>
          <a:stretch/>
        </p:blipFill>
        <p:spPr>
          <a:xfrm>
            <a:off x="4800600" y="1523880"/>
            <a:ext cx="3429000" cy="3810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1828800" y="5715000"/>
            <a:ext cx="15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АВ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172560" y="5621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МЕЛ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 «Штурман»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zvuki-Gudok-parohoda(muzofon.com).mp3" descr=""/>
          <p:cNvPicPr/>
          <p:nvPr/>
        </p:nvPicPr>
        <p:blipFill>
          <a:blip r:embed="rId1"/>
          <a:stretch/>
        </p:blipFill>
        <p:spPr>
          <a:xfrm>
            <a:off x="83059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9D3D3803"/>
          <p:cNvPicPr/>
          <p:nvPr/>
        </p:nvPicPr>
        <p:blipFill>
          <a:blip r:embed="rId2"/>
          <a:srcRect l="26541" t="26968" r="40288" b="38358"/>
          <a:stretch/>
        </p:blipFill>
        <p:spPr>
          <a:xfrm>
            <a:off x="1508040" y="1600200"/>
            <a:ext cx="4206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7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курс «Штурман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Picture 4" descr="107D32AA"/>
          <p:cNvPicPr/>
          <p:nvPr/>
        </p:nvPicPr>
        <p:blipFill>
          <a:blip r:embed="rId1"/>
          <a:srcRect l="25194" t="24883" r="21429" b="17326"/>
          <a:stretch/>
        </p:blipFill>
        <p:spPr>
          <a:xfrm>
            <a:off x="1508040" y="1600200"/>
            <a:ext cx="61279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9</cp:lastModifiedBy>
  <dcterms:modified xsi:type="dcterms:W3CDTF">2015-04-24T06:41:0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