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A62-2F17-4FE2-9D19-CED9D9DF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628-574F-463B-9A02-60D508AF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DD5-1CC9-433A-9EB2-F86AFF84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01F-2DBC-4D4F-9107-8CF93B2F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06A-95C2-406A-96AF-FCA3DDE6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FD3-9623-4689-9773-0113E9A6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772-74A1-43CB-ADBA-9E016032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80D-355C-471A-8E2D-A1A1DAC8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7EF-24CC-4214-8930-0A66610F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F2F-1EEA-4D97-B877-47A2A4E8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46F-AA9F-4579-BA40-C21AAAC5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4A5-5D10-4678-8BCA-8CB985A7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4082-2B79-4ECE-AEC4-4E0196F648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то такое ФГОС ДО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 жизни вашего ребёнк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5473440" cy="4721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6084720" y="5013360"/>
            <a:ext cx="28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.А.Шус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. Суво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уль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каз Министерства образования и науки Российской Федерации от 17 октября 2013 г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 1155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. Москва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утверждении федерального государственного образовательного стандарта дошкольного образования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стоящий приказ вступил в силу с 1 января 201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что это знач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аш ребёнок уникален! Он находится в счастливой поре детства, которая сама по себе самоценна, как этап развития маленького человека. Педагог, бережно поддерживая вашего малыша, даёт возможность ему развиваться, и при том быть счастлив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Объект 5" descr=""/>
          <p:cNvPicPr/>
          <p:nvPr/>
        </p:nvPicPr>
        <p:blipFill>
          <a:blip r:embed="rId1"/>
          <a:stretch/>
        </p:blipFill>
        <p:spPr>
          <a:xfrm>
            <a:off x="2700360" y="3429000"/>
            <a:ext cx="6119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аш ребёнок - личность! Педагог уважает в маленьком человеке личность! Взаимодействуя с Вами, родителями, педагог стремится сохранить и помочь развитию его наилучших качеств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1763640" y="2997360"/>
            <a:ext cx="4464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ерез игру и творчество, учитывая желания и стремления вашего ребёнка, воспитатель деликатно ориентирует и направляет деятельность, которая развива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2949480" y="2565360"/>
            <a:ext cx="58928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дагоги создают среду,в которой ваш ребёнок растёт здоровым, работают по программе, формирующей познавательные интересы и действия соответственно возра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Объект 4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7848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спитатель наблюдает за вашим   ребенком, не сравнивая его с другими детьми, а сравнивая его собственные сегодняшние достижения с предыдущ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136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дагог помогает вашему малышу научиться действовать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 любой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77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ГОС ДО - это гуманно,   разумно,   перспектив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Объект 5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7632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Vaio</cp:lastModifiedBy>
  <dcterms:modified xsi:type="dcterms:W3CDTF">2017-10-15T15:12:51Z</dcterms:modified>
  <cp:revision>171</cp:revision>
  <dc:subject/>
  <dc:title>Diapositiva 1</dc:title>
</cp:coreProperties>
</file>