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7E5F-191D-419F-A0A5-15595731A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193B-B96F-47F9-A2E1-BB68E3AB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3773-D4EC-4D5F-9D3B-CAFB269B6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E71A-7762-4843-BA4E-F397F9FC7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4102-B3A3-470F-9C39-71E51D51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FECF-5E88-483B-8EB0-C4DA281B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CD86-8EAE-41FB-BB5B-9D82E36D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9B84-D1AE-4485-AF03-AE2557E6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8D75-EA73-496A-A5C3-BA018B72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C7B7-7C80-4C37-944E-887B123B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31A8-B31C-4EFD-B2A9-024A7FDB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96ED-B78A-4020-875B-1F9E9A6B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5E00-83D2-48AE-8E4E-DD77F04ECCC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Что такое ФГОС ДО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 жизни вашего ребёнка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1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5473440" cy="472140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6084720" y="5013360"/>
            <a:ext cx="28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одготов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Е.А.Шуст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г. Сувор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Туль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7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иказ Министерства образования и науки Российской Федерации от 17 октября 2013 г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 1155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. Москва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б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утверждении федерального государственного образовательного стандарта дошкольного образования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4292280"/>
            <a:ext cx="822960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стоящий приказ вступил в силу с 1 января 2014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 что это значи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аш ребёнок уникален! Он находится в счастливой поре детства, которая сама по себе самоценна, как этап развития маленького человека. Педагог, бережно поддерживая вашего малыша, даёт возможность ему развиваться, и при том быть счастливы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Объект 5" descr=""/>
          <p:cNvPicPr/>
          <p:nvPr/>
        </p:nvPicPr>
        <p:blipFill>
          <a:blip r:embed="rId1"/>
          <a:stretch/>
        </p:blipFill>
        <p:spPr>
          <a:xfrm>
            <a:off x="2700360" y="3429000"/>
            <a:ext cx="6119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аш ребёнок - личность! Педагог уважает в маленьком человеке личность! Взаимодействуя с Вами, родителями, педагог стремится сохранить и помочь развитию его наилучших качеств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Объект 3" descr=""/>
          <p:cNvPicPr/>
          <p:nvPr/>
        </p:nvPicPr>
        <p:blipFill>
          <a:blip r:embed="rId1"/>
          <a:stretch/>
        </p:blipFill>
        <p:spPr>
          <a:xfrm>
            <a:off x="1763640" y="2997360"/>
            <a:ext cx="446400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Через игру и творчество, учитывая желания и стремления вашего ребёнка, воспитатель деликатно ориентирует и направляет деятельность, которая развивае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2949480" y="2565360"/>
            <a:ext cx="58928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едагоги создают среду,в которой ваш ребёнок растёт здоровым, работают по программе, формирующей познавательные интересы и действия соответственно возрас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Объект 4" descr=""/>
          <p:cNvPicPr/>
          <p:nvPr/>
        </p:nvPicPr>
        <p:blipFill>
          <a:blip r:embed="rId1"/>
          <a:stretch/>
        </p:blipFill>
        <p:spPr>
          <a:xfrm>
            <a:off x="324000" y="2637000"/>
            <a:ext cx="78483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оспитатель наблюдает за вашим   ребенком, не сравнивая его с другими детьми, а сравнивая его собственные сегодняшние достижения с предыдущ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Объект 3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81360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едагог помогает вашему малышу научиться действовать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 любой ситу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Объект 3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7777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ФГОС ДО - это гуманно,   разумно,   перспектив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Объект 5" descr=""/>
          <p:cNvPicPr/>
          <p:nvPr/>
        </p:nvPicPr>
        <p:blipFill>
          <a:blip r:embed="rId1"/>
          <a:stretch/>
        </p:blipFill>
        <p:spPr>
          <a:xfrm>
            <a:off x="755640" y="1600200"/>
            <a:ext cx="763272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Vaio</cp:lastModifiedBy>
  <dcterms:modified xsi:type="dcterms:W3CDTF">2017-10-15T15:12:51Z</dcterms:modified>
  <cp:revision>171</cp:revision>
  <dc:subject/>
  <dc:title>Diapositiva 1</dc:title>
</cp:coreProperties>
</file>