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41.jpeg" ContentType="image/jpeg"/>
  <Override PartName="/ppt/media/image12.png" ContentType="image/png"/>
  <Override PartName="/ppt/media/image31.png" ContentType="image/png"/>
  <Override PartName="/ppt/media/image29.png" ContentType="image/png"/>
  <Override PartName="/ppt/media/image39.jpeg" ContentType="image/jpeg"/>
  <Override PartName="/ppt/media/image8.jpeg" ContentType="image/jpeg"/>
  <Override PartName="/ppt/media/image23.png" ContentType="image/pn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32.png" ContentType="image/png"/>
  <Override PartName="/ppt/media/image9.jpeg" ContentType="image/jpeg"/>
  <Override PartName="/ppt/media/image1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F68-8578-41D9-9B51-021E62CE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9E1-8C8D-47FA-B395-76EC7115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23A-3F7C-4FE1-A618-E14BFFC4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551-31B3-4A56-98E5-5D6FFC36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03D-F988-4709-BBCC-A5ED8A70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E30E-6608-4822-AE1A-DA72124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BF28-6993-44E6-BEDA-D7E752B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33B4-C179-4E08-84C1-47488EF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3BC-5D34-4F25-A2FB-96EB6A5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BBA6-7AB7-4896-98A0-7ECDFA1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233-4C9C-4E98-8967-7DEC36C1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E31-D1F5-4493-B36F-B25C658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407-57D8-46F1-96A4-482E358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2239-F185-4A9A-BE9B-8FAA927D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E49D-BEBA-48CC-B719-3716EA6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FCD-B47F-4EAD-AC80-A2B60453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B15E-5816-4777-AA1F-ABD7BCFE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A088-12C6-4D97-8BFD-786E46A6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D702-D57C-47A9-A538-A8FEF2B8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E3A9-448B-40BE-9D05-4474429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1FF7-6E59-42CC-961F-27CA91B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B947-91A7-47DB-92A6-BD6BAD55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EE5-F960-47FF-A6F9-9CA9CAF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328E-048E-40BB-A338-003405EA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0B6D-9CB0-4995-9E4D-E447FAC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8FB6-8642-4665-A657-8076EA7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84DD-C3AE-462E-88A3-DC62847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16CA-E0DF-4793-86D8-AD4DEE9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A41F-075F-4464-BE80-CD6D68AC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E287-D659-4CDE-8D89-91D333A6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C725-889B-4DDD-BBC5-B87702A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324E-1014-40EC-8F5E-8C08A367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A273-17ED-491E-8D17-17FD612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60C-AB77-4D15-8EAA-DE734D62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1877-1064-4105-86FC-85FD58F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FF42-FDB3-4943-9BC3-31DEAA22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579C-F077-4394-8734-2DD0A776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8E36-C744-4C66-A1AB-910E1B4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D018-3ADC-4F00-A7FB-15E4898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13CC-D673-46DC-9663-B4FC6D3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1195-B991-4EFA-91E5-D6D99F4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6F08-8F99-4DD6-8EAB-432C2FD1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EA8F-FA88-4D98-BC71-F4B3AF50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FA290-8010-47DB-9F67-550640F6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EF7-151D-437D-9A9D-C17835E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3EF7-D786-4B3A-8A63-0C7F653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CF3A-6754-4BEC-B4EA-C63D66E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31A42-C646-4BCD-AC0C-47E5FFF7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F982-D6C6-4EB0-A3EE-DDDDC18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870F-815C-480B-8B3E-7A23C15B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95B3-2164-4810-914C-672953D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0C2F-E614-4104-BE0E-A5B8DB3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6768-D0EA-478B-A1E1-9EF6E47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4950C-AA82-480C-B19C-8188E4A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55F3-0AD2-4A49-9BE7-F395C71F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45E-B262-4F2A-B2FD-2B9F8FCA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C1FA5-012C-42D5-8F4C-780154AC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F993-27BE-416A-BCD3-D57EBB8E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CC4A-E46B-4292-987D-D1F57F3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7072-02CF-42F0-83F2-3B6633A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A1EB-0BEB-4B55-8278-6A8535B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B39A9-870D-4BF4-9008-4F3E2A1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9E4ED-81A3-4B41-B30E-EC69F73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B7C63-EDC4-45C7-8973-B0D1BC3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32A8-F4B8-40AD-87BD-1BC1A94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8CAB2-931C-410C-B4E3-05B4ADE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31B-8BF9-4A45-8F04-89447BD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9162-9349-41C2-BE0A-07D3EB05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D0DD-691A-4539-BCC1-CFAA4FB8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BBA5-260A-4BF3-864A-A1101A4A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12C6-2625-4ED2-A124-35D36EE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41FC-F5B3-43ED-8801-450133A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6E8E-154C-4242-8CBA-01D8CD2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4C1FE-DB43-4F32-BF6B-B76ED70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F19F-D1D9-464E-87FF-279239A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98F5C-84B6-4F10-87ED-40CBE2F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B40D5-E5F9-4833-9367-44576CC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F31-B0A0-4388-BA0E-350FDB2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8B68-CD59-4C81-B712-AC2E02FC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66C2-E762-4EB2-BB58-CCBA169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7112-9BFC-43EC-BF83-1A6BFCF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41DE-A09C-4B8E-8177-6C85936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86C4-59D5-4BEA-9766-A78E1DD0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76B-C1D9-4DB2-A783-02AD821B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243-7A55-490A-AF03-93A1186772A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B1F-041F-4544-8BAD-B582BA6AC89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470-4C21-40A1-8AE3-5A7B0D7E3DB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877-C851-4937-9341-8DC6F5DA4AA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A68-7833-419C-A155-C41253A14D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1BF5-5856-4B90-B0F2-BF49DFFEFB0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9B3-0663-491C-A958-ADAEFF52C9D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2"/>
          <p:cNvSpPr/>
          <p:nvPr/>
        </p:nvSpPr>
        <p:spPr>
          <a:xfrm>
            <a:off x="1187280" y="2276640"/>
            <a:ext cx="7207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нтерактивная музыкальная  игра для детей старшего дошкольного возраста    «Музыкальный перезво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1476360" y="620640"/>
            <a:ext cx="6230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3" descr=""/>
          <p:cNvPicPr/>
          <p:nvPr/>
        </p:nvPicPr>
        <p:blipFill>
          <a:blip r:embed="rId1"/>
          <a:stretch/>
        </p:blipFill>
        <p:spPr>
          <a:xfrm>
            <a:off x="160200" y="1155600"/>
            <a:ext cx="2616480" cy="28339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"/>
          <p:cNvPicPr/>
          <p:nvPr/>
        </p:nvPicPr>
        <p:blipFill>
          <a:blip r:embed="rId2"/>
          <a:stretch/>
        </p:blipFill>
        <p:spPr>
          <a:xfrm>
            <a:off x="5889600" y="1155600"/>
            <a:ext cx="3067200" cy="25164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"/>
          <p:cNvPicPr/>
          <p:nvPr/>
        </p:nvPicPr>
        <p:blipFill>
          <a:blip r:embed="rId3"/>
          <a:srcRect l="3455" t="28914" r="4331" b="9419"/>
          <a:stretch/>
        </p:blipFill>
        <p:spPr>
          <a:xfrm>
            <a:off x="2340000" y="2852640"/>
            <a:ext cx="4032360" cy="3149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508680" y="398952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6737040" y="414972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та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3363120" y="602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ар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1976400" y="500040"/>
            <a:ext cx="54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Назови музыкальный  жа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712600" y="404640"/>
            <a:ext cx="45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Что шумит, а что зву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4" descr=""/>
          <p:cNvPicPr/>
          <p:nvPr/>
        </p:nvPicPr>
        <p:blipFill>
          <a:blip r:embed="rId1"/>
          <a:stretch/>
        </p:blipFill>
        <p:spPr>
          <a:xfrm>
            <a:off x="160200" y="2276640"/>
            <a:ext cx="2816280" cy="19317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5" descr=""/>
          <p:cNvPicPr/>
          <p:nvPr/>
        </p:nvPicPr>
        <p:blipFill>
          <a:blip r:embed="rId2"/>
          <a:stretch/>
        </p:blipFill>
        <p:spPr>
          <a:xfrm>
            <a:off x="6678720" y="4751280"/>
            <a:ext cx="2430360" cy="19098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6" descr=""/>
          <p:cNvPicPr/>
          <p:nvPr/>
        </p:nvPicPr>
        <p:blipFill>
          <a:blip r:embed="rId3"/>
          <a:stretch/>
        </p:blipFill>
        <p:spPr>
          <a:xfrm>
            <a:off x="6230880" y="1944720"/>
            <a:ext cx="2651040" cy="18986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"/>
          <p:cNvPicPr/>
          <p:nvPr/>
        </p:nvPicPr>
        <p:blipFill>
          <a:blip r:embed="rId4"/>
          <a:stretch/>
        </p:blipFill>
        <p:spPr>
          <a:xfrm>
            <a:off x="177840" y="4397400"/>
            <a:ext cx="1744560" cy="22924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"/>
          <p:cNvPicPr/>
          <p:nvPr/>
        </p:nvPicPr>
        <p:blipFill>
          <a:blip r:embed="rId5"/>
          <a:stretch/>
        </p:blipFill>
        <p:spPr>
          <a:xfrm>
            <a:off x="2025720" y="4729320"/>
            <a:ext cx="1939680" cy="1954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"/>
          <p:cNvPicPr/>
          <p:nvPr/>
        </p:nvPicPr>
        <p:blipFill>
          <a:blip r:embed="rId6"/>
          <a:stretch/>
        </p:blipFill>
        <p:spPr>
          <a:xfrm>
            <a:off x="4424400" y="4722840"/>
            <a:ext cx="1881000" cy="19670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1" descr=""/>
          <p:cNvPicPr/>
          <p:nvPr/>
        </p:nvPicPr>
        <p:blipFill>
          <a:blip r:embed="rId7"/>
          <a:stretch/>
        </p:blipFill>
        <p:spPr>
          <a:xfrm>
            <a:off x="3230640" y="1727280"/>
            <a:ext cx="2563560" cy="20574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2" descr=""/>
          <p:cNvPicPr/>
          <p:nvPr/>
        </p:nvPicPr>
        <p:blipFill>
          <a:blip r:embed="rId8"/>
          <a:stretch/>
        </p:blipFill>
        <p:spPr>
          <a:xfrm>
            <a:off x="160200" y="946080"/>
            <a:ext cx="32068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45718 L 0.61233 0.70718 E">
                                      <p:cBhvr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24531 0.00371 E">
                                      <p:cBhvr>
                                        <p:cTn id="2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565 L -0.00226 0.21435 E">
                                      <p:cBhvr>
                                        <p:cTn id="2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32 -0.04745 L -0.64931 -0.20555 E">
                                      <p:cBhvr>
                                        <p:cTn id="2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648 L 0.2441 -0.1324 E">
                                      <p:cBhvr>
                                        <p:cTn id="2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38 0.07338 L 0.49445 -0.40555 E">
                                      <p:cBhvr>
                                        <p:cTn id="3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6 -0.02106 L 0.73906 -0.59189 E">
                                      <p:cBhvr>
                                        <p:cTn id="3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25 0.07755 L -0.55225 0.07755 E">
                                      <p:cBhvr>
                                        <p:cTn id="3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4" descr=""/>
          <p:cNvPicPr/>
          <p:nvPr/>
        </p:nvPicPr>
        <p:blipFill>
          <a:blip r:embed="rId1"/>
          <a:srcRect l="0" t="0" r="6831" b="0"/>
          <a:stretch/>
        </p:blipFill>
        <p:spPr>
          <a:xfrm>
            <a:off x="324000" y="847800"/>
            <a:ext cx="3289320" cy="5371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4248000" y="2844720"/>
            <a:ext cx="1212840" cy="1371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3863880" y="1066680"/>
            <a:ext cx="1022400" cy="1301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4"/>
          <a:srcRect l="0" t="18351" r="0" b="0"/>
          <a:stretch/>
        </p:blipFill>
        <p:spPr>
          <a:xfrm>
            <a:off x="5925960" y="3063960"/>
            <a:ext cx="1398600" cy="1301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5"/>
          <a:srcRect l="0" t="9647" r="0" b="0"/>
          <a:stretch/>
        </p:blipFill>
        <p:spPr>
          <a:xfrm>
            <a:off x="5460840" y="1214280"/>
            <a:ext cx="1320840" cy="1630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6"/>
          <a:stretch/>
        </p:blipFill>
        <p:spPr>
          <a:xfrm>
            <a:off x="7661160" y="1214280"/>
            <a:ext cx="1087560" cy="136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7"/>
          <a:stretch/>
        </p:blipFill>
        <p:spPr>
          <a:xfrm>
            <a:off x="7697880" y="3313080"/>
            <a:ext cx="1195200" cy="1622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8"/>
          <a:stretch/>
        </p:blipFill>
        <p:spPr>
          <a:xfrm>
            <a:off x="3871800" y="5229360"/>
            <a:ext cx="1127160" cy="1500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"/>
          <p:cNvPicPr/>
          <p:nvPr/>
        </p:nvPicPr>
        <p:blipFill>
          <a:blip r:embed="rId9"/>
          <a:stretch/>
        </p:blipFill>
        <p:spPr>
          <a:xfrm>
            <a:off x="7164360" y="5118120"/>
            <a:ext cx="1440000" cy="1649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10"/>
          <a:stretch/>
        </p:blipFill>
        <p:spPr>
          <a:xfrm>
            <a:off x="5460840" y="4748040"/>
            <a:ext cx="1246320" cy="156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"/>
          <p:cNvSpPr/>
          <p:nvPr/>
        </p:nvSpPr>
        <p:spPr>
          <a:xfrm>
            <a:off x="4542480" y="54288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Угадай  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840840" y="89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452920" y="10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7607880" y="1122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4127400" y="271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5919480" y="3084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7768800" y="3314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3977280" y="503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5418000" y="47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7107120" y="4916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2" descr=""/>
          <p:cNvPicPr/>
          <p:nvPr/>
        </p:nvPicPr>
        <p:blipFill>
          <a:blip r:embed="rId11"/>
          <a:stretch/>
        </p:blipFill>
        <p:spPr>
          <a:xfrm>
            <a:off x="2703600" y="3424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3" descr=""/>
          <p:cNvPicPr/>
          <p:nvPr/>
        </p:nvPicPr>
        <p:blipFill>
          <a:blip r:embed="rId12"/>
          <a:stretch/>
        </p:blipFill>
        <p:spPr>
          <a:xfrm>
            <a:off x="2498760" y="2235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4" descr=""/>
          <p:cNvPicPr/>
          <p:nvPr/>
        </p:nvPicPr>
        <p:blipFill>
          <a:blip r:embed="rId13"/>
          <a:stretch/>
        </p:blipFill>
        <p:spPr>
          <a:xfrm>
            <a:off x="2870280" y="2844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5" descr=""/>
          <p:cNvPicPr/>
          <p:nvPr/>
        </p:nvPicPr>
        <p:blipFill>
          <a:blip r:embed="rId14"/>
          <a:stretch/>
        </p:blipFill>
        <p:spPr>
          <a:xfrm>
            <a:off x="2870280" y="1625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6" descr=""/>
          <p:cNvPicPr/>
          <p:nvPr/>
        </p:nvPicPr>
        <p:blipFill>
          <a:blip r:embed="rId15"/>
          <a:stretch/>
        </p:blipFill>
        <p:spPr>
          <a:xfrm>
            <a:off x="3005280" y="4675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7" descr=""/>
          <p:cNvPicPr/>
          <p:nvPr/>
        </p:nvPicPr>
        <p:blipFill>
          <a:blip r:embed="rId16"/>
          <a:stretch/>
        </p:blipFill>
        <p:spPr>
          <a:xfrm>
            <a:off x="2498760" y="4065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8" descr=""/>
          <p:cNvPicPr/>
          <p:nvPr/>
        </p:nvPicPr>
        <p:blipFill>
          <a:blip r:embed="rId17"/>
          <a:stretch/>
        </p:blipFill>
        <p:spPr>
          <a:xfrm>
            <a:off x="2440080" y="522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9" descr=""/>
          <p:cNvPicPr/>
          <p:nvPr/>
        </p:nvPicPr>
        <p:blipFill>
          <a:blip r:embed="rId18"/>
          <a:stretch/>
        </p:blipFill>
        <p:spPr>
          <a:xfrm>
            <a:off x="2498760" y="1015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01248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10528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85963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8236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45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8476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2384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04055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"/>
          <p:cNvPicPr/>
          <p:nvPr/>
        </p:nvPicPr>
        <p:blipFill>
          <a:blip r:embed="rId2"/>
          <a:stretch/>
        </p:blipFill>
        <p:spPr>
          <a:xfrm>
            <a:off x="3929040" y="1176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"/>
          <p:cNvPicPr/>
          <p:nvPr/>
        </p:nvPicPr>
        <p:blipFill>
          <a:blip r:embed="rId3"/>
          <a:stretch/>
        </p:blipFill>
        <p:spPr>
          <a:xfrm>
            <a:off x="2882880" y="2406600"/>
            <a:ext cx="2546280" cy="21542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"/>
          <p:cNvPicPr/>
          <p:nvPr/>
        </p:nvPicPr>
        <p:blipFill>
          <a:blip r:embed="rId4"/>
          <a:stretch/>
        </p:blipFill>
        <p:spPr>
          <a:xfrm>
            <a:off x="7594560" y="925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"/>
          <p:cNvPicPr/>
          <p:nvPr/>
        </p:nvPicPr>
        <p:blipFill>
          <a:blip r:embed="rId5"/>
          <a:stretch/>
        </p:blipFill>
        <p:spPr>
          <a:xfrm>
            <a:off x="808200" y="4592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"/>
          <p:cNvPicPr/>
          <p:nvPr/>
        </p:nvPicPr>
        <p:blipFill>
          <a:blip r:embed="rId6"/>
          <a:stretch/>
        </p:blipFill>
        <p:spPr>
          <a:xfrm>
            <a:off x="2152800" y="4957920"/>
            <a:ext cx="3554280" cy="15271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0" descr=""/>
          <p:cNvPicPr/>
          <p:nvPr/>
        </p:nvPicPr>
        <p:blipFill>
          <a:blip r:embed="rId7"/>
          <a:srcRect l="0" t="0" r="19237" b="0"/>
          <a:stretch/>
        </p:blipFill>
        <p:spPr>
          <a:xfrm>
            <a:off x="355680" y="1138320"/>
            <a:ext cx="1514520" cy="31258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2" descr=""/>
          <p:cNvPicPr/>
          <p:nvPr/>
        </p:nvPicPr>
        <p:blipFill>
          <a:blip r:embed="rId8"/>
          <a:stretch/>
        </p:blipFill>
        <p:spPr>
          <a:xfrm>
            <a:off x="5983200" y="2075040"/>
            <a:ext cx="2793960" cy="28828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3"/>
          <p:cNvSpPr/>
          <p:nvPr/>
        </p:nvSpPr>
        <p:spPr>
          <a:xfrm>
            <a:off x="2565000" y="5904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гадай на чём игра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0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0506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3948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4008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3" descr=""/>
          <p:cNvPicPr/>
          <p:nvPr/>
        </p:nvPicPr>
        <p:blipFill>
          <a:blip r:embed="rId1"/>
          <a:srcRect l="0" t="12912" r="4443" b="12912"/>
          <a:stretch/>
        </p:blipFill>
        <p:spPr>
          <a:xfrm>
            <a:off x="5616720" y="1195560"/>
            <a:ext cx="3049560" cy="25588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"/>
          <p:cNvPicPr/>
          <p:nvPr/>
        </p:nvPicPr>
        <p:blipFill>
          <a:blip r:embed="rId2"/>
          <a:stretch/>
        </p:blipFill>
        <p:spPr>
          <a:xfrm>
            <a:off x="5143680" y="4175280"/>
            <a:ext cx="3995640" cy="23079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"/>
          <p:cNvPicPr/>
          <p:nvPr/>
        </p:nvPicPr>
        <p:blipFill>
          <a:blip r:embed="rId3"/>
          <a:stretch/>
        </p:blipFill>
        <p:spPr>
          <a:xfrm>
            <a:off x="108000" y="4094280"/>
            <a:ext cx="4903560" cy="246528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6" descr=""/>
          <p:cNvPicPr/>
          <p:nvPr/>
        </p:nvPicPr>
        <p:blipFill>
          <a:blip r:embed="rId4"/>
          <a:stretch/>
        </p:blipFill>
        <p:spPr>
          <a:xfrm rot="17217000">
            <a:off x="1186920" y="806760"/>
            <a:ext cx="2066760" cy="33350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900000" y="476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Какой музыкальный инструмент 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2856240" y="10000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5043600" y="4232160"/>
            <a:ext cx="3692520" cy="24577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"/>
          <p:cNvPicPr/>
          <p:nvPr/>
        </p:nvPicPr>
        <p:blipFill>
          <a:blip r:embed="rId2"/>
          <a:stretch/>
        </p:blipFill>
        <p:spPr>
          <a:xfrm rot="20707800">
            <a:off x="488520" y="2116080"/>
            <a:ext cx="3530520" cy="28670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"/>
          <p:cNvPicPr/>
          <p:nvPr/>
        </p:nvPicPr>
        <p:blipFill>
          <a:blip r:embed="rId3"/>
          <a:stretch/>
        </p:blipFill>
        <p:spPr>
          <a:xfrm rot="5029800">
            <a:off x="1920960" y="3952080"/>
            <a:ext cx="781200" cy="4221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"/>
          <p:cNvPicPr/>
          <p:nvPr/>
        </p:nvPicPr>
        <p:blipFill>
          <a:blip r:embed="rId4"/>
          <a:stretch/>
        </p:blipFill>
        <p:spPr>
          <a:xfrm rot="501000">
            <a:off x="4520880" y="1542600"/>
            <a:ext cx="4156200" cy="26082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7"/>
          <p:cNvSpPr/>
          <p:nvPr/>
        </p:nvSpPr>
        <p:spPr>
          <a:xfrm>
            <a:off x="384120" y="40464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Какой музыкальный инструмент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2826720" y="9270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476440" cy="3506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"/>
          <p:cNvPicPr/>
          <p:nvPr/>
        </p:nvPicPr>
        <p:blipFill>
          <a:blip r:embed="rId2"/>
          <a:stretch/>
        </p:blipFill>
        <p:spPr>
          <a:xfrm>
            <a:off x="3071880" y="698400"/>
            <a:ext cx="2476440" cy="35067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"/>
          <p:cNvPicPr/>
          <p:nvPr/>
        </p:nvPicPr>
        <p:blipFill>
          <a:blip r:embed="rId3"/>
          <a:stretch/>
        </p:blipFill>
        <p:spPr>
          <a:xfrm>
            <a:off x="5724360" y="716040"/>
            <a:ext cx="2476800" cy="35067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8" descr=""/>
          <p:cNvPicPr/>
          <p:nvPr/>
        </p:nvPicPr>
        <p:blipFill>
          <a:blip r:embed="rId4"/>
          <a:stretch/>
        </p:blipFill>
        <p:spPr>
          <a:xfrm>
            <a:off x="3313080" y="4222800"/>
            <a:ext cx="2235240" cy="25146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0" descr=""/>
          <p:cNvPicPr/>
          <p:nvPr/>
        </p:nvPicPr>
        <p:blipFill>
          <a:blip r:embed="rId5"/>
          <a:stretch/>
        </p:blipFill>
        <p:spPr>
          <a:xfrm>
            <a:off x="5724360" y="4299120"/>
            <a:ext cx="3283200" cy="2438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1" descr=""/>
          <p:cNvPicPr/>
          <p:nvPr/>
        </p:nvPicPr>
        <p:blipFill>
          <a:blip r:embed="rId6"/>
          <a:stretch/>
        </p:blipFill>
        <p:spPr>
          <a:xfrm>
            <a:off x="100080" y="4222800"/>
            <a:ext cx="3082680" cy="24177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2"/>
          <p:cNvSpPr/>
          <p:nvPr/>
        </p:nvSpPr>
        <p:spPr>
          <a:xfrm>
            <a:off x="1476360" y="1760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азгадай музыкальный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410920" y="2924280"/>
            <a:ext cx="413244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граждение победителей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20:12:57Z</dcterms:created>
  <dc:creator>тамара</dc:creator>
  <dc:description/>
  <dc:language>en-US</dc:language>
  <cp:lastModifiedBy>Наталья Велютина</cp:lastModifiedBy>
  <dcterms:modified xsi:type="dcterms:W3CDTF">2018-03-23T09:36:04Z</dcterms:modified>
  <cp:revision>67</cp:revision>
  <dc:subject/>
  <dc:title>Презентация PowerPoint</dc:title>
</cp:coreProperties>
</file>