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20.png" ContentType="image/png"/>
  <Override PartName="/ppt/media/image41.jpeg" ContentType="image/jpeg"/>
  <Override PartName="/ppt/media/image12.png" ContentType="image/png"/>
  <Override PartName="/ppt/media/image31.png" ContentType="image/png"/>
  <Override PartName="/ppt/media/image29.png" ContentType="image/png"/>
  <Override PartName="/ppt/media/image39.jpeg" ContentType="image/jpeg"/>
  <Override PartName="/ppt/media/image8.jpeg" ContentType="image/jpeg"/>
  <Override PartName="/ppt/media/image23.png" ContentType="image/pn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32.png" ContentType="image/png"/>
  <Override PartName="/ppt/media/image9.jpeg" ContentType="image/jpeg"/>
  <Override PartName="/ppt/media/image11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1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F97-4550-409A-B505-525A8F44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5E73-E3EA-408E-AD60-88E7C243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DFDA-425E-426A-9637-0D2DE5D8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698-AE8F-4930-BBB6-0D65F5CA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2D6C-218F-43D5-8E72-A9306E49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84E9-BF44-4599-A434-2AAF6ECE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5632-27B9-4738-9144-D76FA8F7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3F2A-9EC0-4226-9097-0A848AB2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911C-1136-492B-A65D-027B8997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1A35-D0C5-4AF9-9DFE-0EBDFEA6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5014-9836-45A3-B40B-0A4C0F38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20FD-A9CA-4790-A127-36972C75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D6CB-9EF8-40D6-8B53-54CD6510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7211-FB9B-45AF-9105-840F9A6A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2053-3038-4BF1-A804-F20ABF9B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C766-BB74-45AB-B082-17123E85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B286-22B9-4794-835D-69C492AC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A5DAA-090A-4F3E-9C37-FDFF4C31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0199C-2BD4-4877-B187-05754E6A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21474-3F13-488D-9F94-25694A9F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18BF3-016D-4F9A-918D-1191633A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56C47-BFF1-4468-A5A1-AC2CD179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793-481A-42B9-A05D-46C3635E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A7D4D-1F29-4FAE-9FD4-7F6EBA2F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9986C-18BA-4FC6-AFA2-8BAB5B25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B9D36-E7FE-40C4-A3CD-D3DBD53A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85CB2-80A3-4B19-995A-A4D20CC5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10631-670C-4106-962C-A68C878F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1D435-8947-4625-AF2E-674C19E9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17D9B-0E5E-4A89-85DA-15DA768D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DABB6-7A9F-4517-BEC8-EA1B48A4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2EE54-8E07-4039-B584-46F7E312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0032C-9ED4-4322-A7D4-76D6BD40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387-0BEF-4A68-86A3-00A6470B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AA24F-B75C-4AD2-8061-DEF25367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8CFC9-AEC3-413F-B814-8CC593C2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02899-7F0F-4F66-A8FD-A8728775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E5329-CE1D-407D-B837-2B2B5593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D9DD8-11A6-483D-9FDE-765DD0E3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8E043-D682-41AA-A285-3C31C352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A9B6F-448A-40BF-98BF-887A1871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42EB5-047A-4489-9939-53FF4690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8C998-D374-4297-B309-B2419458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84C73-2AB3-442D-8673-BCF788FA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31F9-7F73-4950-93F1-A9931656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38FC9-D654-4DCE-8DDE-0A219F3F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4A7CF-AA56-4D75-8736-34D78BF1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4B54C-A6D3-4FEE-B8F1-E621BDFB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CEE1F-880F-4114-A879-0F3A8AA4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E31D5-CBD1-4B0C-9DF0-89528C6D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C5F13-02F8-40F8-8EB6-B6231674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8F532-397F-42A7-BC4E-D9F1E176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792ED-2AB0-4F03-8047-146CFD4D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53E61-392C-4087-A9E7-D782B1F0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74FB9-C075-479A-B74F-F0ABA6E3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310-D6B9-4731-96F8-A556A3F2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6C055-5091-41F5-8737-8D83DECE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ADFEF-9976-42FC-9C14-61093AB9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A3AA7-BD52-44BC-8308-7F2254CA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73F6A-6044-4B87-A349-B6263848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79620-2076-4149-8F8F-08590D97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AE2A1-0389-4F1E-AA1B-2EBFBCB8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87AC3-AF8F-420A-8F20-99C577D7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2700F-4292-436F-8205-5A848405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2EA2F-E021-4DE2-9001-837E32DD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FF345-0BE4-4D34-9EFE-C96FC1BA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617A-D35A-4E4B-97D4-ED50F1C1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02EFA-8930-4E5F-A857-C8C55BE5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FDB65-7C8A-4078-9268-4498D6C9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81645-4242-4F99-B974-F8C67DB5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256DC-AECA-4214-94BC-3A0FDF19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56606-A6AA-4970-9CC5-19B1592E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E4E35-7E3E-49D3-8750-791DA7EE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FF1D9-8234-45CB-9667-BD5CB9CA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F02D6-B9A8-4B17-BFA4-21EDB19D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BD6C8-D502-4131-86D0-0E145838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83D66-4AF4-46FB-B1B9-1F6869CF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CA12-D5D8-4AD3-86B2-1EA35E75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D8935-2381-469A-87B2-D131DFDA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80DC6-8095-4145-BA62-B29FC53B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58224-AFEA-4E3E-B101-C8F47827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8F6F8-81AD-4172-85BF-60431C59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4A53F-39A1-4D3E-8254-F5FD4C4C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7A5A-2FE3-4518-A066-0DFFFB09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3153-32DE-48AC-B39F-5546F574A5F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FA46-54CC-4808-9D70-3E1F1BE7423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32C1-5623-453F-BF32-47B676923B0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D7C2-B7D0-4DA6-9FF1-6F989DE74F3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9042-CD28-48BD-BAAA-08FC5140CCB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756C-A5E2-4A6C-AB63-92D78517370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76F8-E2D2-4D38-9746-7E746428E60A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2"/>
          <p:cNvSpPr/>
          <p:nvPr/>
        </p:nvSpPr>
        <p:spPr>
          <a:xfrm>
            <a:off x="1187280" y="2276640"/>
            <a:ext cx="720756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Интерактивная музыкальная  игра для детей старшего дошкольного возраста    «Музыкальный перезво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.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3"/>
          <p:cNvSpPr/>
          <p:nvPr/>
        </p:nvSpPr>
        <p:spPr>
          <a:xfrm>
            <a:off x="1476360" y="620640"/>
            <a:ext cx="6230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3" descr=""/>
          <p:cNvPicPr/>
          <p:nvPr/>
        </p:nvPicPr>
        <p:blipFill>
          <a:blip r:embed="rId1"/>
          <a:stretch/>
        </p:blipFill>
        <p:spPr>
          <a:xfrm>
            <a:off x="160200" y="1155600"/>
            <a:ext cx="2616480" cy="28339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4" descr=""/>
          <p:cNvPicPr/>
          <p:nvPr/>
        </p:nvPicPr>
        <p:blipFill>
          <a:blip r:embed="rId2"/>
          <a:stretch/>
        </p:blipFill>
        <p:spPr>
          <a:xfrm>
            <a:off x="5889600" y="1155600"/>
            <a:ext cx="3067200" cy="251640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5" descr=""/>
          <p:cNvPicPr/>
          <p:nvPr/>
        </p:nvPicPr>
        <p:blipFill>
          <a:blip r:embed="rId3"/>
          <a:srcRect l="3455" t="28914" r="4331" b="9419"/>
          <a:stretch/>
        </p:blipFill>
        <p:spPr>
          <a:xfrm>
            <a:off x="2340000" y="2852640"/>
            <a:ext cx="4032360" cy="3149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6"/>
          <p:cNvSpPr/>
          <p:nvPr/>
        </p:nvSpPr>
        <p:spPr>
          <a:xfrm>
            <a:off x="508680" y="3989520"/>
            <a:ext cx="191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Пес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"/>
          <p:cNvSpPr/>
          <p:nvPr/>
        </p:nvSpPr>
        <p:spPr>
          <a:xfrm>
            <a:off x="6737040" y="4149720"/>
            <a:ext cx="17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тан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3363120" y="602136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мар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7"/>
          <p:cNvSpPr/>
          <p:nvPr/>
        </p:nvSpPr>
        <p:spPr>
          <a:xfrm>
            <a:off x="1976400" y="500040"/>
            <a:ext cx="54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Назови музыкальный  жан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3"/>
          <p:cNvSpPr/>
          <p:nvPr/>
        </p:nvSpPr>
        <p:spPr>
          <a:xfrm>
            <a:off x="2712600" y="404640"/>
            <a:ext cx="45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Что шумит, а что звуч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Рисунок 4" descr=""/>
          <p:cNvPicPr/>
          <p:nvPr/>
        </p:nvPicPr>
        <p:blipFill>
          <a:blip r:embed="rId1"/>
          <a:stretch/>
        </p:blipFill>
        <p:spPr>
          <a:xfrm>
            <a:off x="160200" y="2276640"/>
            <a:ext cx="2816280" cy="193176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5" descr=""/>
          <p:cNvPicPr/>
          <p:nvPr/>
        </p:nvPicPr>
        <p:blipFill>
          <a:blip r:embed="rId2"/>
          <a:stretch/>
        </p:blipFill>
        <p:spPr>
          <a:xfrm>
            <a:off x="6678720" y="4751280"/>
            <a:ext cx="2430360" cy="190980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6" descr=""/>
          <p:cNvPicPr/>
          <p:nvPr/>
        </p:nvPicPr>
        <p:blipFill>
          <a:blip r:embed="rId3"/>
          <a:stretch/>
        </p:blipFill>
        <p:spPr>
          <a:xfrm>
            <a:off x="6230880" y="1944720"/>
            <a:ext cx="2651040" cy="189864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8" descr=""/>
          <p:cNvPicPr/>
          <p:nvPr/>
        </p:nvPicPr>
        <p:blipFill>
          <a:blip r:embed="rId4"/>
          <a:stretch/>
        </p:blipFill>
        <p:spPr>
          <a:xfrm>
            <a:off x="177840" y="4397400"/>
            <a:ext cx="1744560" cy="229248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9" descr=""/>
          <p:cNvPicPr/>
          <p:nvPr/>
        </p:nvPicPr>
        <p:blipFill>
          <a:blip r:embed="rId5"/>
          <a:stretch/>
        </p:blipFill>
        <p:spPr>
          <a:xfrm>
            <a:off x="2025720" y="4729320"/>
            <a:ext cx="1939680" cy="195408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0" descr=""/>
          <p:cNvPicPr/>
          <p:nvPr/>
        </p:nvPicPr>
        <p:blipFill>
          <a:blip r:embed="rId6"/>
          <a:stretch/>
        </p:blipFill>
        <p:spPr>
          <a:xfrm>
            <a:off x="4424400" y="4722840"/>
            <a:ext cx="1881000" cy="19670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11" descr=""/>
          <p:cNvPicPr/>
          <p:nvPr/>
        </p:nvPicPr>
        <p:blipFill>
          <a:blip r:embed="rId7"/>
          <a:stretch/>
        </p:blipFill>
        <p:spPr>
          <a:xfrm>
            <a:off x="3230640" y="1727280"/>
            <a:ext cx="2563560" cy="205740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12" descr=""/>
          <p:cNvPicPr/>
          <p:nvPr/>
        </p:nvPicPr>
        <p:blipFill>
          <a:blip r:embed="rId8"/>
          <a:stretch/>
        </p:blipFill>
        <p:spPr>
          <a:xfrm>
            <a:off x="160200" y="946080"/>
            <a:ext cx="320688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33 0.45718 L 0.61233 0.70718 E">
                                      <p:cBhvr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-0.24531 0.00371 E">
                                      <p:cBhvr>
                                        <p:cTn id="22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3565 L -0.00226 0.21435 E">
                                      <p:cBhvr>
                                        <p:cTn id="24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632 -0.04745 L -0.64931 -0.20555 E">
                                      <p:cBhvr>
                                        <p:cTn id="2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0.00648 L 0.2441 -0.1324 E">
                                      <p:cBhvr>
                                        <p:cTn id="28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938 0.07338 L 0.49445 -0.40555 E">
                                      <p:cBhvr>
                                        <p:cTn id="30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416 -0.02106 L 0.73906 -0.59189 E">
                                      <p:cBhvr>
                                        <p:cTn id="32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225 0.07755 L -0.55225 0.07755 E">
                                      <p:cBhvr>
                                        <p:cTn id="34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Рисунок 4" descr=""/>
          <p:cNvPicPr/>
          <p:nvPr/>
        </p:nvPicPr>
        <p:blipFill>
          <a:blip r:embed="rId1"/>
          <a:srcRect l="0" t="0" r="6831" b="0"/>
          <a:stretch/>
        </p:blipFill>
        <p:spPr>
          <a:xfrm>
            <a:off x="324000" y="847800"/>
            <a:ext cx="3289320" cy="53719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4248000" y="2844720"/>
            <a:ext cx="1212840" cy="13716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3"/>
          <a:stretch/>
        </p:blipFill>
        <p:spPr>
          <a:xfrm>
            <a:off x="3863880" y="1066680"/>
            <a:ext cx="1022400" cy="13017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4"/>
          <a:srcRect l="0" t="18351" r="0" b="0"/>
          <a:stretch/>
        </p:blipFill>
        <p:spPr>
          <a:xfrm>
            <a:off x="5925960" y="3063960"/>
            <a:ext cx="1398600" cy="13017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"/>
          <p:cNvPicPr/>
          <p:nvPr/>
        </p:nvPicPr>
        <p:blipFill>
          <a:blip r:embed="rId5"/>
          <a:srcRect l="0" t="9647" r="0" b="0"/>
          <a:stretch/>
        </p:blipFill>
        <p:spPr>
          <a:xfrm>
            <a:off x="5460840" y="1214280"/>
            <a:ext cx="1320840" cy="1630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"/>
          <p:cNvPicPr/>
          <p:nvPr/>
        </p:nvPicPr>
        <p:blipFill>
          <a:blip r:embed="rId6"/>
          <a:stretch/>
        </p:blipFill>
        <p:spPr>
          <a:xfrm>
            <a:off x="7661160" y="1214280"/>
            <a:ext cx="1087560" cy="1362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"/>
          <p:cNvPicPr/>
          <p:nvPr/>
        </p:nvPicPr>
        <p:blipFill>
          <a:blip r:embed="rId7"/>
          <a:stretch/>
        </p:blipFill>
        <p:spPr>
          <a:xfrm>
            <a:off x="7697880" y="3313080"/>
            <a:ext cx="1195200" cy="1622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8"/>
          <a:stretch/>
        </p:blipFill>
        <p:spPr>
          <a:xfrm>
            <a:off x="3871800" y="5229360"/>
            <a:ext cx="1127160" cy="1500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9" descr=""/>
          <p:cNvPicPr/>
          <p:nvPr/>
        </p:nvPicPr>
        <p:blipFill>
          <a:blip r:embed="rId9"/>
          <a:stretch/>
        </p:blipFill>
        <p:spPr>
          <a:xfrm>
            <a:off x="7164360" y="5118120"/>
            <a:ext cx="1440000" cy="1649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0" descr=""/>
          <p:cNvPicPr/>
          <p:nvPr/>
        </p:nvPicPr>
        <p:blipFill>
          <a:blip r:embed="rId10"/>
          <a:stretch/>
        </p:blipFill>
        <p:spPr>
          <a:xfrm>
            <a:off x="5460840" y="4748040"/>
            <a:ext cx="1246320" cy="15652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1"/>
          <p:cNvSpPr/>
          <p:nvPr/>
        </p:nvSpPr>
        <p:spPr>
          <a:xfrm>
            <a:off x="4542480" y="542880"/>
            <a:ext cx="39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Угадай  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3840840" y="890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5452920" y="107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5"/>
          <p:cNvSpPr/>
          <p:nvPr/>
        </p:nvSpPr>
        <p:spPr>
          <a:xfrm>
            <a:off x="7607880" y="1122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6"/>
          <p:cNvSpPr/>
          <p:nvPr/>
        </p:nvSpPr>
        <p:spPr>
          <a:xfrm>
            <a:off x="4127400" y="2716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7"/>
          <p:cNvSpPr/>
          <p:nvPr/>
        </p:nvSpPr>
        <p:spPr>
          <a:xfrm>
            <a:off x="5919480" y="3084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8"/>
          <p:cNvSpPr/>
          <p:nvPr/>
        </p:nvSpPr>
        <p:spPr>
          <a:xfrm>
            <a:off x="7768800" y="3314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9"/>
          <p:cNvSpPr/>
          <p:nvPr/>
        </p:nvSpPr>
        <p:spPr>
          <a:xfrm>
            <a:off x="3977280" y="5037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0"/>
          <p:cNvSpPr/>
          <p:nvPr/>
        </p:nvSpPr>
        <p:spPr>
          <a:xfrm>
            <a:off x="5418000" y="4748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1"/>
          <p:cNvSpPr/>
          <p:nvPr/>
        </p:nvSpPr>
        <p:spPr>
          <a:xfrm>
            <a:off x="7107120" y="4916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Рисунок 12" descr=""/>
          <p:cNvPicPr/>
          <p:nvPr/>
        </p:nvPicPr>
        <p:blipFill>
          <a:blip r:embed="rId11"/>
          <a:stretch/>
        </p:blipFill>
        <p:spPr>
          <a:xfrm>
            <a:off x="2703600" y="3424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13" descr=""/>
          <p:cNvPicPr/>
          <p:nvPr/>
        </p:nvPicPr>
        <p:blipFill>
          <a:blip r:embed="rId12"/>
          <a:stretch/>
        </p:blipFill>
        <p:spPr>
          <a:xfrm>
            <a:off x="2498760" y="22352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14" descr=""/>
          <p:cNvPicPr/>
          <p:nvPr/>
        </p:nvPicPr>
        <p:blipFill>
          <a:blip r:embed="rId13"/>
          <a:stretch/>
        </p:blipFill>
        <p:spPr>
          <a:xfrm>
            <a:off x="2870280" y="2844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15" descr=""/>
          <p:cNvPicPr/>
          <p:nvPr/>
        </p:nvPicPr>
        <p:blipFill>
          <a:blip r:embed="rId14"/>
          <a:stretch/>
        </p:blipFill>
        <p:spPr>
          <a:xfrm>
            <a:off x="2870280" y="16257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16" descr=""/>
          <p:cNvPicPr/>
          <p:nvPr/>
        </p:nvPicPr>
        <p:blipFill>
          <a:blip r:embed="rId15"/>
          <a:stretch/>
        </p:blipFill>
        <p:spPr>
          <a:xfrm>
            <a:off x="3005280" y="4675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7" descr=""/>
          <p:cNvPicPr/>
          <p:nvPr/>
        </p:nvPicPr>
        <p:blipFill>
          <a:blip r:embed="rId16"/>
          <a:stretch/>
        </p:blipFill>
        <p:spPr>
          <a:xfrm>
            <a:off x="2498760" y="4065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18" descr=""/>
          <p:cNvPicPr/>
          <p:nvPr/>
        </p:nvPicPr>
        <p:blipFill>
          <a:blip r:embed="rId17"/>
          <a:stretch/>
        </p:blipFill>
        <p:spPr>
          <a:xfrm>
            <a:off x="2440080" y="5229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19" descr=""/>
          <p:cNvPicPr/>
          <p:nvPr/>
        </p:nvPicPr>
        <p:blipFill>
          <a:blip r:embed="rId18"/>
          <a:stretch/>
        </p:blipFill>
        <p:spPr>
          <a:xfrm>
            <a:off x="2498760" y="10159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01248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310528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85963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58236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6452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68476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92384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04055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3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4" descr=""/>
          <p:cNvPicPr/>
          <p:nvPr/>
        </p:nvPicPr>
        <p:blipFill>
          <a:blip r:embed="rId2"/>
          <a:stretch/>
        </p:blipFill>
        <p:spPr>
          <a:xfrm>
            <a:off x="3929040" y="11764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5" descr=""/>
          <p:cNvPicPr/>
          <p:nvPr/>
        </p:nvPicPr>
        <p:blipFill>
          <a:blip r:embed="rId3"/>
          <a:stretch/>
        </p:blipFill>
        <p:spPr>
          <a:xfrm>
            <a:off x="2882880" y="2406600"/>
            <a:ext cx="2546280" cy="215424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6" descr=""/>
          <p:cNvPicPr/>
          <p:nvPr/>
        </p:nvPicPr>
        <p:blipFill>
          <a:blip r:embed="rId4"/>
          <a:stretch/>
        </p:blipFill>
        <p:spPr>
          <a:xfrm>
            <a:off x="7594560" y="9255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8" descr=""/>
          <p:cNvPicPr/>
          <p:nvPr/>
        </p:nvPicPr>
        <p:blipFill>
          <a:blip r:embed="rId5"/>
          <a:stretch/>
        </p:blipFill>
        <p:spPr>
          <a:xfrm>
            <a:off x="808200" y="45925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9" descr=""/>
          <p:cNvPicPr/>
          <p:nvPr/>
        </p:nvPicPr>
        <p:blipFill>
          <a:blip r:embed="rId6"/>
          <a:stretch/>
        </p:blipFill>
        <p:spPr>
          <a:xfrm>
            <a:off x="2152800" y="4957920"/>
            <a:ext cx="3554280" cy="152712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10" descr=""/>
          <p:cNvPicPr/>
          <p:nvPr/>
        </p:nvPicPr>
        <p:blipFill>
          <a:blip r:embed="rId7"/>
          <a:srcRect l="0" t="0" r="19237" b="0"/>
          <a:stretch/>
        </p:blipFill>
        <p:spPr>
          <a:xfrm>
            <a:off x="355680" y="1138320"/>
            <a:ext cx="1514520" cy="312588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12" descr=""/>
          <p:cNvPicPr/>
          <p:nvPr/>
        </p:nvPicPr>
        <p:blipFill>
          <a:blip r:embed="rId8"/>
          <a:stretch/>
        </p:blipFill>
        <p:spPr>
          <a:xfrm>
            <a:off x="5983200" y="2075040"/>
            <a:ext cx="2793960" cy="28828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3"/>
          <p:cNvSpPr/>
          <p:nvPr/>
        </p:nvSpPr>
        <p:spPr>
          <a:xfrm>
            <a:off x="2565000" y="5904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гадай на чём игра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0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0506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3948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4008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Рисунок 3" descr=""/>
          <p:cNvPicPr/>
          <p:nvPr/>
        </p:nvPicPr>
        <p:blipFill>
          <a:blip r:embed="rId1"/>
          <a:srcRect l="0" t="12912" r="4443" b="12912"/>
          <a:stretch/>
        </p:blipFill>
        <p:spPr>
          <a:xfrm>
            <a:off x="5616720" y="1195560"/>
            <a:ext cx="3049560" cy="25588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4" descr=""/>
          <p:cNvPicPr/>
          <p:nvPr/>
        </p:nvPicPr>
        <p:blipFill>
          <a:blip r:embed="rId2"/>
          <a:stretch/>
        </p:blipFill>
        <p:spPr>
          <a:xfrm>
            <a:off x="5143680" y="4175280"/>
            <a:ext cx="3995640" cy="230796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5" descr=""/>
          <p:cNvPicPr/>
          <p:nvPr/>
        </p:nvPicPr>
        <p:blipFill>
          <a:blip r:embed="rId3"/>
          <a:stretch/>
        </p:blipFill>
        <p:spPr>
          <a:xfrm>
            <a:off x="108000" y="4094280"/>
            <a:ext cx="4903560" cy="246528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6" descr=""/>
          <p:cNvPicPr/>
          <p:nvPr/>
        </p:nvPicPr>
        <p:blipFill>
          <a:blip r:embed="rId4"/>
          <a:stretch/>
        </p:blipFill>
        <p:spPr>
          <a:xfrm rot="17217000">
            <a:off x="1186920" y="806760"/>
            <a:ext cx="2066760" cy="3335040"/>
          </a:xfrm>
          <a:prstGeom prst="rect">
            <a:avLst/>
          </a:prstGeom>
          <a:ln w="0">
            <a:noFill/>
          </a:ln>
        </p:spPr>
      </p:pic>
      <p:sp>
        <p:nvSpPr>
          <p:cNvPr id="394" name="TextBox 1"/>
          <p:cNvSpPr/>
          <p:nvPr/>
        </p:nvSpPr>
        <p:spPr>
          <a:xfrm>
            <a:off x="900000" y="47628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Какой музыкальный инструмент  лиш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2856240" y="100008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Рисунок 3" descr=""/>
          <p:cNvPicPr/>
          <p:nvPr/>
        </p:nvPicPr>
        <p:blipFill>
          <a:blip r:embed="rId1"/>
          <a:stretch/>
        </p:blipFill>
        <p:spPr>
          <a:xfrm>
            <a:off x="5043600" y="4232160"/>
            <a:ext cx="3692520" cy="245772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4" descr=""/>
          <p:cNvPicPr/>
          <p:nvPr/>
        </p:nvPicPr>
        <p:blipFill>
          <a:blip r:embed="rId2"/>
          <a:stretch/>
        </p:blipFill>
        <p:spPr>
          <a:xfrm rot="20707800">
            <a:off x="488520" y="2116080"/>
            <a:ext cx="3530520" cy="286704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5" descr=""/>
          <p:cNvPicPr/>
          <p:nvPr/>
        </p:nvPicPr>
        <p:blipFill>
          <a:blip r:embed="rId3"/>
          <a:stretch/>
        </p:blipFill>
        <p:spPr>
          <a:xfrm rot="5029800">
            <a:off x="1920960" y="3952080"/>
            <a:ext cx="781200" cy="422100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6" descr=""/>
          <p:cNvPicPr/>
          <p:nvPr/>
        </p:nvPicPr>
        <p:blipFill>
          <a:blip r:embed="rId4"/>
          <a:stretch/>
        </p:blipFill>
        <p:spPr>
          <a:xfrm rot="501000">
            <a:off x="4520880" y="1542600"/>
            <a:ext cx="4156200" cy="2608200"/>
          </a:xfrm>
          <a:prstGeom prst="rect">
            <a:avLst/>
          </a:prstGeom>
          <a:ln w="0">
            <a:noFill/>
          </a:ln>
        </p:spPr>
      </p:pic>
      <p:sp>
        <p:nvSpPr>
          <p:cNvPr id="400" name="TextBox 7"/>
          <p:cNvSpPr/>
          <p:nvPr/>
        </p:nvSpPr>
        <p:spPr>
          <a:xfrm>
            <a:off x="384120" y="40464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Какой музыкальный инструмент лиш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"/>
          <p:cNvSpPr/>
          <p:nvPr/>
        </p:nvSpPr>
        <p:spPr>
          <a:xfrm>
            <a:off x="2826720" y="92700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3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2476440" cy="350676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4" descr=""/>
          <p:cNvPicPr/>
          <p:nvPr/>
        </p:nvPicPr>
        <p:blipFill>
          <a:blip r:embed="rId2"/>
          <a:stretch/>
        </p:blipFill>
        <p:spPr>
          <a:xfrm>
            <a:off x="3071880" y="698400"/>
            <a:ext cx="2476440" cy="350676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5" descr=""/>
          <p:cNvPicPr/>
          <p:nvPr/>
        </p:nvPicPr>
        <p:blipFill>
          <a:blip r:embed="rId3"/>
          <a:stretch/>
        </p:blipFill>
        <p:spPr>
          <a:xfrm>
            <a:off x="5724360" y="716040"/>
            <a:ext cx="2476800" cy="350676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8" descr=""/>
          <p:cNvPicPr/>
          <p:nvPr/>
        </p:nvPicPr>
        <p:blipFill>
          <a:blip r:embed="rId4"/>
          <a:stretch/>
        </p:blipFill>
        <p:spPr>
          <a:xfrm>
            <a:off x="3313080" y="4222800"/>
            <a:ext cx="2235240" cy="251460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10" descr=""/>
          <p:cNvPicPr/>
          <p:nvPr/>
        </p:nvPicPr>
        <p:blipFill>
          <a:blip r:embed="rId5"/>
          <a:stretch/>
        </p:blipFill>
        <p:spPr>
          <a:xfrm>
            <a:off x="5724360" y="4299120"/>
            <a:ext cx="3283200" cy="24382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11" descr=""/>
          <p:cNvPicPr/>
          <p:nvPr/>
        </p:nvPicPr>
        <p:blipFill>
          <a:blip r:embed="rId6"/>
          <a:stretch/>
        </p:blipFill>
        <p:spPr>
          <a:xfrm>
            <a:off x="100080" y="4222800"/>
            <a:ext cx="3082680" cy="24177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2"/>
          <p:cNvSpPr/>
          <p:nvPr/>
        </p:nvSpPr>
        <p:spPr>
          <a:xfrm>
            <a:off x="1476360" y="17604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Разгадай музыкальный ре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2410920" y="2924280"/>
            <a:ext cx="413244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Награждение победителей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1T20:12:57Z</dcterms:created>
  <dc:creator>тамара</dc:creator>
  <dc:description/>
  <dc:language>en-US</dc:language>
  <cp:lastModifiedBy>Наталья Велютина</cp:lastModifiedBy>
  <dcterms:modified xsi:type="dcterms:W3CDTF">2018-03-23T09:36:04Z</dcterms:modified>
  <cp:revision>67</cp:revision>
  <dc:subject/>
  <dc:title>Презентация PowerPoint</dc:title>
</cp:coreProperties>
</file>