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gif" ContentType="image/gif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4.wmf" ContentType="image/x-wmf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9DC-34F6-4466-9937-CD3871CA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35D-ACA7-481A-9BAC-211F6C72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6A7-B227-4893-BB0C-403FA18F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6A2-D3E3-4CEC-9972-DBB42F8F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7F83-FB1E-418B-A108-E5CF5F42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8170-14A6-4F16-B814-A5076BDD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E725-32AC-47C8-9BB3-B47D0247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4F76-3BA5-48FF-94AF-2C3B016A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4522-DBD5-405C-8782-20141F3E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FE3-8301-48E2-B73B-826A7858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2FC4-50B9-43E7-B56D-522D287F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868-B8E6-4035-A4FF-882A293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A462-B0A2-4CDA-8549-0AEC2EF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EFC0-2D0F-4F99-A1B3-8F24DE07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72BC-1CB9-4314-BAD1-0C045475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D74C-338D-4602-855C-F65D5862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A1C1-2F69-475D-969E-DB9AC6E5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75D-D6AD-4F01-8203-C6089B69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22D-B1EE-4408-9053-B1F10BAB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C82-2F86-4825-98CC-9A8044AE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2AE-EBBE-40EF-A799-3D90FD2F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7D1-FEEF-4EB1-87C2-2D0FA19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8FB-F8DA-4C63-8931-829B25B7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75F-C2D0-4364-8033-EA1786E9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99C3-34A9-48B6-95FC-BC1E53A19A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prstGeom prst="pie">
            <a:avLst/>
          </a:pr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6640"/>
            <a:ext cx="7849080" cy="4858920"/>
            <a:chOff x="755640" y="1196640"/>
            <a:chExt cx="7849080" cy="4858920"/>
          </a:xfrm>
        </p:grpSpPr>
        <p:grpSp>
          <p:nvGrpSpPr>
            <p:cNvPr id="51" name="Group 80"/>
            <p:cNvGrpSpPr/>
            <p:nvPr/>
          </p:nvGrpSpPr>
          <p:grpSpPr>
            <a:xfrm>
              <a:off x="980640" y="1196640"/>
              <a:ext cx="927720" cy="4834800"/>
              <a:chOff x="980640" y="1196640"/>
              <a:chExt cx="927720" cy="483480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80640" y="120780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79440" y="1196640"/>
                <a:ext cx="0" cy="48070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59768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0836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7040"/>
              <a:ext cx="7849080" cy="4346640"/>
              <a:chOff x="755640" y="1427040"/>
              <a:chExt cx="7849080" cy="43466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7040"/>
                <a:ext cx="7829640" cy="869760"/>
                <a:chOff x="755640" y="1427040"/>
                <a:chExt cx="7829640" cy="86976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7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8440" y="17175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3800" y="2004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7160" y="2296800"/>
                  <a:ext cx="77486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7240" y="2578320"/>
                <a:ext cx="7827480" cy="870840"/>
                <a:chOff x="777240" y="2578320"/>
                <a:chExt cx="7827480" cy="87084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7240" y="257832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68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5400" y="3157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88760" y="3449160"/>
                  <a:ext cx="774900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0840"/>
                <a:ext cx="7829640" cy="871920"/>
                <a:chOff x="755640" y="3750840"/>
                <a:chExt cx="7829640" cy="87192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0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8440" y="4042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3800" y="4330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7160" y="4622760"/>
                  <a:ext cx="77486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7240" y="4902840"/>
                <a:ext cx="7827480" cy="870840"/>
                <a:chOff x="777240" y="4902840"/>
                <a:chExt cx="7827480" cy="87084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7240" y="4902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194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5400" y="548172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88760" y="5773680"/>
                  <a:ext cx="774900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35600" y="1222560"/>
              <a:ext cx="927720" cy="4833000"/>
              <a:chOff x="2235600" y="122256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3560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344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5408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6332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08560" y="1222560"/>
              <a:ext cx="927720" cy="4833000"/>
              <a:chOff x="3508560" y="122256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0856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08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2704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3628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81160" y="1222560"/>
              <a:ext cx="927720" cy="4833000"/>
              <a:chOff x="4781160" y="122256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8116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7996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39820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0888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5999400" y="1222560"/>
              <a:ext cx="927720" cy="4833000"/>
              <a:chOff x="5999400" y="122256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599940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2982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1788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2712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46080" y="1222560"/>
              <a:ext cx="927720" cy="4833000"/>
              <a:chOff x="7246080" y="122256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4608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4488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6456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7380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53AE-8DC3-46F6-9DC6-484DC84CE6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4" descr="F:\День России\2кафтан.jpg"/>
          <p:cNvPicPr/>
          <p:nvPr/>
        </p:nvPicPr>
        <p:blipFill>
          <a:blip r:embed="rId1"/>
          <a:stretch/>
        </p:blipFill>
        <p:spPr>
          <a:xfrm>
            <a:off x="2428920" y="2857680"/>
            <a:ext cx="2251080" cy="29286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F:\День России\2куртка.JPG"/>
          <p:cNvPicPr/>
          <p:nvPr/>
        </p:nvPicPr>
        <p:blipFill>
          <a:blip r:embed="rId2"/>
          <a:stretch/>
        </p:blipFill>
        <p:spPr>
          <a:xfrm>
            <a:off x="0" y="1285920"/>
            <a:ext cx="2540160" cy="3490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F:\День России\2свитер.jpg"/>
          <p:cNvPicPr/>
          <p:nvPr/>
        </p:nvPicPr>
        <p:blipFill>
          <a:blip r:embed="rId3"/>
          <a:stretch/>
        </p:blipFill>
        <p:spPr>
          <a:xfrm>
            <a:off x="4857840" y="1357200"/>
            <a:ext cx="2668320" cy="29289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:\День России\2блузка.jpg"/>
          <p:cNvPicPr/>
          <p:nvPr/>
        </p:nvPicPr>
        <p:blipFill>
          <a:blip r:embed="rId4"/>
          <a:stretch/>
        </p:blipFill>
        <p:spPr>
          <a:xfrm>
            <a:off x="6599160" y="3357720"/>
            <a:ext cx="2544840" cy="32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F:\День России\3дубленка.jpg"/>
          <p:cNvPicPr/>
          <p:nvPr/>
        </p:nvPicPr>
        <p:blipFill>
          <a:blip r:embed="rId1"/>
          <a:stretch/>
        </p:blipFill>
        <p:spPr>
          <a:xfrm>
            <a:off x="0" y="1357200"/>
            <a:ext cx="2428920" cy="316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F:\День России\3зипун.jpg"/>
          <p:cNvPicPr/>
          <p:nvPr/>
        </p:nvPicPr>
        <p:blipFill>
          <a:blip r:embed="rId2"/>
          <a:stretch/>
        </p:blipFill>
        <p:spPr>
          <a:xfrm>
            <a:off x="4429080" y="1285920"/>
            <a:ext cx="2262240" cy="3138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F:\День России\3пальто.jpg"/>
          <p:cNvPicPr/>
          <p:nvPr/>
        </p:nvPicPr>
        <p:blipFill>
          <a:blip r:embed="rId3"/>
          <a:stretch/>
        </p:blipFill>
        <p:spPr>
          <a:xfrm>
            <a:off x="6500880" y="3162240"/>
            <a:ext cx="2643120" cy="353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F:\День России\3плащ.jpg"/>
          <p:cNvPicPr/>
          <p:nvPr/>
        </p:nvPicPr>
        <p:blipFill>
          <a:blip r:embed="rId4"/>
          <a:stretch/>
        </p:blipFill>
        <p:spPr>
          <a:xfrm>
            <a:off x="2000160" y="3143160"/>
            <a:ext cx="26431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F:\День России\4брюки.jpg"/>
          <p:cNvPicPr/>
          <p:nvPr/>
        </p:nvPicPr>
        <p:blipFill>
          <a:blip r:embed="rId1"/>
          <a:stretch/>
        </p:blipFill>
        <p:spPr>
          <a:xfrm>
            <a:off x="4643280" y="2286000"/>
            <a:ext cx="2357640" cy="4064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F:\День России\4джинсы.jpg"/>
          <p:cNvPicPr/>
          <p:nvPr/>
        </p:nvPicPr>
        <p:blipFill>
          <a:blip r:embed="rId2"/>
          <a:stretch/>
        </p:blipFill>
        <p:spPr>
          <a:xfrm>
            <a:off x="6950160" y="1500120"/>
            <a:ext cx="2193840" cy="29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F:\День России\4порты.jpg"/>
          <p:cNvPicPr/>
          <p:nvPr/>
        </p:nvPicPr>
        <p:blipFill>
          <a:blip r:embed="rId3"/>
          <a:stretch/>
        </p:blipFill>
        <p:spPr>
          <a:xfrm>
            <a:off x="1857240" y="1214280"/>
            <a:ext cx="2571840" cy="3434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F:\День России\4шорты.jpg"/>
          <p:cNvPicPr/>
          <p:nvPr/>
        </p:nvPicPr>
        <p:blipFill>
          <a:blip r:embed="rId4"/>
          <a:stretch/>
        </p:blipFill>
        <p:spPr>
          <a:xfrm>
            <a:off x="0" y="3286080"/>
            <a:ext cx="19335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F:\День России\кенка.jpg"/>
          <p:cNvPicPr/>
          <p:nvPr/>
        </p:nvPicPr>
        <p:blipFill>
          <a:blip r:embed="rId1"/>
          <a:stretch/>
        </p:blipFill>
        <p:spPr>
          <a:xfrm>
            <a:off x="0" y="350028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:\День России\берет.jpg"/>
          <p:cNvPicPr/>
          <p:nvPr/>
        </p:nvPicPr>
        <p:blipFill>
          <a:blip r:embed="rId2"/>
          <a:stretch/>
        </p:blipFill>
        <p:spPr>
          <a:xfrm>
            <a:off x="6095880" y="41432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F:\День России\панамаl.jpg"/>
          <p:cNvPicPr/>
          <p:nvPr/>
        </p:nvPicPr>
        <p:blipFill>
          <a:blip r:embed="rId3"/>
          <a:stretch/>
        </p:blipFill>
        <p:spPr>
          <a:xfrm>
            <a:off x="214200" y="1571760"/>
            <a:ext cx="2928960" cy="2278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F:\День России\кокошник.jpg"/>
          <p:cNvPicPr/>
          <p:nvPr/>
        </p:nvPicPr>
        <p:blipFill>
          <a:blip r:embed="rId4"/>
          <a:stretch/>
        </p:blipFill>
        <p:spPr>
          <a:xfrm>
            <a:off x="3500280" y="150012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User</cp:lastModifiedBy>
  <dcterms:modified xsi:type="dcterms:W3CDTF">2017-06-13T09:04:39Z</dcterms:modified>
  <cp:revision>7</cp:revision>
  <dc:subject>урок</dc:subject>
  <dc:title>Презентация</dc:title>
</cp:coreProperties>
</file>