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7A27-01FA-470B-8F61-BA860EBDB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A405-A740-4EB0-9159-5F6FD49E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1496-3867-4268-912E-E4ABF301B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0F54-F804-4912-BF25-FDBDABB4F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FF37-DF3C-4813-BCE0-FD365527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71D6-BC4E-4F95-84AA-4F72C27B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0DE5-E9D3-4FCB-8297-ECDAA227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392D-CFD4-4DBA-A247-01C347DA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B7D1-19B8-4E15-81F2-676070D6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54A8-9A26-449A-80C6-4FBCBCCD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82C7-F948-4E10-B55C-E12492FF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9693-3A24-4F93-929D-E90401BA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3F2A-7CA5-4EEC-9CA4-631ADE1F0C3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РЕЗЕНТАЦИЯ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«ВЕСНА ИДЁТ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058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одготовил: воспитатель  Детского сада №69 ОАО «РЖД»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олодина Светлана Александровн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img-2004-05.photosight.ru/25/5006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24000" y="274320"/>
            <a:ext cx="901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ольшой подсолнух в неб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Цветет он много лет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Цветет весной и летом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 семечек все нет.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Picture 5" descr="7e7fd1be4a31"/>
          <p:cNvPicPr/>
          <p:nvPr/>
        </p:nvPicPr>
        <p:blipFill>
          <a:blip r:embed="rId1"/>
          <a:stretch/>
        </p:blipFill>
        <p:spPr>
          <a:xfrm>
            <a:off x="1187280" y="2060640"/>
            <a:ext cx="6732720" cy="47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ияет солнце спозаранку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нег темный сделался, намок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 распевая звонко песн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ежит веселый…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Picture 2" descr="http://www.stihi.ru/pics/2011/03/20/1080.jpg"/>
          <p:cNvPicPr/>
          <p:nvPr/>
        </p:nvPicPr>
        <p:blipFill>
          <a:blip r:embed="rId1"/>
          <a:stretch/>
        </p:blipFill>
        <p:spPr>
          <a:xfrm>
            <a:off x="684360" y="1781280"/>
            <a:ext cx="7619760" cy="50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ветках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отные комочки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них дремлют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ейкие листочки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это? </a:t>
            </a:r>
            <a:br>
              <a:rPr sz="4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5" descr="6618988_bf0f8023"/>
          <p:cNvPicPr/>
          <p:nvPr/>
        </p:nvPicPr>
        <p:blipFill>
          <a:blip r:embed="rId1"/>
          <a:stretch/>
        </p:blipFill>
        <p:spPr>
          <a:xfrm>
            <a:off x="611280" y="3716280"/>
            <a:ext cx="5076720" cy="3141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img_19327"/>
          <p:cNvPicPr/>
          <p:nvPr/>
        </p:nvPicPr>
        <p:blipFill>
          <a:blip r:embed="rId2"/>
          <a:stretch/>
        </p:blipFill>
        <p:spPr>
          <a:xfrm>
            <a:off x="3564000" y="260280"/>
            <a:ext cx="5184720" cy="32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3757680" cy="407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Солнце греет и взрослых и маленьких,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Солнце топит сугробы и льдинки,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На лугу, у домов на проталинках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Пробиваются  стрелки-травинки</a:t>
            </a: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Picture 2" descr="Первые сосульки! Первые лужи! А первый дождик! А первая радуга! Весенние первоцветы: жёлтые мать-и-мачеха, розовое волчье лыко, голубые перелески!"/>
          <p:cNvPicPr/>
          <p:nvPr/>
        </p:nvPicPr>
        <p:blipFill>
          <a:blip r:embed="rId1"/>
          <a:srcRect l="4169" t="40278" r="46878" b="6945"/>
          <a:stretch/>
        </p:blipFill>
        <p:spPr>
          <a:xfrm>
            <a:off x="5796000" y="3333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http://www.nisco.ru/data/news/Image/news/2008/8marta.jpg"/>
          <p:cNvPicPr/>
          <p:nvPr/>
        </p:nvPicPr>
        <p:blipFill>
          <a:blip r:embed="rId2"/>
          <a:stretch/>
        </p:blipFill>
        <p:spPr>
          <a:xfrm>
            <a:off x="6264360" y="39783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http://i.i.ua/photo/images/pic/5/9/3412395_3161e30b.jpg"/>
          <p:cNvPicPr/>
          <p:nvPr/>
        </p:nvPicPr>
        <p:blipFill>
          <a:blip r:embed="rId3"/>
          <a:stretch/>
        </p:blipFill>
        <p:spPr>
          <a:xfrm>
            <a:off x="2987640" y="3976560"/>
            <a:ext cx="2879640" cy="28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вкривь,  и вкось и напрямик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гут ручьи. Чирик! Чирик!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ичат скворцы, дрозды, грач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пробуй всех перекричи…..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Picture 5" descr="9"/>
          <p:cNvPicPr/>
          <p:nvPr/>
        </p:nvPicPr>
        <p:blipFill>
          <a:blip r:embed="rId1"/>
          <a:stretch/>
        </p:blipFill>
        <p:spPr>
          <a:xfrm>
            <a:off x="539640" y="4803840"/>
            <a:ext cx="3009960" cy="2054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1876652"/>
          <p:cNvPicPr/>
          <p:nvPr/>
        </p:nvPicPr>
        <p:blipFill>
          <a:blip r:embed="rId2"/>
          <a:stretch/>
        </p:blipFill>
        <p:spPr>
          <a:xfrm>
            <a:off x="611280" y="2276640"/>
            <a:ext cx="2987640" cy="2087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cf-song-thrush2"/>
          <p:cNvPicPr/>
          <p:nvPr/>
        </p:nvPicPr>
        <p:blipFill>
          <a:blip r:embed="rId3"/>
          <a:stretch/>
        </p:blipFill>
        <p:spPr>
          <a:xfrm>
            <a:off x="5076720" y="4770360"/>
            <a:ext cx="2008440" cy="2087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ciocarlia"/>
          <p:cNvPicPr/>
          <p:nvPr/>
        </p:nvPicPr>
        <p:blipFill>
          <a:blip r:embed="rId4"/>
          <a:stretch/>
        </p:blipFill>
        <p:spPr>
          <a:xfrm>
            <a:off x="4500720" y="2276640"/>
            <a:ext cx="2987640" cy="2089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skvorez18"/>
          <p:cNvPicPr/>
          <p:nvPr/>
        </p:nvPicPr>
        <p:blipFill>
          <a:blip r:embed="rId5"/>
          <a:stretch/>
        </p:blipFill>
        <p:spPr>
          <a:xfrm>
            <a:off x="5867280" y="0"/>
            <a:ext cx="298764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252720" y="274320"/>
            <a:ext cx="89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умит река, сильна, грозна,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Большие льдины крушит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Как широка!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имой она …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Была в три раза уже. 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4932360" y="0"/>
            <a:ext cx="4211640" cy="26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доход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д идет,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шел на берег народ,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отрит, как река играет,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д в кусочки разбивает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6" descr="b39a14bdbce9"/>
          <p:cNvPicPr/>
          <p:nvPr/>
        </p:nvPicPr>
        <p:blipFill>
          <a:blip r:embed="rId1"/>
          <a:stretch/>
        </p:blipFill>
        <p:spPr>
          <a:xfrm>
            <a:off x="0" y="2257560"/>
            <a:ext cx="4500720" cy="4600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0_24f6e_f5bf6095_XL"/>
          <p:cNvPicPr/>
          <p:nvPr/>
        </p:nvPicPr>
        <p:blipFill>
          <a:blip r:embed="rId2"/>
          <a:stretch/>
        </p:blipFill>
        <p:spPr>
          <a:xfrm>
            <a:off x="4859280" y="2276640"/>
            <a:ext cx="4284720" cy="45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лнышко свети и грей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, стало нам, намного веселей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Рисунок 2" descr="sun1.jpg"/>
          <p:cNvPicPr/>
          <p:nvPr/>
        </p:nvPicPr>
        <p:blipFill>
          <a:blip r:embed="rId1"/>
          <a:stretch/>
        </p:blipFill>
        <p:spPr>
          <a:xfrm>
            <a:off x="1763640" y="1542960"/>
            <a:ext cx="5316480" cy="531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4" descr="http://i1.i.ua/prikol/pic/3/7/366273_35258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http://kemclub.ru/best/34828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img0.liveinternet.ru/images/attach/c/0/40/575/40575804_1236254879_20050327121140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mirdat.ru/wp-content/mirdat35.jpg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7523280"/>
          </a:xfrm>
          <a:prstGeom prst="rect">
            <a:avLst/>
          </a:prstGeom>
          <a:ln w="0">
            <a:noFill/>
          </a:ln>
        </p:spPr>
      </p:pic>
      <p:pic>
        <p:nvPicPr>
          <p:cNvPr id="47" name="Orkestr-Frensisa-Leya-Franciya-Muzyka-pod-penie-ptic(mp3-sait.info)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5737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russianpoetry.ru/images/photos/medium/article375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moscowparks.narod.ru/piptsar/birdend/basins/ph_norrav/sirius_msk-dsc0179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www.naturephoto.ru/Images/Sin-kapel-we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korostishevsky.org/wp-content/uploads/2012/11/siniza-3-300x22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http://kemclub.ru/best/362778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8T16:28:31Z</dcterms:created>
  <dc:creator>User</dc:creator>
  <dc:description/>
  <dc:language>en-US</dc:language>
  <cp:lastModifiedBy>Admin</cp:lastModifiedBy>
  <dcterms:modified xsi:type="dcterms:W3CDTF">2018-03-23T07:02:57Z</dcterms:modified>
  <cp:revision>59</cp:revision>
  <dc:subject/>
  <dc:title>Слайд 1</dc:title>
</cp:coreProperties>
</file>