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768-845D-47D5-A9DD-4EAEEB65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9511-CBB5-4B84-B3FC-3C9FEF2B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48E-250A-4B4F-8842-69B65247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4A7A-E176-4EAC-A324-A525BBA8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233-1B2C-4BE5-B8E0-4CEC6160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20DB-3D87-4082-84D7-2A98C13C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613-4633-46CE-9732-CE5FE997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97C-84D6-46AD-B09A-B225DB1D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456-7517-4194-A6EC-DB928817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7EBC-41FA-470D-A916-E8E1A9AF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86DD-0902-4568-B0FD-87B7E8CC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B163-12F2-4C32-B208-1B248087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5A6E-07C4-4137-84D4-15AF0502C0C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ЕЗЕНТАЦИЯ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«ВЕСНА ИДЁТ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058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дготовил: воспитатель  Детского сада №69 ОАО «РЖД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олодина Светлана Александровн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img-2004-05.photosight.ru/25/5006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24000" y="274320"/>
            <a:ext cx="901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ольшой подсолнух в неб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ветет он много ле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ветет весной и лето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семечек все нет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5" descr="7e7fd1be4a31"/>
          <p:cNvPicPr/>
          <p:nvPr/>
        </p:nvPicPr>
        <p:blipFill>
          <a:blip r:embed="rId1"/>
          <a:stretch/>
        </p:blipFill>
        <p:spPr>
          <a:xfrm>
            <a:off x="1187280" y="2060640"/>
            <a:ext cx="6732720" cy="47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яет солнце спозаранк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нег темный сделался, намок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распевая звонко песн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жит веселый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2" descr="http://www.stihi.ru/pics/2011/03/20/1080.jpg"/>
          <p:cNvPicPr/>
          <p:nvPr/>
        </p:nvPicPr>
        <p:blipFill>
          <a:blip r:embed="rId1"/>
          <a:stretch/>
        </p:blipFill>
        <p:spPr>
          <a:xfrm>
            <a:off x="684360" y="178128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ветка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отные комочк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них дремлю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ейкие листочк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это? </a:t>
            </a:r>
            <a:br>
              <a:rPr sz="4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5" descr="6618988_bf0f8023"/>
          <p:cNvPicPr/>
          <p:nvPr/>
        </p:nvPicPr>
        <p:blipFill>
          <a:blip r:embed="rId1"/>
          <a:stretch/>
        </p:blipFill>
        <p:spPr>
          <a:xfrm>
            <a:off x="611280" y="3716280"/>
            <a:ext cx="5076720" cy="314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img_19327"/>
          <p:cNvPicPr/>
          <p:nvPr/>
        </p:nvPicPr>
        <p:blipFill>
          <a:blip r:embed="rId2"/>
          <a:stretch/>
        </p:blipFill>
        <p:spPr>
          <a:xfrm>
            <a:off x="3564000" y="260280"/>
            <a:ext cx="518472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3757680" cy="40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олнце греет и взрослых и маленьких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олнце топит сугробы и льдинки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На лугу, у домов на проталинках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робиваются  стрелки-травинки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Первые сосульки! Первые лужи! А первый дождик! А первая радуга! Весенние первоцветы: жёлтые мать-и-мачеха, розовое волчье лыко, голубые перелески!"/>
          <p:cNvPicPr/>
          <p:nvPr/>
        </p:nvPicPr>
        <p:blipFill>
          <a:blip r:embed="rId1"/>
          <a:srcRect l="4169" t="40278" r="46878" b="6945"/>
          <a:stretch/>
        </p:blipFill>
        <p:spPr>
          <a:xfrm>
            <a:off x="5796000" y="3333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http://www.nisco.ru/data/news/Image/news/2008/8marta.jpg"/>
          <p:cNvPicPr/>
          <p:nvPr/>
        </p:nvPicPr>
        <p:blipFill>
          <a:blip r:embed="rId2"/>
          <a:stretch/>
        </p:blipFill>
        <p:spPr>
          <a:xfrm>
            <a:off x="6264360" y="39783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http://i.i.ua/photo/images/pic/5/9/3412395_3161e30b.jpg"/>
          <p:cNvPicPr/>
          <p:nvPr/>
        </p:nvPicPr>
        <p:blipFill>
          <a:blip r:embed="rId3"/>
          <a:stretch/>
        </p:blipFill>
        <p:spPr>
          <a:xfrm>
            <a:off x="2987640" y="3976560"/>
            <a:ext cx="287964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вкривь,  и вкось и напрямик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гут ручьи. Чирик! Чирик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чат скворцы, дрозды, грач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робуй всех перекричи…..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5" descr="9"/>
          <p:cNvPicPr/>
          <p:nvPr/>
        </p:nvPicPr>
        <p:blipFill>
          <a:blip r:embed="rId1"/>
          <a:stretch/>
        </p:blipFill>
        <p:spPr>
          <a:xfrm>
            <a:off x="539640" y="4803840"/>
            <a:ext cx="3009960" cy="2054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1876652"/>
          <p:cNvPicPr/>
          <p:nvPr/>
        </p:nvPicPr>
        <p:blipFill>
          <a:blip r:embed="rId2"/>
          <a:stretch/>
        </p:blipFill>
        <p:spPr>
          <a:xfrm>
            <a:off x="611280" y="2276640"/>
            <a:ext cx="2987640" cy="208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f-song-thrush2"/>
          <p:cNvPicPr/>
          <p:nvPr/>
        </p:nvPicPr>
        <p:blipFill>
          <a:blip r:embed="rId3"/>
          <a:stretch/>
        </p:blipFill>
        <p:spPr>
          <a:xfrm>
            <a:off x="5076720" y="4770360"/>
            <a:ext cx="2008440" cy="2087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iocarlia"/>
          <p:cNvPicPr/>
          <p:nvPr/>
        </p:nvPicPr>
        <p:blipFill>
          <a:blip r:embed="rId4"/>
          <a:stretch/>
        </p:blipFill>
        <p:spPr>
          <a:xfrm>
            <a:off x="4500720" y="2276640"/>
            <a:ext cx="2987640" cy="2089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skvorez18"/>
          <p:cNvPicPr/>
          <p:nvPr/>
        </p:nvPicPr>
        <p:blipFill>
          <a:blip r:embed="rId5"/>
          <a:stretch/>
        </p:blipFill>
        <p:spPr>
          <a:xfrm>
            <a:off x="5867280" y="0"/>
            <a:ext cx="29876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252720" y="274320"/>
            <a:ext cx="89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умит река, сильна, грозна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Большие льдины крушит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Как широка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имой она …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Была в три раза уже. 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932360" y="0"/>
            <a:ext cx="421164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доход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д идет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шел на берег народ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отрит, как река играет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д в кусочки разбивает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6" descr="b39a14bdbce9"/>
          <p:cNvPicPr/>
          <p:nvPr/>
        </p:nvPicPr>
        <p:blipFill>
          <a:blip r:embed="rId1"/>
          <a:stretch/>
        </p:blipFill>
        <p:spPr>
          <a:xfrm>
            <a:off x="0" y="2257560"/>
            <a:ext cx="4500720" cy="4600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0_24f6e_f5bf6095_XL"/>
          <p:cNvPicPr/>
          <p:nvPr/>
        </p:nvPicPr>
        <p:blipFill>
          <a:blip r:embed="rId2"/>
          <a:stretch/>
        </p:blipFill>
        <p:spPr>
          <a:xfrm>
            <a:off x="4859280" y="2276640"/>
            <a:ext cx="4284720" cy="45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ышко свети и гре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, стало нам, намного веселей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Рисунок 2" descr="sun1.jpg"/>
          <p:cNvPicPr/>
          <p:nvPr/>
        </p:nvPicPr>
        <p:blipFill>
          <a:blip r:embed="rId1"/>
          <a:stretch/>
        </p:blipFill>
        <p:spPr>
          <a:xfrm>
            <a:off x="1763640" y="1542960"/>
            <a:ext cx="5316480" cy="53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http://i1.i.ua/prikol/pic/3/7/366273_3525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http://kemclub.ru/best/34828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img0.liveinternet.ru/images/attach/c/0/40/575/40575804_1236254879_20050327121140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mirdat.ru/wp-content/mirdat35.jpg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523280"/>
          </a:xfrm>
          <a:prstGeom prst="rect">
            <a:avLst/>
          </a:prstGeom>
          <a:ln w="0">
            <a:noFill/>
          </a:ln>
        </p:spPr>
      </p:pic>
      <p:pic>
        <p:nvPicPr>
          <p:cNvPr id="47" name="Orkestr-Frensisa-Leya-Franciya-Muzyka-pod-penie-ptic(mp3-sait.info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5737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russianpoetry.ru/images/photos/medium/article37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moscowparks.narod.ru/piptsar/birdend/basins/ph_norrav/sirius_msk-dsc017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naturephoto.ru/Images/Sin-kapel-we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korostishevsky.org/wp-content/uploads/2012/11/siniza-3-300x22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http://kemclub.ru/best/36277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6:28:31Z</dcterms:created>
  <dc:creator>User</dc:creator>
  <dc:description/>
  <dc:language>en-US</dc:language>
  <cp:lastModifiedBy>Admin</cp:lastModifiedBy>
  <dcterms:modified xsi:type="dcterms:W3CDTF">2018-03-23T07:02:57Z</dcterms:modified>
  <cp:revision>59</cp:revision>
  <dc:subject/>
  <dc:title>Слайд 1</dc:title>
</cp:coreProperties>
</file>