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FF2-5588-4F34-A9D4-FB6CF9B8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420C-DAA6-4A76-B8D6-73566E98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CEA2-9A4F-43C1-A92E-9801C35A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323F-240B-4631-9682-3A0AC5BD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BD84-0023-48C9-9A86-DF354E4B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C73-8CA3-49AE-B00E-74235729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48BF-DA07-4B75-94BD-1C3D23DB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3AB6-17B0-42F2-A38F-0A275883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365B-FE35-47AC-86D3-D46E2E9B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2FD0-2DA6-43FB-BFE1-779FB127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C5FB-EFF7-4B04-9405-B9AE9429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BAF2-AE3E-41BA-B7DA-74A3B298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C616-1913-4AEF-9616-E917CEE4F2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Segoe Print"/>
                <a:ea typeface="Times New Roman"/>
              </a:rPr>
              <a:t>«Наши общие возможности - наши общие результ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Лариса\Pictures\900x600_adaptiveResize_news_2015_09_festmtsk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Стрелка вправо 4"/>
          <p:cNvSpPr/>
          <p:nvPr/>
        </p:nvSpPr>
        <p:spPr>
          <a:xfrm>
            <a:off x="2484360" y="3645000"/>
            <a:ext cx="3959280" cy="4842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14200" y="714240"/>
            <a:ext cx="8572680" cy="54864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428760" y="4000680"/>
            <a:ext cx="64292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Segoe Print"/>
                <a:ea typeface="Times New Roman"/>
              </a:rPr>
              <a:t>31 октября на базе ДК «Москворечье» прошёл городской Фестиваль образовательных организ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Segoe Print"/>
                <a:ea typeface="Times New Roman"/>
              </a:rPr>
              <a:t>«Наши общие возможности - наши общие результаты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Лариса\Pictures\18-11-2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Стрелка влево 3"/>
          <p:cNvSpPr/>
          <p:nvPr/>
        </p:nvSpPr>
        <p:spPr>
          <a:xfrm rot="20278200">
            <a:off x="7208640" y="725400"/>
            <a:ext cx="920520" cy="525600"/>
          </a:xfrm>
          <a:prstGeom prst="leftArrow">
            <a:avLst>
              <a:gd name="adj1" fmla="val 50000"/>
              <a:gd name="adj2" fmla="val 4997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5715000" y="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школа была активным участником фестива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>
            <a:off x="1357200" y="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  <a:ea typeface="Times New Roman"/>
              </a:rPr>
              <a:t>Мероприятие стало ярким событием октября 2015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4292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357120" y="214200"/>
            <a:ext cx="8286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Segoe Print"/>
                <a:ea typeface="Times New Roman"/>
              </a:rPr>
              <a:t>В рамках фестиваля: наша школа представила интересный  красочный мастер-класс »Живые радужные полоски»  по изготовлению творческих работ из цветных  полосок в технике квилл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8429760" cy="58579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1000080" y="0"/>
            <a:ext cx="74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Segoe Print"/>
                <a:ea typeface="Times New Roman"/>
              </a:rPr>
              <a:t>Мы обучали детей, мам, пап, бабушек изготовлению поделок из цветных полосок бумаги. Гости мероприятия с огромным интересом и удовольствием делали под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4579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Segoe Print"/>
                <a:ea typeface="Arial"/>
              </a:rPr>
              <a:t>Творческий коллектив нашего комплекса в составе: Красносельской В.Б. Улановой Л.Ю., Борисовой Л.А., Угрюмовой Е.С., Фроловой Е Ю. и др трудился над созданием пано , украсившим холл фестива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Андрей 2\Desktop\НС ПОРТАЛ\image.jpg"/>
          <p:cNvPicPr/>
          <p:nvPr/>
        </p:nvPicPr>
        <p:blipFill>
          <a:blip r:embed="rId1"/>
          <a:stretch/>
        </p:blipFill>
        <p:spPr>
          <a:xfrm>
            <a:off x="0" y="214200"/>
            <a:ext cx="5286240" cy="650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Андрей 2\Desktop\НС ПОРТАЛ\IMG_20161007_180248.jpg"/>
          <p:cNvPicPr/>
          <p:nvPr/>
        </p:nvPicPr>
        <p:blipFill>
          <a:blip r:embed="rId2"/>
          <a:stretch/>
        </p:blipFill>
        <p:spPr>
          <a:xfrm>
            <a:off x="5214960" y="285840"/>
            <a:ext cx="37148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Андрей 2\Desktop\фото к аттестации\WP_20151031_030.jpg"/>
          <p:cNvPicPr/>
          <p:nvPr/>
        </p:nvPicPr>
        <p:blipFill>
          <a:blip r:embed="rId1"/>
          <a:stretch/>
        </p:blipFill>
        <p:spPr>
          <a:xfrm>
            <a:off x="285840" y="214200"/>
            <a:ext cx="4357440" cy="64803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4714920" y="1428840"/>
            <a:ext cx="4214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Print"/>
                <a:ea typeface="Arial"/>
              </a:rPr>
              <a:t>Детей развлекали  педагоги нашего дошкольного отделения  в костюмах ростовых кукол: Угрюмова Е.С. и Кистенева Н.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8T18:50:29Z</dcterms:created>
  <dc:creator>Андрей 2</dc:creator>
  <dc:description/>
  <dc:language>en-US</dc:language>
  <cp:lastModifiedBy>Елена Фролова</cp:lastModifiedBy>
  <dcterms:modified xsi:type="dcterms:W3CDTF">2018-03-23T15:34:17Z</dcterms:modified>
  <cp:revision>9</cp:revision>
  <dc:subject/>
  <dc:title>Слайд 1</dc:title>
</cp:coreProperties>
</file>