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6AD-A237-46F7-B88F-3C96D07D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CE9-7A45-4DCB-BEBD-FD21570B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CBE-D870-47DD-8F14-C2C0D01F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99F-A287-493A-A389-9AF4CA2A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DC4-7840-415C-8966-DB089D24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563-1836-417B-A7E4-537713EF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EF6-8C88-47FD-8582-EB66035C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675-5CE9-41D0-8468-D79A5B64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1AE-72AB-498F-8258-88E0D998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934-5E33-4BAB-9B3B-606D41A4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C06-61A3-4A90-A521-A64EF8B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CEE-1521-4415-B699-E1638FE9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C3FF-7CD4-4212-B787-9C9E0C717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«Наши общие возможности - наши общи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Лариса\Pictures\900x600_adaptiveResize_news_2015_09_festmtsk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Стрелка вправо 4"/>
          <p:cNvSpPr/>
          <p:nvPr/>
        </p:nvSpPr>
        <p:spPr>
          <a:xfrm>
            <a:off x="2484360" y="3645000"/>
            <a:ext cx="3959280" cy="484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57268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428760" y="4000680"/>
            <a:ext cx="64292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Segoe Print"/>
                <a:ea typeface="Times New Roman"/>
              </a:rPr>
              <a:t>31 октября на базе ДК «Москворечье» прошёл городской Фестиваль образовательных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Segoe Print"/>
                <a:ea typeface="Times New Roman"/>
              </a:rPr>
              <a:t>«Наши общие возможности - наши общие результат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Лариса\Pictures\18-11-2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Стрелка влево 3"/>
          <p:cNvSpPr/>
          <p:nvPr/>
        </p:nvSpPr>
        <p:spPr>
          <a:xfrm rot="20278200">
            <a:off x="7208640" y="725400"/>
            <a:ext cx="920520" cy="52560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571500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школа была активным участником фестива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1357200" y="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Мероприятие стало ярким событием октября 2015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4292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357120" y="214200"/>
            <a:ext cx="828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Segoe Print"/>
                <a:ea typeface="Times New Roman"/>
              </a:rPr>
              <a:t>В рамках фестиваля: наша школа представила интересный  красочный мастер-класс »Живые радужные полоски»  по изготовлению творческих работ из цветных  полосок в технике квилл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429760" cy="58579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1000080" y="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Segoe Print"/>
                <a:ea typeface="Times New Roman"/>
              </a:rPr>
              <a:t>Мы обучали детей, мам, пап, бабушек изготовлению поделок из цветных полосок бумаги. Гости мероприятия с огромным интересом и удовольствием делали по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57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egoe Print"/>
                <a:ea typeface="Arial"/>
              </a:rPr>
              <a:t>Творческий коллектив нашего комплекса в составе: Красносельской В.Б. Улановой Л.Ю., Борисовой Л.А., Угрюмовой Е.С., Фроловой Е Ю. и др трудился над созданием пано , украсившим холл фестива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Андрей 2\Desktop\НС ПОРТАЛ\image.jpg"/>
          <p:cNvPicPr/>
          <p:nvPr/>
        </p:nvPicPr>
        <p:blipFill>
          <a:blip r:embed="rId1"/>
          <a:stretch/>
        </p:blipFill>
        <p:spPr>
          <a:xfrm>
            <a:off x="0" y="214200"/>
            <a:ext cx="5286240" cy="650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Андрей 2\Desktop\НС ПОРТАЛ\IMG_20161007_180248.jpg"/>
          <p:cNvPicPr/>
          <p:nvPr/>
        </p:nvPicPr>
        <p:blipFill>
          <a:blip r:embed="rId2"/>
          <a:stretch/>
        </p:blipFill>
        <p:spPr>
          <a:xfrm>
            <a:off x="5214960" y="285840"/>
            <a:ext cx="3714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Андрей 2\Desktop\фото к аттестации\WP_20151031_030.jpg"/>
          <p:cNvPicPr/>
          <p:nvPr/>
        </p:nvPicPr>
        <p:blipFill>
          <a:blip r:embed="rId1"/>
          <a:stretch/>
        </p:blipFill>
        <p:spPr>
          <a:xfrm>
            <a:off x="285840" y="214200"/>
            <a:ext cx="4357440" cy="64803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714920" y="142884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Arial"/>
              </a:rPr>
              <a:t>Детей развлекали  педагоги нашего дошкольного отделения  в костюмах ростовых кукол: Угрюмова Е.С. и Кистенева Н.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18:50:29Z</dcterms:created>
  <dc:creator>Андрей 2</dc:creator>
  <dc:description/>
  <dc:language>en-US</dc:language>
  <cp:lastModifiedBy>Елена Фролова</cp:lastModifiedBy>
  <dcterms:modified xsi:type="dcterms:W3CDTF">2018-03-23T15:34:17Z</dcterms:modified>
  <cp:revision>9</cp:revision>
  <dc:subject/>
  <dc:title>Слайд 1</dc:title>
</cp:coreProperties>
</file>