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7E6-F7C0-46B9-A2BD-FC7207C5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332-C699-4F2F-A971-E0BBF5E9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363-312D-45C4-923E-FED62AA9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4B4-5A05-44AF-B2D2-361E1256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7525-456D-4068-A4F2-934A73F2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CF42-0EC1-4B46-8699-215467BA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A994-EB2C-45BF-9AB1-8D390518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72C-87BD-4D4A-970F-DB806E43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7175-5C5F-4344-A1E4-2E65F832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E9F9-1641-484E-A2B9-E06F6FB0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0B23-8B88-4B88-8F9E-7B1F7A2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16E-DEEF-448D-8897-13C4EA12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28D8-4804-4143-AD2B-D8928D8B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A592-BED8-4E42-805E-4E132A7D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3A65-7B2C-40F4-9CEB-2ED2EA8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D83A-8903-4183-8EBE-5BDF1AF0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8E37-583E-4536-B25B-FC8A1D1A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B95-4356-4F6C-BC62-4CC8104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EF4-EF26-453D-B800-2D1DDE0F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70E-C359-4FBE-B7B4-BA8FB58F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6DF-98CA-47F3-A355-EE179A10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7A7-1F5A-4615-83D6-B32804E6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01A-CDCD-4561-BF24-FCED228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D3C-17D4-4749-BAF4-F97FBE6B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8096-B663-4DA4-BA0F-014B0C059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14800" y="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Calibri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F314-63DD-4D92-987E-8449D21A6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iCA4SS68A.jpg"/>
          <p:cNvPicPr/>
          <p:nvPr/>
        </p:nvPicPr>
        <p:blipFill>
          <a:blip r:embed="rId1"/>
          <a:stretch/>
        </p:blipFill>
        <p:spPr>
          <a:xfrm>
            <a:off x="2786040" y="3143160"/>
            <a:ext cx="3143160" cy="3441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7" descr=""/>
          <p:cNvPicPr/>
          <p:nvPr/>
        </p:nvPicPr>
        <p:blipFill>
          <a:blip r:embed="rId2"/>
          <a:stretch/>
        </p:blipFill>
        <p:spPr>
          <a:xfrm>
            <a:off x="182520" y="1268280"/>
            <a:ext cx="87123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224360" y="71424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omic Sans MS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79520" y="1857240"/>
            <a:ext cx="395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963 ● 28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524240" y="3429000"/>
            <a:ext cx="441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046 ● 75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985480" y="100008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omic Sans MS"/>
              </a:rPr>
              <a:t>Проверь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373400" y="1857240"/>
            <a:ext cx="2210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28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7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7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1926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754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5519160" y="1785960"/>
            <a:ext cx="2549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7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18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2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7322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8868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2003040" y="235728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074960" y="4000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146280" y="242892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5504040" y="40719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14240" y="64296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38 №6 (а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0040" y="2428920"/>
          <a:ext cx="6480360" cy="2425680"/>
        </p:xfrm>
        <a:graphic>
          <a:graphicData uri="http://schemas.openxmlformats.org/drawingml/2006/table">
            <a:tbl>
              <a:tblPr/>
              <a:tblGrid>
                <a:gridCol w="2160720"/>
                <a:gridCol w="2158920"/>
                <a:gridCol w="2160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Правая фигурная скобка 3"/>
          <p:cNvSpPr/>
          <p:nvPr/>
        </p:nvSpPr>
        <p:spPr>
          <a:xfrm>
            <a:off x="7143840" y="3571920"/>
            <a:ext cx="357120" cy="92880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16200" y="10800"/>
                  <a:pt x="21600" y="10800"/>
                </a:cubicBezTo>
                <a:cubicBezTo>
                  <a:pt x="162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7647120" y="3786120"/>
            <a:ext cx="48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270440" y="242892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332520" y="242892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643720" y="242892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935280" y="342900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3007800" y="335772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935280" y="414324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3007800" y="41432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5789880" y="3429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5861160" y="4214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2460960" y="785880"/>
            <a:ext cx="49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670320" y="2071800"/>
            <a:ext cx="72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38 №4 (нижняя строка); с. 38 №6 (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iCA4SS68A.jpg"/>
          <p:cNvPicPr/>
          <p:nvPr/>
        </p:nvPicPr>
        <p:blipFill>
          <a:blip r:embed="rId1"/>
          <a:stretch/>
        </p:blipFill>
        <p:spPr>
          <a:xfrm>
            <a:off x="928800" y="1143000"/>
            <a:ext cx="3849480" cy="421488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" descr=""/>
          <p:cNvPicPr/>
          <p:nvPr/>
        </p:nvPicPr>
        <p:blipFill>
          <a:blip r:embed="rId2"/>
          <a:stretch/>
        </p:blipFill>
        <p:spPr>
          <a:xfrm>
            <a:off x="3206880" y="523800"/>
            <a:ext cx="557208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Box 2" descr=""/>
          <p:cNvPicPr/>
          <p:nvPr/>
        </p:nvPicPr>
        <p:blipFill>
          <a:blip r:embed="rId1"/>
          <a:stretch/>
        </p:blipFill>
        <p:spPr>
          <a:xfrm>
            <a:off x="853920" y="165240"/>
            <a:ext cx="7083720" cy="196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rcRect l="0" t="0" r="4129" b="0"/>
          <a:stretch/>
        </p:blipFill>
        <p:spPr>
          <a:xfrm>
            <a:off x="2857680" y="2214720"/>
            <a:ext cx="3357360" cy="36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785880" y="1428840"/>
            <a:ext cx="72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6 ● 6 + 4) : 25 ● 1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71680" y="2857680"/>
            <a:ext cx="807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480 – 15 ● 2) : 15 ● 9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642960" y="4143240"/>
            <a:ext cx="50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300 + 150) ●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9"/>
          <p:cNvSpPr/>
          <p:nvPr/>
        </p:nvSpPr>
        <p:spPr>
          <a:xfrm>
            <a:off x="1928880" y="121428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0"/>
          <p:cNvSpPr/>
          <p:nvPr/>
        </p:nvSpPr>
        <p:spPr>
          <a:xfrm>
            <a:off x="2928960" y="1214280"/>
            <a:ext cx="42876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1"/>
          <p:cNvSpPr/>
          <p:nvPr/>
        </p:nvSpPr>
        <p:spPr>
          <a:xfrm>
            <a:off x="4071960" y="1214280"/>
            <a:ext cx="42876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2"/>
          <p:cNvSpPr/>
          <p:nvPr/>
        </p:nvSpPr>
        <p:spPr>
          <a:xfrm>
            <a:off x="5357880" y="121428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7215120" y="1428840"/>
            <a:ext cx="10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5"/>
          <p:cNvSpPr/>
          <p:nvPr/>
        </p:nvSpPr>
        <p:spPr>
          <a:xfrm>
            <a:off x="5786280" y="2643120"/>
            <a:ext cx="42876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6"/>
          <p:cNvSpPr/>
          <p:nvPr/>
        </p:nvSpPr>
        <p:spPr>
          <a:xfrm>
            <a:off x="4500720" y="264312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7"/>
          <p:cNvSpPr/>
          <p:nvPr/>
        </p:nvSpPr>
        <p:spPr>
          <a:xfrm>
            <a:off x="3357720" y="264312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8"/>
          <p:cNvSpPr/>
          <p:nvPr/>
        </p:nvSpPr>
        <p:spPr>
          <a:xfrm>
            <a:off x="1928880" y="264312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7715160" y="2857680"/>
            <a:ext cx="17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7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5500800" y="4071960"/>
            <a:ext cx="20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22"/>
          <p:cNvSpPr/>
          <p:nvPr/>
        </p:nvSpPr>
        <p:spPr>
          <a:xfrm>
            <a:off x="2071800" y="392904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23"/>
          <p:cNvSpPr/>
          <p:nvPr/>
        </p:nvSpPr>
        <p:spPr>
          <a:xfrm>
            <a:off x="4000680" y="392904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714240" y="521496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Arial"/>
              </a:rPr>
              <a:t>300 ● 4 + 150 ● 4 = 1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1714680" y="1785960"/>
            <a:ext cx="6215040" cy="378612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 flipH="1">
            <a:off x="4500720" y="1785960"/>
            <a:ext cx="1440" cy="378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 flipH="1">
            <a:off x="6714720" y="1785960"/>
            <a:ext cx="1800" cy="378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2934720" y="121428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220720" y="121428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6864120" y="121428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720360" y="350028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2654640" y="285840"/>
            <a:ext cx="46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ачный уча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3867480" y="550080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 =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429000" y="557208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 =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ru-RU" sz="5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4"/>
          <p:cNvSpPr/>
          <p:nvPr/>
        </p:nvSpPr>
        <p:spPr>
          <a:xfrm>
            <a:off x="1785960" y="171468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 + b + c) ● d =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714240" y="300024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a ● d + b ● d + c ● 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857160" y="857160"/>
            <a:ext cx="75726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 ● 3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 ● (300 + 20 +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● 30 + 156 ●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 ● 300 + 156 ● 20 + 156 ●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14" descr=""/>
          <p:cNvPicPr/>
          <p:nvPr/>
        </p:nvPicPr>
        <p:blipFill>
          <a:blip r:embed="rId1"/>
          <a:stretch/>
        </p:blipFill>
        <p:spPr>
          <a:xfrm>
            <a:off x="1700280" y="2779560"/>
            <a:ext cx="49752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4"/>
          <p:cNvSpPr/>
          <p:nvPr/>
        </p:nvSpPr>
        <p:spPr>
          <a:xfrm>
            <a:off x="2008440" y="1500120"/>
            <a:ext cx="145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4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789200" y="2214720"/>
            <a:ext cx="44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009120" y="1500120"/>
            <a:ext cx="145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14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5718240" y="2214720"/>
            <a:ext cx="44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714240" y="64296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38 №4 (верхняя строка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5:27:39Z</dcterms:created>
  <dc:creator>Admin</dc:creator>
  <dc:description/>
  <dc:language>en-US</dc:language>
  <cp:lastModifiedBy>8 школа</cp:lastModifiedBy>
  <dcterms:modified xsi:type="dcterms:W3CDTF">2014-04-24T12:11:09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39991</vt:lpwstr>
  </property>
</Properties>
</file>