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502-B081-4901-BA82-4059BB4E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375-3C89-475D-8075-0779F93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DF4-90F8-4CCE-842E-5A4C1FCA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323-03A9-4FC3-AF7E-79BB7274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F91-A01A-40A2-B227-FFBBFF11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6CB-3286-418E-A944-0A632EC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093-5F26-4155-A77E-FE7A3A2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EA9-8550-4346-839E-5F71DA9E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FD00-FD02-469A-BE37-EF9E1F7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67D6-AA92-46D7-952D-88561570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69FB-1313-4A87-809E-A4E0F00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A25-243D-44A9-AB93-962B5F4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9EDA-F978-4BEB-97B4-3538A4F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1091-8393-4B90-B0C5-E8AC173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0DF-4B25-4598-9E88-4F32D06F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28E0-15CD-4483-8EB8-3BEAD5C4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085-F34C-443E-BDD2-45C63D9F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9EE-37B7-4D6F-9A1D-1766404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865-F9D7-4C35-BB3E-417B064A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A7B-4905-497A-B8F4-2BEB520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D73-E7BA-49B3-90F0-BF4ACDDC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681-9492-43D6-BC0E-66FAF1A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8C5-0131-472C-A1AE-0A18C1D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46A-B147-49B3-B64E-737CE77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B44-B33E-4654-84BD-6BCF90A95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2D6-E0AB-4729-B04F-FE5E2D5D0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iCA4SS68A.jpg"/>
          <p:cNvPicPr/>
          <p:nvPr/>
        </p:nvPicPr>
        <p:blipFill>
          <a:blip r:embed="rId1"/>
          <a:stretch/>
        </p:blipFill>
        <p:spPr>
          <a:xfrm>
            <a:off x="2786040" y="3143160"/>
            <a:ext cx="3143160" cy="3441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7" descr=""/>
          <p:cNvPicPr/>
          <p:nvPr/>
        </p:nvPicPr>
        <p:blipFill>
          <a:blip r:embed="rId2"/>
          <a:stretch/>
        </p:blipFill>
        <p:spPr>
          <a:xfrm>
            <a:off x="182520" y="1268280"/>
            <a:ext cx="87123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224360" y="71424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omic Sans MS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79520" y="1857240"/>
            <a:ext cx="395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63 ● 28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4240" y="3429000"/>
            <a:ext cx="44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046 ● 75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985480" y="100008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omic Sans MS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373400" y="1857240"/>
            <a:ext cx="2210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28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7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1926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54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519160" y="1785960"/>
            <a:ext cx="254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7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1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2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7322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886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003040" y="235728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074960" y="4000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146280" y="242892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504040" y="4071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14240" y="64296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6 (а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0040" y="2428920"/>
          <a:ext cx="6480360" cy="2425680"/>
        </p:xfrm>
        <a:graphic>
          <a:graphicData uri="http://schemas.openxmlformats.org/drawingml/2006/table">
            <a:tbl>
              <a:tblPr/>
              <a:tblGrid>
                <a:gridCol w="2160720"/>
                <a:gridCol w="2158920"/>
                <a:gridCol w="21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Правая фигурная скобка 3"/>
          <p:cNvSpPr/>
          <p:nvPr/>
        </p:nvSpPr>
        <p:spPr>
          <a:xfrm>
            <a:off x="7143840" y="3571920"/>
            <a:ext cx="357120" cy="9288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647120" y="3786120"/>
            <a:ext cx="48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270440" y="24289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332520" y="24289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643720" y="24289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935280" y="342900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007800" y="335772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935280" y="414324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007800" y="41432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789880" y="3429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5861160" y="4214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460960" y="785880"/>
            <a:ext cx="49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70320" y="2071800"/>
            <a:ext cx="72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4 (нижняя строка); с. 38 №6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iCA4SS68A.jpg"/>
          <p:cNvPicPr/>
          <p:nvPr/>
        </p:nvPicPr>
        <p:blipFill>
          <a:blip r:embed="rId1"/>
          <a:stretch/>
        </p:blipFill>
        <p:spPr>
          <a:xfrm>
            <a:off x="928800" y="1143000"/>
            <a:ext cx="3849480" cy="42148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" descr=""/>
          <p:cNvPicPr/>
          <p:nvPr/>
        </p:nvPicPr>
        <p:blipFill>
          <a:blip r:embed="rId2"/>
          <a:stretch/>
        </p:blipFill>
        <p:spPr>
          <a:xfrm>
            <a:off x="3206880" y="523800"/>
            <a:ext cx="55720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Box 2" descr=""/>
          <p:cNvPicPr/>
          <p:nvPr/>
        </p:nvPicPr>
        <p:blipFill>
          <a:blip r:embed="rId1"/>
          <a:stretch/>
        </p:blipFill>
        <p:spPr>
          <a:xfrm>
            <a:off x="853920" y="165240"/>
            <a:ext cx="7083720" cy="196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rcRect l="0" t="0" r="4129" b="0"/>
          <a:stretch/>
        </p:blipFill>
        <p:spPr>
          <a:xfrm>
            <a:off x="2857680" y="2214720"/>
            <a:ext cx="3357360" cy="36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85880" y="1428840"/>
            <a:ext cx="72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6 ● 6 + 4) : 25 ● 1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71680" y="285768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480 – 15 ● 2) : 15 ● 9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42960" y="4143240"/>
            <a:ext cx="50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300 + 150) ●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9"/>
          <p:cNvSpPr/>
          <p:nvPr/>
        </p:nvSpPr>
        <p:spPr>
          <a:xfrm>
            <a:off x="1928880" y="121428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0"/>
          <p:cNvSpPr/>
          <p:nvPr/>
        </p:nvSpPr>
        <p:spPr>
          <a:xfrm>
            <a:off x="2928960" y="121428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4071960" y="121428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5357880" y="121428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215120" y="142884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5"/>
          <p:cNvSpPr/>
          <p:nvPr/>
        </p:nvSpPr>
        <p:spPr>
          <a:xfrm>
            <a:off x="5786280" y="2643120"/>
            <a:ext cx="42876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6"/>
          <p:cNvSpPr/>
          <p:nvPr/>
        </p:nvSpPr>
        <p:spPr>
          <a:xfrm>
            <a:off x="450072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335772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8"/>
          <p:cNvSpPr/>
          <p:nvPr/>
        </p:nvSpPr>
        <p:spPr>
          <a:xfrm>
            <a:off x="1928880" y="264312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7715160" y="28576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5500800" y="40719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22"/>
          <p:cNvSpPr/>
          <p:nvPr/>
        </p:nvSpPr>
        <p:spPr>
          <a:xfrm>
            <a:off x="2071800" y="392904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3"/>
          <p:cNvSpPr/>
          <p:nvPr/>
        </p:nvSpPr>
        <p:spPr>
          <a:xfrm>
            <a:off x="4000680" y="3929040"/>
            <a:ext cx="428400" cy="4287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714240" y="521496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300 ● 4 + 150 ● 4 = 1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714680" y="1785960"/>
            <a:ext cx="6215040" cy="378612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 flipH="1">
            <a:off x="4500720" y="1785960"/>
            <a:ext cx="1440" cy="378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 flipH="1">
            <a:off x="6714720" y="1785960"/>
            <a:ext cx="1800" cy="378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9347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2207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6864120" y="1214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720360" y="350028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654640" y="285840"/>
            <a:ext cx="46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чный уча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3867480" y="550080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 =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429000" y="55720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 =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ru-RU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1785960" y="171468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 + b + c) ● d =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714240" y="300024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 ● d + b ● d + c ● 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857160" y="857160"/>
            <a:ext cx="75726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3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(300 + 20 +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● 30 + 156 ●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 ● 300 + 156 ● 20 + 156 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4" descr=""/>
          <p:cNvPicPr/>
          <p:nvPr/>
        </p:nvPicPr>
        <p:blipFill>
          <a:blip r:embed="rId1"/>
          <a:stretch/>
        </p:blipFill>
        <p:spPr>
          <a:xfrm>
            <a:off x="1700280" y="2779560"/>
            <a:ext cx="4975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2008440" y="1500120"/>
            <a:ext cx="145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789200" y="2214720"/>
            <a:ext cx="4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009120" y="1500120"/>
            <a:ext cx="145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1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718240" y="2214720"/>
            <a:ext cx="4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14240" y="64296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38 №4 (верхняя строка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27:39Z</dcterms:created>
  <dc:creator>Admin</dc:creator>
  <dc:description/>
  <dc:language>en-US</dc:language>
  <cp:lastModifiedBy>8 школа</cp:lastModifiedBy>
  <dcterms:modified xsi:type="dcterms:W3CDTF">2014-04-24T12:11:09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39991</vt:lpwstr>
  </property>
</Properties>
</file>