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9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29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38.jpeg" ContentType="image/jpe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244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10"/>
          </p:nvPr>
        </p:nvSpPr>
        <p:spPr>
          <a:xfrm>
            <a:off x="3870360" y="0"/>
            <a:ext cx="296208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923400" y="747720"/>
            <a:ext cx="499140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11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E3E7B9FC-6AA3-4B53-83A2-610261D07A0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6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8557B4DC-460C-4F87-897C-5538ABB3A27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6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9B5F31F0-8477-451C-B297-2D28DB9EB0A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 «Начальная школа ХХ1 века» создан авторским коллективом , сотрудниками Центра начального образования Института содержания и методов обучения Российской академии образования, под руководством доктора педагогических наук, профессора, члена-корреспондента РАО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тальи Федоровны Виноградов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6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43613184-3DF9-4009-8015-59093447B9A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B6058B02-CE3E-45E4-8B2D-26711BA99E3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82B-E9CF-446C-90EF-D137AC8A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246-945A-40C5-AA82-D1332E66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1808-0CC1-4A67-86CB-18385AC8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77A57-B041-4996-A4FE-25A16EBD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BE73-69BC-442E-A199-ADDAF834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43B8-D0DB-4015-A4A3-D6137A93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CA87-388C-4608-95E8-2ACE934B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0721-7343-4ADC-82BA-29B2E7B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B9FB-D4B0-412E-90AF-E87B5ED1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84C6-BC82-4EDB-976D-99C2967F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0B83-8AB3-4633-AE6D-4E687070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E77-43E0-43ED-9E51-87351EB7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F29-C5F1-4DE4-811E-C73A666C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1A5-72EC-4CF9-AA3D-CD2E8032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444-DCF4-4131-98FA-EF3CDF07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F6F-9110-40E7-9235-BE7B3AA7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0C0-11B7-4664-8992-D0576BE0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28E-3E06-42B4-AA24-F9CA4B87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74D-26DF-4F07-A6F4-C0F69425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D2C-56F8-48B0-A63E-E6AB0411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D832-4826-4FA0-A58D-EB580D1A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8BE7-62BB-4383-BA11-1E9F8A04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A296-94C6-4EC9-8188-E96A595F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8FBB-428F-4277-8DFA-026B7FF4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8E8D-E7D6-471F-9B0B-A5072D77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5A5-57AC-4C93-99AE-1707CA0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BF81-0BE4-4B17-B7D5-1C65CEB2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9359-E1F0-4287-96EA-6E54C4A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A71-765D-45C6-A9E2-6E0A4E7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A624-188C-4D61-98AA-433DA53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EFE1-212E-435B-91B0-D697989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4B21-7664-41A7-B5CD-2AE90293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94AE-B786-43B4-B944-5CC2BAD1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8DE86-D5DA-4C0A-AA65-6AB1140A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92BB-7CF8-4D3C-994A-894BE94D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9550-0175-4236-9A7F-2E1B4DC9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A053-17AD-43A9-BDCE-02C28F683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F4D3-7A24-4AD0-B766-F10B8A58C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F8B1-875C-417F-9EBD-48D008433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2410920" y="1557360"/>
            <a:ext cx="6589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astellar"/>
              </a:rPr>
              <a:t>«НАЧАЛЬНАЯ ШКОЛА </a:t>
            </a:r>
            <a:r>
              <a:rPr b="1" i="1" lang="en-US" sz="4400" spc="-1" strike="noStrike">
                <a:solidFill>
                  <a:srgbClr val="c00000"/>
                </a:solidFill>
                <a:latin typeface="Castellar"/>
              </a:rPr>
              <a:t>XXI</a:t>
            </a:r>
            <a:r>
              <a:rPr b="1" i="1" lang="ru-RU" sz="4400" spc="-1" strike="noStrike">
                <a:solidFill>
                  <a:srgbClr val="c00000"/>
                </a:solidFill>
                <a:latin typeface="Castellar"/>
              </a:rPr>
              <a:t> ВЕКА» - 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школа новых образовательных  стандартов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363" name="Picture 9" descr=""/>
          <p:cNvPicPr/>
          <p:nvPr/>
        </p:nvPicPr>
        <p:blipFill>
          <a:blip r:embed="rId1"/>
          <a:stretch/>
        </p:blipFill>
        <p:spPr>
          <a:xfrm>
            <a:off x="7737480" y="4724280"/>
            <a:ext cx="14065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3"/>
          <p:cNvSpPr/>
          <p:nvPr/>
        </p:nvSpPr>
        <p:spPr>
          <a:xfrm>
            <a:off x="4143240" y="642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7" descr="Букварь. 1 класс. Учебник. В 2-х частях. Часть 1 + вкладыш"/>
          <p:cNvPicPr/>
          <p:nvPr/>
        </p:nvPicPr>
        <p:blipFill>
          <a:blip r:embed="rId1"/>
          <a:stretch/>
        </p:blipFill>
        <p:spPr>
          <a:xfrm>
            <a:off x="179280" y="1268280"/>
            <a:ext cx="2222640" cy="270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Рисунок 8" descr="Букварь. 1 класс. Учебник. В 2-х частях. Часть 2"/>
          <p:cNvPicPr/>
          <p:nvPr/>
        </p:nvPicPr>
        <p:blipFill>
          <a:blip r:embed="rId2"/>
          <a:stretch/>
        </p:blipFill>
        <p:spPr>
          <a:xfrm>
            <a:off x="1835280" y="2492280"/>
            <a:ext cx="2147760" cy="27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Прямоугольник 7"/>
          <p:cNvSpPr/>
          <p:nvPr/>
        </p:nvSpPr>
        <p:spPr>
          <a:xfrm>
            <a:off x="539640" y="115920"/>
            <a:ext cx="631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Обучение грамоте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2" descr="Прописи. 1 класс. Рабочая тетрадь. В 3-х частях. Часть 1"/>
          <p:cNvPicPr/>
          <p:nvPr/>
        </p:nvPicPr>
        <p:blipFill>
          <a:blip r:embed="rId3"/>
          <a:stretch/>
        </p:blipFill>
        <p:spPr>
          <a:xfrm>
            <a:off x="4284720" y="1268280"/>
            <a:ext cx="1909800" cy="25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Рисунок 10" descr="Прописи. 1 класс. Рабочая тетрадь. В 3-х частях. Часть 2"/>
          <p:cNvPicPr/>
          <p:nvPr/>
        </p:nvPicPr>
        <p:blipFill>
          <a:blip r:embed="rId4"/>
          <a:stretch/>
        </p:blipFill>
        <p:spPr>
          <a:xfrm>
            <a:off x="5292720" y="3141720"/>
            <a:ext cx="1871640" cy="24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1" name="Рисунок 11" descr="Прописи. 1 класс. Рабочая тетрадь. В 3-х частях. Часть 3"/>
          <p:cNvPicPr/>
          <p:nvPr/>
        </p:nvPicPr>
        <p:blipFill>
          <a:blip r:embed="rId5"/>
          <a:stretch/>
        </p:blipFill>
        <p:spPr>
          <a:xfrm>
            <a:off x="6875640" y="3573360"/>
            <a:ext cx="1847520" cy="24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" name="Рисунок 6" descr="Учимся писать печатные буквы. 1 класс. Рабочая тетрадь"/>
          <p:cNvPicPr/>
          <p:nvPr/>
        </p:nvPicPr>
        <p:blipFill>
          <a:blip r:embed="rId6"/>
          <a:stretch/>
        </p:blipFill>
        <p:spPr>
          <a:xfrm>
            <a:off x="6875640" y="189000"/>
            <a:ext cx="1979280" cy="25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"/>
          <p:cNvSpPr/>
          <p:nvPr/>
        </p:nvSpPr>
        <p:spPr>
          <a:xfrm>
            <a:off x="395280" y="333720"/>
            <a:ext cx="8497800" cy="4115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Задачи курса «Обучения грамот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формирование общих представлений о слове и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формирование действий звукового анали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формирование навыка чтения и пис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развитие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4143240" y="642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539640" y="189000"/>
            <a:ext cx="631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Русский  язык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4" descr="Русский язык. Учебник. 1 класс"/>
          <p:cNvPicPr/>
          <p:nvPr/>
        </p:nvPicPr>
        <p:blipFill>
          <a:blip r:embed="rId1"/>
          <a:stretch/>
        </p:blipFill>
        <p:spPr>
          <a:xfrm>
            <a:off x="826920" y="1268280"/>
            <a:ext cx="282924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Picture 3" descr="Русский язык. 1 класс. Рабочая тетрадь. Часть 1"/>
          <p:cNvPicPr/>
          <p:nvPr/>
        </p:nvPicPr>
        <p:blipFill>
          <a:blip r:embed="rId2"/>
          <a:stretch/>
        </p:blipFill>
        <p:spPr>
          <a:xfrm>
            <a:off x="4211640" y="1413000"/>
            <a:ext cx="2641680" cy="328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Picture 4" descr="Русский язык. 1 класс. Рабочая тетрадь. Часть 2"/>
          <p:cNvPicPr/>
          <p:nvPr/>
        </p:nvPicPr>
        <p:blipFill>
          <a:blip r:embed="rId3"/>
          <a:stretch/>
        </p:blipFill>
        <p:spPr>
          <a:xfrm>
            <a:off x="6227640" y="2205000"/>
            <a:ext cx="2678400" cy="33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324000" y="993960"/>
            <a:ext cx="8569080" cy="4055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Русский язы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ет задачу развития младшего школьника, раскрытия перед ним особенностей родного языка, привития любви и интереса к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рс состоит из трёх блоков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Как устроен наш язы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Правопис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Развитие реч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3714840" y="1928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4"/>
          <p:cNvSpPr/>
          <p:nvPr/>
        </p:nvSpPr>
        <p:spPr>
          <a:xfrm>
            <a:off x="539640" y="189000"/>
            <a:ext cx="6480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Литературное чтение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13" descr="Литературное чтение. Учебник. 1 класс"/>
          <p:cNvPicPr/>
          <p:nvPr/>
        </p:nvPicPr>
        <p:blipFill>
          <a:blip r:embed="rId1"/>
          <a:stretch/>
        </p:blipFill>
        <p:spPr>
          <a:xfrm>
            <a:off x="250920" y="1197000"/>
            <a:ext cx="2498760" cy="31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3" name="Рисунок 14" descr="Литературное чтение. Рабочая тетрадь. 1 класс"/>
          <p:cNvPicPr/>
          <p:nvPr/>
        </p:nvPicPr>
        <p:blipFill>
          <a:blip r:embed="rId2"/>
          <a:stretch/>
        </p:blipFill>
        <p:spPr>
          <a:xfrm>
            <a:off x="2340000" y="2492280"/>
            <a:ext cx="2449440" cy="300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2" descr="Литературное чтение: уроки слушания. 1 класс. Учебная хрестоматия для учащихся общеобразовательных учреждений"/>
          <p:cNvPicPr/>
          <p:nvPr/>
        </p:nvPicPr>
        <p:blipFill>
          <a:blip r:embed="rId3"/>
          <a:stretch/>
        </p:blipFill>
        <p:spPr>
          <a:xfrm>
            <a:off x="5076720" y="1197000"/>
            <a:ext cx="248616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5" name="Picture 2" descr="Литературное чтение. 1 класс. Уроки слушания. Рабочая тетрадь к учебной хрестоматии"/>
          <p:cNvPicPr/>
          <p:nvPr/>
        </p:nvPicPr>
        <p:blipFill>
          <a:blip r:embed="rId4"/>
          <a:stretch/>
        </p:blipFill>
        <p:spPr>
          <a:xfrm>
            <a:off x="6588000" y="3213000"/>
            <a:ext cx="2347920" cy="297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395280" y="652680"/>
            <a:ext cx="8280360" cy="4177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Литературное чтение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спешно решает задачу углубления интереса к чтению и литерату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Литературное слуш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дея курса в углублении процесса восприятия художественного произведения, поддержке и развитии интереса к чтению в тот период, когда школьник ещё недостаточно владеет навыком самостоятельного чтения (1-ый год обуч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3"/>
          <p:cNvSpPr/>
          <p:nvPr/>
        </p:nvSpPr>
        <p:spPr>
          <a:xfrm>
            <a:off x="684360" y="115920"/>
            <a:ext cx="662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Математика 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16" descr="Математика. Учебник. 1 класс. В 2-х частях. Часть 2"/>
          <p:cNvPicPr/>
          <p:nvPr/>
        </p:nvPicPr>
        <p:blipFill>
          <a:blip r:embed="rId1"/>
          <a:stretch/>
        </p:blipFill>
        <p:spPr>
          <a:xfrm>
            <a:off x="1908000" y="2276640"/>
            <a:ext cx="2203560" cy="28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9" name="Рисунок 17" descr="Математика. Рабочая тетрадь. 1 класс. Часть 1"/>
          <p:cNvPicPr/>
          <p:nvPr/>
        </p:nvPicPr>
        <p:blipFill>
          <a:blip r:embed="rId2"/>
          <a:stretch/>
        </p:blipFill>
        <p:spPr>
          <a:xfrm>
            <a:off x="4427640" y="1125360"/>
            <a:ext cx="2124000" cy="299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0" name="Рисунок 18" descr="Математика. Рабочая тетрадь. 1 класс. Часть 2"/>
          <p:cNvPicPr/>
          <p:nvPr/>
        </p:nvPicPr>
        <p:blipFill>
          <a:blip r:embed="rId3"/>
          <a:stretch/>
        </p:blipFill>
        <p:spPr>
          <a:xfrm>
            <a:off x="5724360" y="2133720"/>
            <a:ext cx="2141640" cy="31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1" name="Рисунок 19" descr="Математика. Рабочая тетрадь. 1 класс. Часть 3"/>
          <p:cNvPicPr/>
          <p:nvPr/>
        </p:nvPicPr>
        <p:blipFill>
          <a:blip r:embed="rId4"/>
          <a:stretch/>
        </p:blipFill>
        <p:spPr>
          <a:xfrm>
            <a:off x="6732720" y="3284640"/>
            <a:ext cx="2178000" cy="313992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5" descr="Математика. Учебник. 1 класс. В 2-х частях. Часть 1"/>
          <p:cNvPicPr/>
          <p:nvPr/>
        </p:nvPicPr>
        <p:blipFill>
          <a:blip r:embed="rId5"/>
          <a:stretch/>
        </p:blipFill>
        <p:spPr>
          <a:xfrm>
            <a:off x="250920" y="1125360"/>
            <a:ext cx="2090520" cy="26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468360" y="1578600"/>
            <a:ext cx="8496360" cy="2104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Математи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атематическое развитие, формирование познавательного интереса к изучению математики и основ лог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3"/>
          <p:cNvSpPr/>
          <p:nvPr/>
        </p:nvSpPr>
        <p:spPr>
          <a:xfrm>
            <a:off x="684360" y="115920"/>
            <a:ext cx="662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Окружающий мир 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 и учебн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1" descr="Окружающий мир. Учебник. 1 класс. Часть 1"/>
          <p:cNvPicPr/>
          <p:nvPr/>
        </p:nvPicPr>
        <p:blipFill>
          <a:blip r:embed="rId1"/>
          <a:stretch/>
        </p:blipFill>
        <p:spPr>
          <a:xfrm>
            <a:off x="250920" y="1268280"/>
            <a:ext cx="246672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Рисунок 22" descr="Окружающий мир. Учебник. 1 класс. Часть 2"/>
          <p:cNvPicPr/>
          <p:nvPr/>
        </p:nvPicPr>
        <p:blipFill>
          <a:blip r:embed="rId2"/>
          <a:stretch/>
        </p:blipFill>
        <p:spPr>
          <a:xfrm>
            <a:off x="2268360" y="2276640"/>
            <a:ext cx="2449800" cy="30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Рисунок 23" descr="Окружающий мир. 1 класс. Рабочая тетрадь"/>
          <p:cNvPicPr/>
          <p:nvPr/>
        </p:nvPicPr>
        <p:blipFill>
          <a:blip r:embed="rId3"/>
          <a:stretch/>
        </p:blipFill>
        <p:spPr>
          <a:xfrm>
            <a:off x="5651640" y="1557360"/>
            <a:ext cx="2544480" cy="334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250920" y="838080"/>
            <a:ext cx="8569080" cy="3567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«Окружающий мир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урс обеспечивает развитие личности ребенка, школьник начинает осознавать связи человека со средой обитания, учится организовывать свою деятельность в природе, культуре, истории  родной страны, осознать ее особенности и индивидуаль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928880" y="642960"/>
            <a:ext cx="721512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лект учебно-методических пособий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н коллективом авторов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 начальной школы  ИСМО РАО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 руководством   доктора педагогических наук, профессора, члена- корреспондента РАО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тальи Федоровны Виноградовой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365" name="Picture 3" descr="vinograd"/>
          <p:cNvPicPr/>
          <p:nvPr/>
        </p:nvPicPr>
        <p:blipFill>
          <a:blip r:embed="rId1"/>
          <a:stretch/>
        </p:blipFill>
        <p:spPr>
          <a:xfrm>
            <a:off x="6156360" y="3716280"/>
            <a:ext cx="24480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"/>
          <p:cNvSpPr/>
          <p:nvPr/>
        </p:nvSpPr>
        <p:spPr>
          <a:xfrm>
            <a:off x="611280" y="260280"/>
            <a:ext cx="66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чие тетради для дифференцированного обучения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20" descr="Математика. Я учусь считать. Рабочая тетрадь. 1 класс"/>
          <p:cNvPicPr/>
          <p:nvPr/>
        </p:nvPicPr>
        <p:blipFill>
          <a:blip r:embed="rId1"/>
          <a:stretch/>
        </p:blipFill>
        <p:spPr>
          <a:xfrm>
            <a:off x="5508720" y="1484280"/>
            <a:ext cx="294624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1" name="Picture 4" descr="5"/>
          <p:cNvPicPr/>
          <p:nvPr/>
        </p:nvPicPr>
        <p:blipFill>
          <a:blip r:embed="rId2"/>
          <a:stretch/>
        </p:blipFill>
        <p:spPr>
          <a:xfrm>
            <a:off x="1908000" y="1484280"/>
            <a:ext cx="3017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5"/>
          <p:cNvSpPr txBox="1"/>
          <p:nvPr/>
        </p:nvSpPr>
        <p:spPr>
          <a:xfrm>
            <a:off x="3060720" y="1413000"/>
            <a:ext cx="579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6730920" y="3860640"/>
            <a:ext cx="14050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5840" y="514368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Monotype Corsiva"/>
              </a:rPr>
              <a:t>Приоритетные цели «Начальной школы </a:t>
            </a:r>
            <a:r>
              <a:rPr b="1" lang="en-US" sz="2000" spc="-1" strike="noStrike">
                <a:solidFill>
                  <a:srgbClr val="3333ff"/>
                </a:solidFill>
                <a:latin typeface="Monotype Corsiva"/>
              </a:rPr>
              <a:t>XXI</a:t>
            </a:r>
            <a:r>
              <a:rPr b="1" lang="ru-RU" sz="2000" spc="-1" strike="noStrike">
                <a:solidFill>
                  <a:srgbClr val="3333ff"/>
                </a:solidFill>
                <a:latin typeface="Monotype Corsiva"/>
              </a:rPr>
              <a:t> века»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179280" y="1268280"/>
            <a:ext cx="8353440" cy="141768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Целостное гармоничное развитие личности школьни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рмирование общих способностей и эрудиции в соответств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индивидуальными возможностями и особенностями кажд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468360" y="2997360"/>
            <a:ext cx="8567640" cy="1981080"/>
          </a:xfrm>
          <a:prstGeom prst="rect">
            <a:avLst/>
          </a:prstGeom>
          <a:solidFill>
            <a:srgbClr val="c3d69b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новление элементарной культуры деяте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владение основными компонентами учебной деятельнос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ием принимать учебную задач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ять учебные оп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ить контроль и самоконтроль, оценку и самооценку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755640" y="5300640"/>
            <a:ext cx="8278920" cy="1352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рмирование готовности к самообразованию, определён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ровень познавательной культуры и познавате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нтересов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1619280" y="549360"/>
            <a:ext cx="554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2268360" y="907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0"/>
          <p:cNvSpPr/>
          <p:nvPr/>
        </p:nvSpPr>
        <p:spPr>
          <a:xfrm>
            <a:off x="226836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2050920" y="476280"/>
            <a:ext cx="446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1403280" y="189000"/>
            <a:ext cx="54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Приоритетные цели </a:t>
            </a:r>
            <a:br>
              <a:rPr sz="3200"/>
            </a:b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«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Начальной школы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Monotype Corsiva"/>
              </a:rPr>
              <a:t>XXI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 века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4"/>
          <p:cNvSpPr/>
          <p:nvPr/>
        </p:nvSpPr>
        <p:spPr>
          <a:xfrm>
            <a:off x="1692360" y="620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84000" y="228240"/>
            <a:ext cx="66596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doni MT Black"/>
              </a:rPr>
              <a:t>В основе комплекта</a:t>
            </a: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«Начальная школа </a:t>
            </a:r>
            <a:r>
              <a:rPr b="1" i="1" lang="en-US" sz="2800" spc="-1" strike="noStrike">
                <a:solidFill>
                  <a:srgbClr val="000000"/>
                </a:solidFill>
                <a:latin typeface="Segoe Script"/>
              </a:rPr>
              <a:t>XXI</a:t>
            </a: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 века</a:t>
            </a: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», </a:t>
            </a:r>
            <a:r>
              <a:rPr b="1" i="1" lang="ru-RU" sz="2800" spc="-1" strike="noStrike">
                <a:solidFill>
                  <a:srgbClr val="000000"/>
                </a:solidFill>
                <a:latin typeface="Bodoni MT Black"/>
              </a:rPr>
              <a:t>лежит идея личностного обучения, которая предполагает: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77" name="Cloud"/>
          <p:cNvSpPr/>
          <p:nvPr/>
        </p:nvSpPr>
        <p:spPr>
          <a:xfrm>
            <a:off x="838080" y="2057400"/>
            <a:ext cx="7315200" cy="4038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хранность и поддержка индивидуальност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loud"/>
          <p:cNvSpPr/>
          <p:nvPr/>
        </p:nvSpPr>
        <p:spPr>
          <a:xfrm rot="21333600">
            <a:off x="304560" y="2285640"/>
            <a:ext cx="8229600" cy="388620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едоставление возможности каждому ребенку работать в присущем ему тем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loud"/>
          <p:cNvSpPr/>
          <p:nvPr/>
        </p:nvSpPr>
        <p:spPr>
          <a:xfrm>
            <a:off x="457200" y="2514600"/>
            <a:ext cx="8458200" cy="3429000"/>
          </a:xfrm>
          <a:prstGeom prst="pi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язательна успешность деятельности каждого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loud"/>
          <p:cNvSpPr/>
          <p:nvPr/>
        </p:nvSpPr>
        <p:spPr>
          <a:xfrm>
            <a:off x="990720" y="2590920"/>
            <a:ext cx="7467480" cy="3281400"/>
          </a:xfrm>
          <a:prstGeom prst="pi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учение в зоне ближайше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loud"/>
          <p:cNvSpPr/>
          <p:nvPr/>
        </p:nvSpPr>
        <p:spPr>
          <a:xfrm>
            <a:off x="1447920" y="2895480"/>
            <a:ext cx="7696080" cy="29052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доставление прав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loud"/>
          <p:cNvSpPr/>
          <p:nvPr/>
        </p:nvSpPr>
        <p:spPr>
          <a:xfrm>
            <a:off x="1752480" y="2692440"/>
            <a:ext cx="7391520" cy="34020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возможности реализации творческих способностей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loud"/>
          <p:cNvSpPr/>
          <p:nvPr/>
        </p:nvSpPr>
        <p:spPr>
          <a:xfrm rot="21091800">
            <a:off x="1294920" y="3276360"/>
            <a:ext cx="7351920" cy="2987640"/>
          </a:xfrm>
          <a:prstGeom prst="pi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мократический стиль взаимо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3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3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50920" y="5516640"/>
            <a:ext cx="5184720" cy="720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«Начальная школа ХХ</a:t>
            </a:r>
            <a:r>
              <a:rPr b="1" lang="en-US" sz="3200" spc="-1" strike="noStrike">
                <a:solidFill>
                  <a:srgbClr val="000066"/>
                </a:solidFill>
                <a:latin typeface="Monotype Corsiva"/>
              </a:rPr>
              <a:t>I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 века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95280" y="33336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ff"/>
                </a:solidFill>
                <a:latin typeface="Monotype Corsiva"/>
              </a:rPr>
              <a:t>Технология обучения построен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ff"/>
                </a:solidFill>
                <a:latin typeface="Monotype Corsiva"/>
              </a:rPr>
              <a:t>на целенаправленном использовании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5280" y="1773360"/>
            <a:ext cx="2819520" cy="144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ру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356000" y="1989000"/>
            <a:ext cx="236232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иск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88000" y="3789360"/>
            <a:ext cx="2057400" cy="144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ч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 rot="20932200">
            <a:off x="1331640" y="3715920"/>
            <a:ext cx="431640" cy="1511280"/>
          </a:xfrm>
          <a:prstGeom prst="upDownArrow">
            <a:avLst>
              <a:gd name="adj1" fmla="val 50000"/>
              <a:gd name="adj2" fmla="val 69701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 rot="20691000">
            <a:off x="5003280" y="4652640"/>
            <a:ext cx="1584360" cy="433440"/>
          </a:xfrm>
          <a:prstGeom prst="leftRightArrow">
            <a:avLst>
              <a:gd name="adj1" fmla="val 50000"/>
              <a:gd name="adj2" fmla="val 72768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 rot="18924600">
            <a:off x="2987640" y="4220640"/>
            <a:ext cx="1584360" cy="433440"/>
          </a:xfrm>
          <a:prstGeom prst="leftRightArrow">
            <a:avLst>
              <a:gd name="adj1" fmla="val 50000"/>
              <a:gd name="adj2" fmla="val 72768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611280" y="0"/>
            <a:ext cx="8280360" cy="652464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91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рующая деятельность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85920" y="980640"/>
            <a:ext cx="7400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бёнок учится не глазами и ушами, а руками. Это главная закономерность технологии УМК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ход от репродуктивного обучения (сначала правило, а потом натаскивание на применение этого правила). Ребёнок все возможные действия осуществляет путём моделирования. На этом построены все предметы – и математика, и русский язык, и окружающий мир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/>
          <p:cNvSpPr/>
          <p:nvPr/>
        </p:nvSpPr>
        <p:spPr>
          <a:xfrm>
            <a:off x="539640" y="115920"/>
            <a:ext cx="8353440" cy="590544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9293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Поисковая деятельность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258920" y="990720"/>
            <a:ext cx="758016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программах резко снижено значение готового образца, определяющего всю деятельность школьника. Так как необходимо учитывать, что ребёнок – это личность, и навязывать ему ничего нельзя. Он должен всё принять. А принять он может только в поиск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 руководством учителя ученик выстраивает алгоритм решения учебной задачи. Это формирует способ действия, понимание учебных операций, учебных действий, а это даёт возможность расширить содержани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54831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Кто главный в обучении –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учитель или ученик?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2771640" y="1341360"/>
            <a:ext cx="5977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у предоставляется право выбора способа пути деятельности. Его участие не в принятии готового образца, а высказывании предположений, гипотез, коллективном обсу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а выбора делает обучение сознательным, продуктивным и более результ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– равноправный участник обучения. Наравне с учителем он участвует в контроле и оцен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1769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Основной метод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в начальном обучении - игра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4800600" y="4114800"/>
            <a:ext cx="37339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1619280" y="1341360"/>
            <a:ext cx="6121440" cy="2374920"/>
          </a:xfrm>
          <a:prstGeom prst="downArrowCallout">
            <a:avLst>
              <a:gd name="adj1" fmla="val 37163"/>
              <a:gd name="adj2" fmla="val 37171"/>
              <a:gd name="adj3" fmla="val 16667"/>
              <a:gd name="adj4" fmla="val 76736"/>
            </a:avLst>
          </a:prstGeom>
          <a:gradFill rotWithShape="0">
            <a:gsLst>
              <a:gs pos="0">
                <a:srgbClr val="00ffff"/>
              </a:gs>
              <a:gs pos="100000">
                <a:srgbClr val="00fcfc">
                  <a:alpha val="4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олевая иг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бные предметы располагают усло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ля организации театрализован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южетной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763640" y="3716280"/>
            <a:ext cx="59040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бенок сам распоряжа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ятой на себя ролью, устанавливает правила игры и взаимоотношения с партнерами, развертывает сюжет и заканчивает его по своему реш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468360" y="6019920"/>
            <a:ext cx="8447040" cy="6094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aec5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Именно ролевая игра способствует развитию воображе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творческого мышления, коммуникативных ум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39:44Z</dcterms:created>
  <dc:creator>SamLab.ws</dc:creator>
  <dc:description>Корпорация Майкрософт</dc:description>
  <cp:keywords>Фотоальбом</cp:keywords>
  <dc:language>en-US</dc:language>
  <cp:lastModifiedBy>RePack by Diakov</cp:lastModifiedBy>
  <dcterms:modified xsi:type="dcterms:W3CDTF">2017-11-24T17:03:37Z</dcterms:modified>
  <cp:revision>155</cp:revision>
  <dc:subject>Фотоальбом</dc:subject>
  <dc:title>CОДЕРЖАНИЕ      НАЧАЛЬНОГО ОБРАЗОВАНИЯ  в ООУ г. Железногорс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