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10"/>
          </p:nvPr>
        </p:nvSpPr>
        <p:spPr>
          <a:xfrm>
            <a:off x="3870360" y="0"/>
            <a:ext cx="296208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923400" y="747720"/>
            <a:ext cx="499140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11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FFF18D96-4A8B-4C84-9DD7-F5D00A2F0C7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68C161FE-E055-4345-993F-F1CDABC84E6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8BBB1E85-6266-49CD-BE90-09C57B61C59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 «Начальная школа ХХ1 века» создан авторским коллективом , сотрудниками Центра начального образования Института содержания и методов обучения Российской академии образования, под руководством доктора педагогических наук, профессора, члена-корреспондента РАО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тальи Федоровны Виноградов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4F0DBF4-2CE9-4DDB-89E2-AF4D21EB9FF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C485979C-83D9-4F4D-BB52-7F630C0D94E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486-7EDF-498F-8506-6995695A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B1B-1389-4722-B485-FD306FD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9586-C7EA-4EB3-BB69-76CB997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6A45-A419-436B-8450-9DF935B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8B51-3884-4F93-8CD9-4241C5F2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C7B9-38ED-4D1A-B113-789BF9C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6C53-3AE9-444B-9DF2-A11CCA2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7E39-08FC-46B2-B166-0BC34F4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A12A-C165-4F51-8AE9-2DDE8C7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16DB-699B-45C6-83FD-308649CB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0A26-D266-49D4-A300-B8612E9B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997-481F-430E-ACC6-F77AC212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A38-FB2C-409D-A450-5F5BCBAC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90B-8923-4E5C-8889-4614A5B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C13-FEB9-4F82-BB3F-D76390E1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C31-2B22-43BB-9D1C-6FB8878C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CE9-C9E6-4503-BB52-E97EABF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49F-5930-47FB-B7E1-E842AE52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822-D754-433D-816F-BDFEF1C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30B-F7C2-405D-8CB7-019146F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D97-B641-4F52-86CE-B24E411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D72-5961-4408-ACC3-5098BEE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19C-F251-48F4-B736-6BB09B8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CDD6-4D39-4C88-ACCF-6289DA6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E7AF-1328-4967-9CEC-30D6A6C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CE9-6305-4442-9E74-877381B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48FB-104B-4502-9CA4-EBEE005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CE71-0698-4719-9FFA-A54949F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66D-C7FA-4165-A3A4-27458F07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F62-4E78-409C-B771-746EDFC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892A-8E30-45EB-9E8E-E4A441A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D1B-B1F0-48C4-BADA-D161AFD9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7CA0-9771-45D4-9276-74640118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C6A2-14D2-46BC-B706-F232F8E3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0BA4-9C8D-4268-9E05-12B74C1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DC11-9DEE-4428-BFC5-2CF61BFF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482-17CF-4229-8268-208162DE9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4AA-9E22-4F57-A040-9AEF50C31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0DF-422C-46CC-B993-137263783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410920" y="1557360"/>
            <a:ext cx="658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stellar"/>
              </a:rPr>
              <a:t>«НАЧАЛЬНАЯ ШКОЛА </a:t>
            </a:r>
            <a:r>
              <a:rPr b="1" i="1" lang="en-US" sz="4400" spc="-1" strike="noStrike">
                <a:solidFill>
                  <a:srgbClr val="c00000"/>
                </a:solidFill>
                <a:latin typeface="Castellar"/>
              </a:rPr>
              <a:t>XXI</a:t>
            </a:r>
            <a:r>
              <a:rPr b="1" i="1" lang="ru-RU" sz="4400" spc="-1" strike="noStrike">
                <a:solidFill>
                  <a:srgbClr val="c00000"/>
                </a:solidFill>
                <a:latin typeface="Castellar"/>
              </a:rPr>
              <a:t> ВЕКА» - 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школа новых образовательных  стандартов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63" name="Picture 9" descr=""/>
          <p:cNvPicPr/>
          <p:nvPr/>
        </p:nvPicPr>
        <p:blipFill>
          <a:blip r:embed="rId1"/>
          <a:stretch/>
        </p:blipFill>
        <p:spPr>
          <a:xfrm>
            <a:off x="7737480" y="4724280"/>
            <a:ext cx="14065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3"/>
          <p:cNvSpPr/>
          <p:nvPr/>
        </p:nvSpPr>
        <p:spPr>
          <a:xfrm>
            <a:off x="4143240" y="642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Букварь. 1 класс. Учебник. В 2-х частях. Часть 1 + вкладыш"/>
          <p:cNvPicPr/>
          <p:nvPr/>
        </p:nvPicPr>
        <p:blipFill>
          <a:blip r:embed="rId1"/>
          <a:stretch/>
        </p:blipFill>
        <p:spPr>
          <a:xfrm>
            <a:off x="179280" y="1268280"/>
            <a:ext cx="2222640" cy="27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Рисунок 8" descr="Букварь. 1 класс. Учебник. В 2-х частях. Часть 2"/>
          <p:cNvPicPr/>
          <p:nvPr/>
        </p:nvPicPr>
        <p:blipFill>
          <a:blip r:embed="rId2"/>
          <a:stretch/>
        </p:blipFill>
        <p:spPr>
          <a:xfrm>
            <a:off x="1835280" y="2492280"/>
            <a:ext cx="214776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Прямоугольник 7"/>
          <p:cNvSpPr/>
          <p:nvPr/>
        </p:nvSpPr>
        <p:spPr>
          <a:xfrm>
            <a:off x="539640" y="115920"/>
            <a:ext cx="631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Обучение грамоте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2" descr="Прописи. 1 класс. Рабочая тетрадь. В 3-х частях. Часть 1"/>
          <p:cNvPicPr/>
          <p:nvPr/>
        </p:nvPicPr>
        <p:blipFill>
          <a:blip r:embed="rId3"/>
          <a:stretch/>
        </p:blipFill>
        <p:spPr>
          <a:xfrm>
            <a:off x="4284720" y="1268280"/>
            <a:ext cx="190980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Рисунок 10" descr="Прописи. 1 класс. Рабочая тетрадь. В 3-х частях. Часть 2"/>
          <p:cNvPicPr/>
          <p:nvPr/>
        </p:nvPicPr>
        <p:blipFill>
          <a:blip r:embed="rId4"/>
          <a:stretch/>
        </p:blipFill>
        <p:spPr>
          <a:xfrm>
            <a:off x="5292720" y="3141720"/>
            <a:ext cx="1871640" cy="24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Рисунок 11" descr="Прописи. 1 класс. Рабочая тетрадь. В 3-х частях. Часть 3"/>
          <p:cNvPicPr/>
          <p:nvPr/>
        </p:nvPicPr>
        <p:blipFill>
          <a:blip r:embed="rId5"/>
          <a:stretch/>
        </p:blipFill>
        <p:spPr>
          <a:xfrm>
            <a:off x="6875640" y="3573360"/>
            <a:ext cx="1847520" cy="24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" name="Рисунок 6" descr="Учимся писать печатные буквы. 1 класс. Рабочая тетрадь"/>
          <p:cNvPicPr/>
          <p:nvPr/>
        </p:nvPicPr>
        <p:blipFill>
          <a:blip r:embed="rId6"/>
          <a:stretch/>
        </p:blipFill>
        <p:spPr>
          <a:xfrm>
            <a:off x="6875640" y="189000"/>
            <a:ext cx="1979280" cy="25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"/>
          <p:cNvSpPr/>
          <p:nvPr/>
        </p:nvSpPr>
        <p:spPr>
          <a:xfrm>
            <a:off x="395280" y="333720"/>
            <a:ext cx="8497800" cy="4115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Задачи курса «Обучения грамо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общих представлений о слове и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действий звукового 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навыка чтения и пис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развитие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4143240" y="642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539640" y="189000"/>
            <a:ext cx="631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Русский  язык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4" descr="Русский язык. Учебник. 1 класс"/>
          <p:cNvPicPr/>
          <p:nvPr/>
        </p:nvPicPr>
        <p:blipFill>
          <a:blip r:embed="rId1"/>
          <a:stretch/>
        </p:blipFill>
        <p:spPr>
          <a:xfrm>
            <a:off x="826920" y="1268280"/>
            <a:ext cx="282924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Picture 3" descr="Русский язык. 1 класс. Рабочая тетрадь. Часть 1"/>
          <p:cNvPicPr/>
          <p:nvPr/>
        </p:nvPicPr>
        <p:blipFill>
          <a:blip r:embed="rId2"/>
          <a:stretch/>
        </p:blipFill>
        <p:spPr>
          <a:xfrm>
            <a:off x="4211640" y="1413000"/>
            <a:ext cx="2641680" cy="32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Picture 4" descr="Русский язык. 1 класс. Рабочая тетрадь. Часть 2"/>
          <p:cNvPicPr/>
          <p:nvPr/>
        </p:nvPicPr>
        <p:blipFill>
          <a:blip r:embed="rId3"/>
          <a:stretch/>
        </p:blipFill>
        <p:spPr>
          <a:xfrm>
            <a:off x="6227640" y="2205000"/>
            <a:ext cx="267840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324000" y="993960"/>
            <a:ext cx="8569080" cy="4055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Русский язы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ет задачу развития младшего школьника, раскрытия перед ним особенностей родного языка, привития любви и интереса к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рс состоит из трёх блоков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Как устроен наш язы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Правопис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Развитие реч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3714840" y="1928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539640" y="189000"/>
            <a:ext cx="648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Литературное чтение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13" descr="Литературное чтение. Учебник. 1 класс"/>
          <p:cNvPicPr/>
          <p:nvPr/>
        </p:nvPicPr>
        <p:blipFill>
          <a:blip r:embed="rId1"/>
          <a:stretch/>
        </p:blipFill>
        <p:spPr>
          <a:xfrm>
            <a:off x="250920" y="1197000"/>
            <a:ext cx="2498760" cy="31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Рисунок 14" descr="Литературное чтение. Рабочая тетрадь. 1 класс"/>
          <p:cNvPicPr/>
          <p:nvPr/>
        </p:nvPicPr>
        <p:blipFill>
          <a:blip r:embed="rId2"/>
          <a:stretch/>
        </p:blipFill>
        <p:spPr>
          <a:xfrm>
            <a:off x="2340000" y="2492280"/>
            <a:ext cx="24494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2" descr="Литературное чтение: уроки слушания. 1 класс. Учебная хрестоматия для учащихся общеобразовательных учреждений"/>
          <p:cNvPicPr/>
          <p:nvPr/>
        </p:nvPicPr>
        <p:blipFill>
          <a:blip r:embed="rId3"/>
          <a:stretch/>
        </p:blipFill>
        <p:spPr>
          <a:xfrm>
            <a:off x="5076720" y="1197000"/>
            <a:ext cx="248616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Picture 2" descr="Литературное чтение. 1 класс. Уроки слушания. Рабочая тетрадь к учебной хрестоматии"/>
          <p:cNvPicPr/>
          <p:nvPr/>
        </p:nvPicPr>
        <p:blipFill>
          <a:blip r:embed="rId4"/>
          <a:stretch/>
        </p:blipFill>
        <p:spPr>
          <a:xfrm>
            <a:off x="6588000" y="3213000"/>
            <a:ext cx="2347920" cy="29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395280" y="652680"/>
            <a:ext cx="8280360" cy="417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Литературное чтени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спешно решает задачу углубления интереса к чтению и литера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Литературное слуш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дея курса в углублении процесса восприятия художественного произведения, поддержке и развитии интереса к чтению в тот период, когда школьник ещё недостаточно владеет навыком самостоятельного чтения (1-ый год обуч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3"/>
          <p:cNvSpPr/>
          <p:nvPr/>
        </p:nvSpPr>
        <p:spPr>
          <a:xfrm>
            <a:off x="684360" y="115920"/>
            <a:ext cx="662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Математика 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16" descr="Математика. Учебник. 1 класс. В 2-х частях. Часть 2"/>
          <p:cNvPicPr/>
          <p:nvPr/>
        </p:nvPicPr>
        <p:blipFill>
          <a:blip r:embed="rId1"/>
          <a:stretch/>
        </p:blipFill>
        <p:spPr>
          <a:xfrm>
            <a:off x="1908000" y="2276640"/>
            <a:ext cx="220356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Рисунок 17" descr="Математика. Рабочая тетрадь. 1 класс. Часть 1"/>
          <p:cNvPicPr/>
          <p:nvPr/>
        </p:nvPicPr>
        <p:blipFill>
          <a:blip r:embed="rId2"/>
          <a:stretch/>
        </p:blipFill>
        <p:spPr>
          <a:xfrm>
            <a:off x="4427640" y="1125360"/>
            <a:ext cx="2124000" cy="299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0" name="Рисунок 18" descr="Математика. Рабочая тетрадь. 1 класс. Часть 2"/>
          <p:cNvPicPr/>
          <p:nvPr/>
        </p:nvPicPr>
        <p:blipFill>
          <a:blip r:embed="rId3"/>
          <a:stretch/>
        </p:blipFill>
        <p:spPr>
          <a:xfrm>
            <a:off x="5724360" y="2133720"/>
            <a:ext cx="2141640" cy="31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1" name="Рисунок 19" descr="Математика. Рабочая тетрадь. 1 класс. Часть 3"/>
          <p:cNvPicPr/>
          <p:nvPr/>
        </p:nvPicPr>
        <p:blipFill>
          <a:blip r:embed="rId4"/>
          <a:stretch/>
        </p:blipFill>
        <p:spPr>
          <a:xfrm>
            <a:off x="6732720" y="3284640"/>
            <a:ext cx="2178000" cy="31399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5" descr="Математика. Учебник. 1 класс. В 2-х частях. Часть 1"/>
          <p:cNvPicPr/>
          <p:nvPr/>
        </p:nvPicPr>
        <p:blipFill>
          <a:blip r:embed="rId5"/>
          <a:stretch/>
        </p:blipFill>
        <p:spPr>
          <a:xfrm>
            <a:off x="250920" y="1125360"/>
            <a:ext cx="2090520" cy="26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68360" y="1578600"/>
            <a:ext cx="849636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Математи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атематическое развитие, формирование познавательного интереса к изучению математики и основ лог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3"/>
          <p:cNvSpPr/>
          <p:nvPr/>
        </p:nvSpPr>
        <p:spPr>
          <a:xfrm>
            <a:off x="684360" y="115920"/>
            <a:ext cx="662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Окружающий мир 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1" descr="Окружающий мир. Учебник. 1 класс. Часть 1"/>
          <p:cNvPicPr/>
          <p:nvPr/>
        </p:nvPicPr>
        <p:blipFill>
          <a:blip r:embed="rId1"/>
          <a:stretch/>
        </p:blipFill>
        <p:spPr>
          <a:xfrm>
            <a:off x="250920" y="1268280"/>
            <a:ext cx="246672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Рисунок 22" descr="Окружающий мир. Учебник. 1 класс. Часть 2"/>
          <p:cNvPicPr/>
          <p:nvPr/>
        </p:nvPicPr>
        <p:blipFill>
          <a:blip r:embed="rId2"/>
          <a:stretch/>
        </p:blipFill>
        <p:spPr>
          <a:xfrm>
            <a:off x="2268360" y="2276640"/>
            <a:ext cx="2449800" cy="30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Рисунок 23" descr="Окружающий мир. 1 класс. Рабочая тетрадь"/>
          <p:cNvPicPr/>
          <p:nvPr/>
        </p:nvPicPr>
        <p:blipFill>
          <a:blip r:embed="rId3"/>
          <a:stretch/>
        </p:blipFill>
        <p:spPr>
          <a:xfrm>
            <a:off x="5651640" y="1557360"/>
            <a:ext cx="2544480" cy="33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250920" y="838080"/>
            <a:ext cx="8569080" cy="3567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Окружающий мир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урс обеспечивает развитие личности ребенка, школьник начинает осознавать связи человека со средой обитания, учится организовывать свою деятельность в природе, культуре, истории  родной страны, осознать ее особенности и индивидуа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928880" y="642960"/>
            <a:ext cx="721512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 учебно-методических пособий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 коллективом авторов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 начальной школы  ИСМО РАО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 руководством   доктора педагогических наук, профессора, члена- корреспондента РАО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тальи Федоровны Виноградовой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65" name="Picture 3" descr="vinograd"/>
          <p:cNvPicPr/>
          <p:nvPr/>
        </p:nvPicPr>
        <p:blipFill>
          <a:blip r:embed="rId1"/>
          <a:stretch/>
        </p:blipFill>
        <p:spPr>
          <a:xfrm>
            <a:off x="6156360" y="3716280"/>
            <a:ext cx="2448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611280" y="260280"/>
            <a:ext cx="66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чие тетради для дифференцированного обучени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20" descr="Математика. Я учусь считать. Рабочая тетрадь. 1 класс"/>
          <p:cNvPicPr/>
          <p:nvPr/>
        </p:nvPicPr>
        <p:blipFill>
          <a:blip r:embed="rId1"/>
          <a:stretch/>
        </p:blipFill>
        <p:spPr>
          <a:xfrm>
            <a:off x="5508720" y="1484280"/>
            <a:ext cx="294624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Picture 4" descr="5"/>
          <p:cNvPicPr/>
          <p:nvPr/>
        </p:nvPicPr>
        <p:blipFill>
          <a:blip r:embed="rId2"/>
          <a:stretch/>
        </p:blipFill>
        <p:spPr>
          <a:xfrm>
            <a:off x="1908000" y="1484280"/>
            <a:ext cx="3017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5"/>
          <p:cNvSpPr txBox="1"/>
          <p:nvPr/>
        </p:nvSpPr>
        <p:spPr>
          <a:xfrm>
            <a:off x="3060720" y="1413000"/>
            <a:ext cx="579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730920" y="3860640"/>
            <a:ext cx="14050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5840" y="514368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Monotype Corsiva"/>
              </a:rPr>
              <a:t>Приоритетные цели «Начальной школы </a:t>
            </a:r>
            <a:r>
              <a:rPr b="1" lang="en-US" sz="2000" spc="-1" strike="noStrike">
                <a:solidFill>
                  <a:srgbClr val="3333ff"/>
                </a:solidFill>
                <a:latin typeface="Monotype Corsiva"/>
              </a:rPr>
              <a:t>XXI</a:t>
            </a:r>
            <a:r>
              <a:rPr b="1" lang="ru-RU" sz="2000" spc="-1" strike="noStrike">
                <a:solidFill>
                  <a:srgbClr val="3333ff"/>
                </a:solidFill>
                <a:latin typeface="Monotype Corsiva"/>
              </a:rPr>
              <a:t> века»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179280" y="1268280"/>
            <a:ext cx="8353440" cy="14176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остное гармоничное развитие личности школьни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общих способностей и эрудиции в соответств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индивидуальными возможностями и особенностями кажд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68360" y="2997360"/>
            <a:ext cx="8567640" cy="1981080"/>
          </a:xfrm>
          <a:prstGeom prst="rect">
            <a:avLst/>
          </a:prstGeom>
          <a:solidFill>
            <a:srgbClr val="c3d69b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новление элементарной культуры деяте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владение основными компонентами учебной деятель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ем принимать учебную зада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ть учебные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ить контроль и самоконтроль, оценку и самооценку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755640" y="5300640"/>
            <a:ext cx="8278920" cy="1352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готовности к самообразованию, определён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ровень познавательной культуры и познава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тересов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1619280" y="549360"/>
            <a:ext cx="55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2268360" y="907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226836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2050920" y="476280"/>
            <a:ext cx="446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1403280" y="189000"/>
            <a:ext cx="54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Приоритетные цели </a:t>
            </a:r>
            <a:br>
              <a:rPr sz="3200"/>
            </a:b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Начальной школы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Monotype Corsiva"/>
              </a:rPr>
              <a:t>XXI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 века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1692360" y="620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84000" y="228240"/>
            <a:ext cx="66596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doni MT Black"/>
              </a:rPr>
              <a:t>В основе комплекта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«Начальная школа </a:t>
            </a:r>
            <a:r>
              <a:rPr b="1" i="1" lang="en-US" sz="2800" spc="-1" strike="noStrike">
                <a:solidFill>
                  <a:srgbClr val="000000"/>
                </a:solidFill>
                <a:latin typeface="Segoe Script"/>
              </a:rPr>
              <a:t>XXI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 века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», </a:t>
            </a:r>
            <a:r>
              <a:rPr b="1" i="1" lang="ru-RU" sz="2800" spc="-1" strike="noStrike">
                <a:solidFill>
                  <a:srgbClr val="000000"/>
                </a:solidFill>
                <a:latin typeface="Bodoni MT Black"/>
              </a:rPr>
              <a:t>лежит идея личностного обучения, которая предполагает: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7" name="Cloud"/>
          <p:cNvSpPr/>
          <p:nvPr/>
        </p:nvSpPr>
        <p:spPr>
          <a:xfrm>
            <a:off x="838080" y="2057400"/>
            <a:ext cx="7315200" cy="403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хранность и поддержка индивидуаль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 rot="21333600">
            <a:off x="304560" y="2285640"/>
            <a:ext cx="8229600" cy="388620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едоставление возможности каждому ребенку работать в присущем ему тем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loud"/>
          <p:cNvSpPr/>
          <p:nvPr/>
        </p:nvSpPr>
        <p:spPr>
          <a:xfrm>
            <a:off x="457200" y="2514600"/>
            <a:ext cx="8458200" cy="342900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язательна успешность деятельности каждо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loud"/>
          <p:cNvSpPr/>
          <p:nvPr/>
        </p:nvSpPr>
        <p:spPr>
          <a:xfrm>
            <a:off x="990720" y="2590920"/>
            <a:ext cx="7467480" cy="3281400"/>
          </a:xfrm>
          <a:prstGeom prst="pi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учение в зоне ближайше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loud"/>
          <p:cNvSpPr/>
          <p:nvPr/>
        </p:nvSpPr>
        <p:spPr>
          <a:xfrm>
            <a:off x="1447920" y="2895480"/>
            <a:ext cx="7696080" cy="29052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оставление прав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loud"/>
          <p:cNvSpPr/>
          <p:nvPr/>
        </p:nvSpPr>
        <p:spPr>
          <a:xfrm>
            <a:off x="1752480" y="2692440"/>
            <a:ext cx="7391520" cy="34020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озможности реализации творческих способностей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 rot="21091800">
            <a:off x="1294920" y="3276360"/>
            <a:ext cx="7351920" cy="2987640"/>
          </a:xfrm>
          <a:prstGeom prst="pi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кратический стиль взаимо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920" y="5516640"/>
            <a:ext cx="5184720" cy="720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«Начальная школа ХХ</a:t>
            </a:r>
            <a:r>
              <a:rPr b="1" lang="en-US" sz="3200" spc="-1" strike="noStrike">
                <a:solidFill>
                  <a:srgbClr val="000066"/>
                </a:solidFill>
                <a:latin typeface="Monotype Corsiva"/>
              </a:rPr>
              <a:t>I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95280" y="33336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ff"/>
                </a:solidFill>
                <a:latin typeface="Monotype Corsiva"/>
              </a:rPr>
              <a:t>Технология обучения построен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ff"/>
                </a:solidFill>
                <a:latin typeface="Monotype Corsiva"/>
              </a:rPr>
              <a:t>на целенаправленном использовани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5280" y="1773360"/>
            <a:ext cx="281952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ру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356000" y="1989000"/>
            <a:ext cx="236232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иск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88000" y="3789360"/>
            <a:ext cx="205740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 rot="20932200">
            <a:off x="1331640" y="3715920"/>
            <a:ext cx="431640" cy="1511280"/>
          </a:xfrm>
          <a:prstGeom prst="upDownArrow">
            <a:avLst>
              <a:gd name="adj1" fmla="val 50000"/>
              <a:gd name="adj2" fmla="val 6970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 rot="20691000">
            <a:off x="5003280" y="4652640"/>
            <a:ext cx="1584360" cy="433440"/>
          </a:xfrm>
          <a:prstGeom prst="leftRightArrow">
            <a:avLst>
              <a:gd name="adj1" fmla="val 50000"/>
              <a:gd name="adj2" fmla="val 72768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 rot="18924600">
            <a:off x="2987640" y="4220640"/>
            <a:ext cx="1584360" cy="433440"/>
          </a:xfrm>
          <a:prstGeom prst="leftRightArrow">
            <a:avLst>
              <a:gd name="adj1" fmla="val 50000"/>
              <a:gd name="adj2" fmla="val 72768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611280" y="0"/>
            <a:ext cx="8280360" cy="6524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91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рующая деятельность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85920" y="980640"/>
            <a:ext cx="7400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бёнок учится не глазами и ушами, а руками. Это главная закономерность технологии УМК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ход от репродуктивного обучения (сначала правило, а потом натаскивание на применение этого правила). Ребёнок все возможные действия осуществляет путём моделирования. На этом построены все предметы – и математика, и русский язык, и окружающий мир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539640" y="115920"/>
            <a:ext cx="8353440" cy="59054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9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Поисковая деятельность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58920" y="990720"/>
            <a:ext cx="758016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ах резко снижено значение готового образца, определяющего всю деятельность школьника. Так как необходимо учитывать, что ребёнок – это личность, и навязывать ему ничего нельзя. Он должен всё принять. А принять он может только в поиск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 руководством учителя ученик выстраивает алгоритм решения учебной задачи. Это формирует способ действия, понимание учебных операций, учебных действий, а это даёт возможность расширить содержани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54831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то главный в обучении –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учитель или ученик?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2771640" y="1341360"/>
            <a:ext cx="5977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у предоставляется право выбора способа пути деятельности. Его участие не в принятии готового образца, а высказывании предположений, гипотез, коллективном обсу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выбора делает обучение сознательным, продуктивным и более результ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– равноправный участник обучения. Наравне с учителем он участвует в контроле и 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1769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Основной метод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в начальном обучении - игра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4800600" y="4114800"/>
            <a:ext cx="37339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1619280" y="1341360"/>
            <a:ext cx="6121440" cy="2374920"/>
          </a:xfrm>
          <a:prstGeom prst="downArrowCallout">
            <a:avLst>
              <a:gd name="adj1" fmla="val 37163"/>
              <a:gd name="adj2" fmla="val 37171"/>
              <a:gd name="adj3" fmla="val 16667"/>
              <a:gd name="adj4" fmla="val 76736"/>
            </a:avLst>
          </a:prstGeom>
          <a:gradFill rotWithShape="0">
            <a:gsLst>
              <a:gs pos="0">
                <a:srgbClr val="00ffff"/>
              </a:gs>
              <a:gs pos="100000">
                <a:srgbClr val="00fcfc">
                  <a:alpha val="4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левая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бные предметы располагают усло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ля организации театрализован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южетной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763640" y="3716280"/>
            <a:ext cx="59040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енок сам распоряжа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ятой на себя ролью, устанавливает правила игры и взаимоотношения с партнерами, развертывает сюжет и заканчивает его по своему реш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468360" y="6019920"/>
            <a:ext cx="8447040" cy="6094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aec5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Именно ролевая игра способствует развитию воображ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творческого мышления, коммуникативных ум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39:44Z</dcterms:created>
  <dc:creator>SamLab.ws</dc:creator>
  <dc:description>Корпорация Майкрософт</dc:description>
  <cp:keywords>Фотоальбом</cp:keywords>
  <dc:language>en-US</dc:language>
  <cp:lastModifiedBy>RePack by Diakov</cp:lastModifiedBy>
  <dcterms:modified xsi:type="dcterms:W3CDTF">2017-11-24T17:03:37Z</dcterms:modified>
  <cp:revision>155</cp:revision>
  <dc:subject>Фотоальбом</dc:subject>
  <dc:title>CОДЕРЖАНИЕ      НАЧАЛЬНОГО ОБРАЗОВАНИЯ  в ООУ г. Железногорс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