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440-D331-48AF-89AE-DE137996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366-23F3-48B1-9313-B7651B8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68A-74C3-47EC-835E-835803F6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44A-ECAA-4EA9-965B-67F8E084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A27-98B0-4606-A3FB-207231DA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4D6-3DB1-4DF4-9D02-C939C29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E19-9D6A-4026-B441-A6C10EC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631-C1B8-4CB5-99C4-5548AAB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9A5-08C6-4166-96ED-82B5D3C3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4C5-1997-405E-8235-9C26794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88E-6D34-4AC2-B84D-B737F2C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22B-71DE-45D8-96DB-A2F8DA8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017-A55F-4A94-AF19-165C227CA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0908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Современные образовательные технологи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ГКОУ РО «Колушкинская специальная школа-интерна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ишкалова С.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4000" y="-133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ИКТ  расширяет возможность соблюдения основных  принципов коррекционного образования: от сохранного к нарушенному, многократность повторений (при изучении нового материала на уроках математики всегда идет повторение или опора на ранее изученный материал, что предполагает использование большого количества таблиц, схем и т.д., а использование ИКТ  позволяет заменить их  1-2  слайдами), выполнение действий по образцу, коррекция психологических функц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79280" y="1332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бучении в коррекционной школе  большое значение имеют наглядные методы обучения, что хорошо реализуется при использовании ИКТ. Кроме этого, применение ИКТ позволя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егулировать темп предъявления информации в соответствии с возможностями школьников с интеллектуальной недостаточность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егулировать объем информации, что способствует лучшему усвоению материа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ключать задания, тесты, вопросы, дидактические игры разного уровня сложности, что способствует актуализации имеющихся знаний, закреплению и обобщению полученных в ходе урока сведений, осуществляя индивидуальный подх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50920" y="55800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 случае затруднений  есть возможность неоднократного возвращения  к нужному слайду (для уточнения, получения подсказки в виде разъяснения или выбора варианта отве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уществлять самопроверку при показе на экране правиль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уществлять коррекцию речи обучающихся, что облегчает работу с основными понятиями и словарными словами. Усваивая и запоминая специальную терминологию, школьники с интеллектуальной недостаточностью  пополняют свой словарный зап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4000" y="285120"/>
            <a:ext cx="86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мся при работе с мультимедийной учебной презентацией  отводится активная роль: опираясь на зрительные образы конкретных объектов  и явлений, дети с интеллектуальной недостаточностью под руководством учителя учатся сравнивать, анализировать, выделять главное, делать обобщения. Таким образом, учитель сможет  организовать единый процесс развития образного восприятия и мыслительной деятельности обучаю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Здоровьесберегающие технолог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 (или их элементы) являются обязательным условием при организации учебно-воспитательного процесса в школе. Для повышения работоспособности, предупреждения преждевременного утомления, снятия мышечного напряжения на уроках математики провожу физкультминутки, зарядки для глаз. При проведении урока планирую частую смену видов деятельности (норма 4-7 видов) и их продолжительность (не более 7-10 минут), контроль за правильной рабочей поз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50920" y="56232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й составляющей является психологический климат на уроке, включающий наличие внешней (похвала, поддержка) и стимуляция внутренней (стремление больше узнать, интерес к изучаемому материалу) мотивации, наличие эмоциональных разрядок (шуточная задача, небольшое стихотворение, известные высказывания, уместная шутка  и др.), а также взаимоотношения между «учитель-ученик», «ученик – учени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-96840"/>
            <a:ext cx="8642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итаю, что использование современных образовательных технологий обеспечивает гибкость образовательного процесса, повышает познавательный интерес учащихся, способствует коррекции их недостатков развития, творческой активности. Благодаря внедрению в образовательный процесс современных технологий обучения дети с ограниченными возможностями здоровья имеют больший шанс приобрести необходимые умения и навыки для дальнейшей жизни и успешной адаптации в обществе, повысить уровень мотивации к обучен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549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матика в коррекционной школе решает одну из важных специфических задач обучения школьников с нарушением интеллекта – преодоление недостатков их познавательной деятельности. Изучение математики направлено на формирование определенного типа мышления, развитие познавательных способностей, формирование и коррекцию операций сравнения, анализа, синтеза, обобщения и конкретизации; на создание условий для коррекции памяти, внимания и других психических проц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95280" y="8528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, так как именно эти процессы у обучающихся коррекционных школ развиты слабо, математика, как учебный предмет дается им с большим трудом. Поэтому нужно найти такие методы и приемы, которые смогли бы увлечь детей, сделать процесс обучения  интересным. Одним из возможных путей повышения эффективности и результативности учебно-воспитательного процесса является использование современных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395280" y="26028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«технология» происходит от греческих слов – искусство, мастерство и - учение. Поэтому термин «педагогическая технология» в буквальном переводе означает учение о педагогическом искусстве, мастерстве. Исходя из этого, можно выделить современные технологии, элемен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озможно применять на уроках в коррекционной школе VIII вид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технология разноуровнево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коррекционно - развивающи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технология проблемно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метод про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личностно-ориентированное обуч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.игровы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7.информационно-коммуникационны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нравственная технолог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.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Игровые техн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981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ые технологии способствуют повышению познавательного интереса, развитию мышления; способствуют применению знаний в новой ситуации: являются естественной формой труда ребенка, а также способствуют объединению коллектива и формированию ответственности.  Вовлечение обучающихся в игру позволяет достичь эффекта раскрепощения, умения принимать решения, общ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24000" y="246960"/>
            <a:ext cx="849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ами игровых технологий на уроках математики могут бы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Задания на развитие внимания, памяти, мышления, воображения («Цепочка», «Пирамида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дания на смекалку, сообразительность, классификацию, сравнение, обобщение («Убери лишнее вычисление», «Исправь ошибки», «Найди лишнее слово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Задания на установление взаимосвязей и соответствий («Найди правильный ответ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24000" y="69480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дидактическая игра на уроках пополняет, углубляет и расширяет знания, является средством всестороннего развития ребёнка, его умственных, интеллектуальных и творческих способностей, вызывать положительные эмоции, наполнять жизнь коллектива учащихся интересным содержанием, способствовать самоутверждению ребё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 (ИКТ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 технологии в коррекционной школе приобретают ценность как мощное  и эффективное  средство  коррекционного  воздействия; как помощник в освоении нового, развитии мотивации, один из  способов  социализации, что особенно актуально в условиях школы-интерн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-</cp:lastModifiedBy>
  <dcterms:modified xsi:type="dcterms:W3CDTF">2018-03-23T10:01:33Z</dcterms:modified>
  <cp:revision>68</cp:revision>
  <dc:subject/>
  <dc:title>Слайд 1</dc:title>
</cp:coreProperties>
</file>