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7D276-5114-4131-8169-FD466C414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72C27-B37F-4371-9FFA-7BA4EB1BD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7F911-4C15-4A28-8FC1-709FABBD3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233DB-7AD4-4659-A02D-6C80F852A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B1DAF-6623-4611-9B87-1B05C2DAE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52B1F-ABF5-4B2C-ADC2-F44530157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6DA1F-958C-4286-8B3A-355A93BE0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2E552-E848-4EA3-84F4-37D3CF401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87D0A-E462-41B0-B2A2-8A25BB0A7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C2E1F-BFF9-4E6B-B3F7-B9A6CB94F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10EB5-647F-4ACE-B328-3FC4D4269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35524-F57E-4D92-954E-5ECD35161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478CC-18FC-47F5-831C-8837BAF6E01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280" y="549360"/>
            <a:ext cx="8209080" cy="273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00000"/>
                </a:solidFill>
                <a:latin typeface="Times New Roman"/>
              </a:rPr>
              <a:t>Современные образовательные технологии на уроках математики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26920" y="4076280"/>
            <a:ext cx="4816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Подготовила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учитель математики ГКОУ РО «Колушкинская специальная школа-интернат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Шишкалова С.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1"/>
          <p:cNvSpPr/>
          <p:nvPr/>
        </p:nvSpPr>
        <p:spPr>
          <a:xfrm>
            <a:off x="324000" y="-133200"/>
            <a:ext cx="842472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менение ИКТ  расширяет возможность соблюдения основных  принципов коррекционного образования: от сохранного к нарушенному, многократность повторений (при изучении нового материала на уроках математики всегда идет повторение или опора на ранее изученный материал, что предполагает использование большого количества таблиц, схем и т.д., а использование ИКТ  позволяет заменить их  1-2  слайдами), выполнение действий по образцу, коррекция психологических функций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"/>
          <p:cNvSpPr/>
          <p:nvPr/>
        </p:nvSpPr>
        <p:spPr>
          <a:xfrm>
            <a:off x="179280" y="13320"/>
            <a:ext cx="871380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и обучении в коррекционной школе  большое значение имеют наглядные методы обучения, что хорошо реализуется при использовании ИКТ. Кроме этого, применение ИКТ позволяет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 регулировать темп предъявления информации в соответствии с возможностями школьников с интеллектуальной недостаточностью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 регулировать объем информации, что способствует лучшему усвоению материала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 включать задания, тесты, вопросы, дидактические игры разного уровня сложности, что способствует актуализации имеющихся знаний, закреплению и обобщению полученных в ходе урока сведений, осуществляя индивидуальный подход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1"/>
          <p:cNvSpPr/>
          <p:nvPr/>
        </p:nvSpPr>
        <p:spPr>
          <a:xfrm>
            <a:off x="250920" y="558000"/>
            <a:ext cx="864216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 в случае затруднений  есть возможность неоднократного возвращения  к нужному слайду (для уточнения, получения подсказки в виде разъяснения или выбора варианта ответа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 осуществлять самопроверку при показе на экране правильного ответа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 осуществлять коррекцию речи обучающихся, что облегчает работу с основными понятиями и словарными словами. Усваивая и запоминая специальную терминологию, школьники с интеллектуальной недостаточностью  пополняют свой словарный запас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1"/>
          <p:cNvSpPr/>
          <p:nvPr/>
        </p:nvSpPr>
        <p:spPr>
          <a:xfrm>
            <a:off x="324000" y="285120"/>
            <a:ext cx="864072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бучающимся при работе с мультимедийной учебной презентацией  отводится активная роль: опираясь на зрительные образы конкретных объектов  и явлений, дети с интеллектуальной недостаточностью под руководством учителя учатся сравнивать, анализировать, выделять главное, делать обобщения. Таким образом, учитель сможет  организовать единый процесс развития образного восприятия и мыслительной деятельности обучающихся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000" spc="-1" strike="noStrike">
                <a:solidFill>
                  <a:srgbClr val="c00000"/>
                </a:solidFill>
                <a:latin typeface="Times New Roman"/>
              </a:rPr>
              <a:t>Здоровьесберегающие технологии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Здоровьесберегающие технологии (или их элементы) являются обязательным условием при организации учебно-воспитательного процесса в школе. Для повышения работоспособности, предупреждения преждевременного утомления, снятия мышечного напряжения на уроках математики провожу физкультминутки, зарядки для глаз. При проведении урока планирую частую смену видов деятельности (норма 4-7 видов) и их продолжительность (не более 7-10 минут), контроль за правильной рабочей позой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1"/>
          <p:cNvSpPr/>
          <p:nvPr/>
        </p:nvSpPr>
        <p:spPr>
          <a:xfrm>
            <a:off x="250920" y="562320"/>
            <a:ext cx="87138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ажной составляющей является психологический климат на уроке, включающий наличие внешней (похвала, поддержка) и стимуляция внутренней (стремление больше узнать, интерес к изучаемому материалу) мотивации, наличие эмоциональных разрядок (шуточная задача, небольшое стихотворение, известные высказывания, уместная шутка  и др.), а также взаимоотношения между «учитель-ученик», «ученик – ученик»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1"/>
          <p:cNvSpPr/>
          <p:nvPr/>
        </p:nvSpPr>
        <p:spPr>
          <a:xfrm>
            <a:off x="250920" y="-96840"/>
            <a:ext cx="864216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читаю, что использование современных образовательных технологий обеспечивает гибкость образовательного процесса, повышает познавательный интерес учащихся, способствует коррекции их недостатков развития, творческой активности. Благодаря внедрению в образовательный процесс современных технологий обучения дети с ограниченными возможностями здоровья имеют больший шанс приобрести необходимые умения и навыки для дальнейшей жизни и успешной адаптации в обществе, повысить уровень мотивации к обучению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1"/>
          <p:cNvSpPr/>
          <p:nvPr/>
        </p:nvSpPr>
        <p:spPr>
          <a:xfrm>
            <a:off x="395280" y="549360"/>
            <a:ext cx="835344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атематика в коррекционной школе решает одну из важных специфических задач обучения школьников с нарушением интеллекта – преодоление недостатков их познавательной деятельности. Изучение математики направлено на формирование определенного типа мышления, развитие познавательных способностей, формирование и коррекцию операций сравнения, анализа, синтеза, обобщения и конкретизации; на создание условий для коррекции памяти, внимания и других психических процессов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"/>
          <p:cNvSpPr/>
          <p:nvPr/>
        </p:nvSpPr>
        <p:spPr>
          <a:xfrm>
            <a:off x="395280" y="852840"/>
            <a:ext cx="83534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о, так как именно эти процессы у обучающихся коррекционных школ развиты слабо, математика, как учебный предмет дается им с большим трудом. Поэтому нужно найти такие методы и приемы, которые смогли бы увлечь детей, сделать процесс обучения  интересным. Одним из возможных путей повышения эффективности и результативности учебно-воспитательного процесса является использование современных образовательных технологий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Прямоугольник 2"/>
          <p:cNvSpPr/>
          <p:nvPr/>
        </p:nvSpPr>
        <p:spPr>
          <a:xfrm>
            <a:off x="395280" y="260280"/>
            <a:ext cx="835344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лово «технология» происходит от греческих слов – искусство, мастерство и - учение. Поэтому термин «педагогическая технология» в буквальном переводе означает учение о педагогическом искусстве, мастерстве. Исходя из этого, можно выделить современные технологии, элементы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торых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возможно применять на уроках в коррекционной школе VIII вида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000" y="404640"/>
            <a:ext cx="828036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00000"/>
                </a:solidFill>
                <a:latin typeface="Times New Roman"/>
              </a:rPr>
              <a:t>Современные образовательные технологи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835344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.технология разноуровневого обучения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2.коррекционно - развивающие технологии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3.технология проблемного обучения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4.метод проект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5.личностно-ориентированное обучение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6.игровые технологии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7.информационно-коммуникационные технологии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8.нравственная технология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9.здоровьесберегающие технолог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400" spc="-1" strike="noStrike">
                <a:solidFill>
                  <a:srgbClr val="c00000"/>
                </a:solidFill>
                <a:latin typeface="Times New Roman"/>
              </a:rPr>
              <a:t>Игровые технологии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250920" y="981000"/>
            <a:ext cx="864216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гровые технологии способствуют повышению познавательного интереса, развитию мышления; способствуют применению знаний в новой ситуации: являются естественной формой труда ребенка, а также способствуют объединению коллектива и формированию ответственности.  Вовлечение обучающихся в игру позволяет достичь эффекта раскрепощения, умения принимать решения, общаться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"/>
          <p:cNvSpPr/>
          <p:nvPr/>
        </p:nvSpPr>
        <p:spPr>
          <a:xfrm>
            <a:off x="324000" y="246960"/>
            <a:ext cx="84960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мерами игровых технологий на уроках математики могут быть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Задания на развитие внимания, памяти, мышления, воображения («Цепочка», «Пирамида»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 Задания на смекалку, сообразительность, классификацию, сравнение, обобщение («Убери лишнее вычисление», «Исправь ошибки», «Найди лишнее слово»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Задания на установление взаимосвязей и соответствий («Найди правильный ответ»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1"/>
          <p:cNvSpPr/>
          <p:nvPr/>
        </p:nvSpPr>
        <p:spPr>
          <a:xfrm>
            <a:off x="324000" y="694800"/>
            <a:ext cx="8496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аким образом, дидактическая игра на уроках пополняет, углубляет и расширяет знания, является средством всестороннего развития ребёнка, его умственных, интеллектуальных и творческих способностей, вызывать положительные эмоции, наполнять жизнь коллектива учащихся интересным содержанием, способствовать самоутверждению ребён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2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ru-RU" sz="3600" spc="-1" strike="noStrike">
                <a:solidFill>
                  <a:srgbClr val="c00000"/>
                </a:solidFill>
                <a:latin typeface="Times New Roman"/>
              </a:rPr>
              <a:t>Информационно-коммуникационные технологии (ИКТ)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нформационно-коммуникационные  технологии в коррекционной школе приобретают ценность как мощное  и эффективное  средство  коррекционного  воздействия; как помощник в освоении нового, развитии мотивации, один из  способов  социализации, что особенно актуально в условиях школы-интернат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2T16:04:58Z</dcterms:created>
  <dc:creator>Елена</dc:creator>
  <dc:description/>
  <dc:language>en-US</dc:language>
  <cp:lastModifiedBy>-</cp:lastModifiedBy>
  <dcterms:modified xsi:type="dcterms:W3CDTF">2018-03-23T10:01:33Z</dcterms:modified>
  <cp:revision>68</cp:revision>
  <dc:subject/>
  <dc:title>Слайд 1</dc:title>
</cp:coreProperties>
</file>