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FF62-90AA-4D45-B13B-09331CD60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5007-F7F4-4FC7-8B63-76DFF9B0A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519-8803-45ED-9765-BC2DC22CE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A17-81E6-4E04-A2BE-551DDD8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A14-AF5E-4120-BE78-AFF0EF7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B07-BC07-43F2-9241-AB18683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274-AE0D-4BA4-988A-9E2CEAEC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126-F1C3-4B6A-89DD-0DBCE016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070-6C76-436A-92BF-B435B3D6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678-8BFB-4F76-A072-1C5D4D2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1F-8D61-4121-ACB6-297B872F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8F8-A46E-4884-A0FD-0EF3A7FD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A0F-761F-47A7-8A15-23AFE23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DE2-32B2-4B45-BDF1-0369860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02E-CD75-4017-A326-47BC684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1FD-1DEF-4460-B3AC-0321DB91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03360" y="676440"/>
            <a:ext cx="8242200" cy="124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ехнология подготовки и проведения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их собраний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дагог-психолог Иргит А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единых требований к воспитанию детей в семье и детском са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учение педагогом-психологом и другими организаторами собрания научно-методической литературы по рассматриваемой пробле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ение вида, формы, этапов родительского собрания, способов и приемов совместной работы его участ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аботка сценария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спределение обязанностей по подготовке родительского собрания. Привлечение к подготовке родительского собрания родительского комитета группы или отдельных активных родителе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ведение микроисследования в сообществе детей и родителей (беседы, заполнение анкет, тестов и опросников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пециально разработанных анкет поможет педагогу составить более конкретное представление о том вопросе, который предлагается обсудить на родительском собрани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глашение родителей и других участников собрания (заведующего, старшего воспитателя, врача-педиатра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их специалистов: логопеда, психолога, инструктора по физкультуре и плаванию, музыкального руководителя, психолога и др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дготовка конкурсов и выставок по теме собр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Аудио-, видеозапись ответов детей по теме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Написание плакатов по теме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оведение до собрания заседания родительского комит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Изготовление оригинальных памяток (рекомендаций) родителям с советами на тему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азработка проекта решения собр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борудование и оформление места проведения родительского собрания (оформление выставки, выпуск стенгазеты, подбор фоновой музыки и т. п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Организация родительского собрания предусматривает определенные затраты. Если дошкольное учреждение не в состоянии участвовать в финансиро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, спонсоры могут быть найдены среди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спех собрания во многом зависит от среды, или физического и психического пространства, в котором проходят заседания (свет, отопление, вентиляция, интерьер и мебель). Различное расположение столов и стульев в помещении способствует разнообразным формам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для групповой работы, общения в парах, оживленных дискуссий, индивидуальных презентаций и ролевых игр стулья лучше расставить «подков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в малых группах, состав которых периодически меняется, лучше расставить столы веером на некотором расстоянии друг от друга. В таком случае ведущий может перемещаться от одной группы к другой, помогая участникам и поощряя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ды родительских собр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родительского собрания – поиск совместных путей решения всевозможных проблем воспитания, обучения и развития дошкольников. Собрания условно можно раз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ганизационные, на которых составляются и утверждаются планы работы, избирается родительский комитет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щие методические рекоменд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организуется и проводится не реже одного раза в кварта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должно начинаться в строго установленное время. Родители привыкают к такому требованию и стараются его придерживатьс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продолжительность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1,5 час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яются общественные поручения, разрабатываются мероприятия с участием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очные (инструктивные), на которых родителей знакомят с изменениями в нормативно-правовой базе, образовательном процессе дошкольного учреж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щие с аналитическими материалами из жизни дошко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(о результатах педагогической диагностики, о заболеваемости и посещаемости, медицинском осмотре и др.) без упоминания фамилий детей и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ые, здесь обсуждаются те или иные общие (групповые) мероприятия, требующие совета, поддержки, одобрения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, созываемые по поводу какой-либо чрезвычайной ситу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оспитанниками и род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е с оказанием помощи отдельным семьям и дет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, посвященные обсуждению наиболее актуальных и сложных вопросов образования воспитанников данной групп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-диспуты, нацеленные на выявление и согласование различных точек зрения в сообществе родителей и педагог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-практикумы, направленные на освоение родителями конкретных приемов и методов семейного воспитания, оказания помощи детям в деятельности по самообразованию и самовоспита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е (итоговые), имеющие целью показать воспитательно-образовательный процесс как средство развития личности ребенка, обратить внимание родителей на положительные и отрицательные явления жизнедеятельности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росветительские (по плану всеобуча родителей), являющиеся формой педагогического просвещения членов родительского коллекти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ные рассмотрению проблем, связанных с воспитанием, обучением и развитием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онные формы родительских собр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обраний может быть самой разн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ое (традиционное) собрание (донесение информации до родителей; вопросы родителей – ответы воспитател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мастерск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деятельностная, деловая, ролевая иг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илиу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у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у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сто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-встреч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ы взаимодействия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дискуссия, повышающая психолого-педагогическую грамотность родителей, позволяющая выявить индивидуальные приемы воспитания (по мере развертывания дискуссии в неё можно включать элементы проигрывания ситуаци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чебного года, на первой встрече с родителями, следует определить день недели, время и согласовать примерную тематику встреч на учебный год (с кем бы они хотели встретиться, получить консультацию). Это выясняется с помощью анкетирования родителей. Утверждается план совместной работы на учебный го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оррекция (просмотр видеозаписи проблемных ситуаций с участием родителя и ребенка, родителя и педагога, педагога и ребенка, анализ увиденного и поиск реш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(психологическая, ролевая), с помощью которой можно моделировать и воспроизводить проблемные ситуации, выявленные в ходе дискусс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едагогический тренин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действия – выполнение заданий педагогом и родителями с дальнейшим самоанализ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спор помогает сравнивать различные точки зрения на воспитание детей, учит выслушивать мнение других участников встреч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 наиболее эффективные и рациональные подходы к решению проблем на основе сотрудни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льная дискуссия воспитывает культуру диалога в семье и обществе, вырабатывает умение аргументировать свои доводы, учитывать аргументы оппонента, в том числе и собственн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ы пропаганды педагогических знаний сред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пыта семейного воспитания (посещение семе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, консуль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и общие 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консульт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(лектори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ники(совместная практическая деятельность сотрудников ДОУ с родител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, фотомонтаж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детских рабо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открытых двер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информационные сте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для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-передвижки с материалами по различным вопросам семейн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"/>
          <p:cNvSpPr/>
          <p:nvPr/>
        </p:nvSpPr>
        <p:spPr>
          <a:xfrm>
            <a:off x="1965240" y="151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1066680" y="1752480"/>
            <a:ext cx="708660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2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1295280" y="39625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ЕМ ВСЕМ ТВОРЧЕСКИХ УСПЕХОВ!</a:t>
            </a:r>
            <a:endParaRPr b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правило, родительское собрание состоит из двух частей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(беседа, разбор конкретной ситуации, планирование, дискуссия, конкурс и т. д.) и индивидуальной (по запросам родителе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6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ка и содержание собрания зависит от возраста детей и особенностей групп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ведение родительского собрания требует тщательной подготовки, составления сценария собрания, только в этом случае оно пройдет в обстановке заинтересованности, при активном участии родител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16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сновным методом проведения собрания должен стать диалог. Только он даст возможность выслушать и обсудить другие мнения и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процессе собрания следует использовать различные средства коммуникации (вербальные и невербальны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мнить, что впечатление о педагоге складывается из множества разнообразных его черт. В значительной степени оно зависит от умения человека общаться невербально. Например: интонация и темр голоса; соблюдение дистанции, разделяющей говорящих; осанка; жесты; выражение лица; зрительный контакт; манеры, стиль одежды и т. п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ка к родительскому собра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бор темы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целей родительского собр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овместных путей решения всевозможных проблем воспитания, обучения и развития дошкольник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6854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едагогической культуры родителей, расширение их представлений по конкретному вопросу воспитания, обучения и развития ребенка в семье и дошкольном учреждении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сплочению родительского коллектива, вовлечению родителей в жизнедеятельность группового сообщества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Customer</cp:lastModifiedBy>
  <dcterms:modified xsi:type="dcterms:W3CDTF">2017-11-08T01:55:55Z</dcterms:modified>
  <cp:revision>169</cp:revision>
  <dc:subject/>
  <dc:title>Название презентации</dc:title>
</cp:coreProperties>
</file>