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8978-C388-4F27-BFEB-467856F0A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11A4-6079-4E5B-9788-4B092FCC0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4EE-A289-4CBD-9A44-15366F7F4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AD1-4DDE-403D-8654-D3745BF5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E4B-CB16-4CCF-A0ED-C5751697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32D-3AA6-4C7E-8D75-A08A72F5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C6B-297D-4236-8571-7E193497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4B2-F568-4A93-B1C6-238F4C01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B53-31FD-4B4C-993F-54B4F797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65A-A2D8-4717-91F0-36AB3C7F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F2A-C152-4577-BB1A-57CC048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152-4F88-40A6-A7C7-EF04E90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33D-2791-4BEE-8FAF-4A78CC1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FDD-186D-4340-899C-EDE37B4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D52-C0AC-4A1E-BA09-C37F621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C0F-0C64-4FC6-BDD0-25F2D8E31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03360" y="676440"/>
            <a:ext cx="8242200" cy="124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3352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ехнология подготовки и проведения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их собраний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дагог-психолог Иргит А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единых требований к воспитанию детей в семье и детском са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учение педагогом-психологом и другими организаторами собрания научно-методической литературы по рассматриваемой пробле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ение вида, формы, этапов родительского собрания, способов и приемов совместной работы его участни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аботка сценария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спределение обязанностей по подготовке родительского собрания. Привлечение к подготовке родительского собрания родительского комитета группы или отдельных активных родителей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ведение микроисследования в сообществе детей и родителей (беседы, заполнение анкет, тестов и опросников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пециально разработанных анкет поможет педагогу составить более конкретное представление о том вопросе, который предлагается обсудить на родительском собрани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иглашение родителей и других участников собрания (заведующего, старшего воспитателя, врача-педиатра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ких специалистов: логопеда, психолога, инструктора по физкультуре и плаванию, музыкального руководителя, психолога и др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дготовка конкурсов и выставок по теме собр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Аудио-, видеозапись ответов детей по теме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Написание плакатов по теме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оведение до собрания заседания родительского комит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Изготовление оригинальных памяток (рекомендаций) родителям с советами на тему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азработка проекта решения собр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борудование и оформление места проведения родительского собрания (оформление выставки, выпуск стенгазеты, подбор фоновой музыки и т. п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Организация родительского собрания предусматривает определенные затраты. Если дошкольное учреждение не в состоянии участвовать в финансиро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, спонсоры могут быть найдены среди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Успех собрания во многом зависит от среды, или физического и психического пространства, в котором проходят заседания (свет, отопление, вентиляция, интерьер и мебель). Различное расположение столов и стульев в помещении способствует разнообразным формам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для групповой работы, общения в парах, оживленных дискуссий, индивидуальных презентаций и ролевых игр стулья лучше расставить «подков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в малых группах, состав которых периодически меняется, лучше расставить столы веером на некотором расстоянии друг от друга. В таком случае ведущий может перемещаться от одной группы к другой, помогая участникам и поощряя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ды родительских собр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родительского собрания – поиск совместных путей решения всевозможных проблем воспитания, обучения и развития дошкольников. Собрания условно можно раздел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рганизационные, на которых составляются и утверждаются планы работы, избирается родительский комитет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щие методические рекоменд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организуется и проводится не реже одного раза в кварта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должно начинаться в строго установленное время. Родители привыкают к такому требованию и стараются его придерживатьс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продолжительность –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1,5 час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яются общественные поручения, разрабатываются мероприятия с участием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очные (инструктивные), на которых родителей знакомят с изменениями в нормативно-правовой базе, образовательном процессе дошкольного учреж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щие с аналитическими материалами из жизни дошколь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(о результатах педагогической диагностики, о заболеваемости и посещаемости, медицинском осмотре и др.) без упоминания фамилий детей и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ые, здесь обсуждаются те или иные общие (групповые) мероприятия, требующие совета, поддержки, одобрения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, созываемые по поводу какой-либо чрезвычайной ситу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оспитанниками и родител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е с оказанием помощи отдельным семьям и дет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, посвященные обсуждению наиболее актуальных и сложных вопросов образования воспитанников данной групп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-диспуты, нацеленные на выявление и согласование различных точек зрения в сообществе родителей и педагог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-практикумы, направленные на освоение родителями конкретных приемов и методов семейного воспитания, оказания помощи детям в деятельности по самообразованию и самовоспита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е (итоговые), имеющие целью показать воспитательно-образовательный процесс как средство развития личности ребенка, обратить внимание родителей на положительные и отрицательные явления жизнедеятельности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росветительские (по плану всеобуча родителей), являющиеся формой педагогического просвещения членов родительского коллектив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ные рассмотрению проблем, связанных с воспитанием, обучением и развитием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ационные формы родительских собр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обраний может быть самой разн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ое (традиционное) собрание (донесение информации до родителей; вопросы родителей – ответы воспитател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мастерск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деятельностная, деловая, ролевая иг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рен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илиу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у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у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сто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-встреч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ы взаимодействия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дискуссия, повышающая психолого-педагогическую грамотность родителей, позволяющая выявить индивидуальные приемы воспитания (по мере развертывания дискуссии в неё можно включать элементы проигрывания ситуаци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чебного года, на первой встрече с родителями, следует определить день недели, время и согласовать примерную тематику встреч на учебный год (с кем бы они хотели встретиться, получить консультацию). Это выясняется с помощью анкетирования родителей. Утверждается план совместной работы на учебный год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коррекция (просмотр видеозаписи проблемных ситуаций с участием родителя и ребенка, родителя и педагога, педагога и ребенка, анализ увиденного и поиск реш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(психологическая, ролевая), с помощью которой можно моделировать и воспроизводить проблемные ситуации, выявленные в ходе дискусс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едагогический тренин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действия – выполнение заданий педагогом и родителями с дальнейшим самоанализ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спор помогает сравнивать различные точки зрения на воспитание детей, учит выслушивать мнение других участников встреч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ть наиболее эффективные и рациональные подходы к решению проблем на основе сотрудни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льная дискуссия воспитывает культуру диалога в семье и обществе, вырабатывает умение аргументировать свои доводы, учитывать аргументы оппонента, в том числе и собственн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ы пропаганды педагогических знаний сред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пыта семейного воспитания (посещение семе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, консуль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и общие 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консульт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и (лектори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ники(совместная практическая деятельность сотрудников ДОУ с родителя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, фотомонтаж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детских рабо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открытых двер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информационные стен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для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-передвижки с материалами по различным вопросам семейного вос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"/>
          <p:cNvSpPr/>
          <p:nvPr/>
        </p:nvSpPr>
        <p:spPr>
          <a:xfrm>
            <a:off x="1965240" y="151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1"/>
          <p:cNvSpPr txBox="1"/>
          <p:nvPr/>
        </p:nvSpPr>
        <p:spPr>
          <a:xfrm>
            <a:off x="1066680" y="1752480"/>
            <a:ext cx="708660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2800" spc="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1295280" y="39625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ЕМ ВСЕМ ТВОРЧЕСКИХ УСПЕХОВ!</a:t>
            </a:r>
            <a:endParaRPr b="1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 правило, родительское собрание состоит из двух частей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(беседа, разбор конкретной ситуации, планирование, дискуссия, конкурс и т. д.) и индивидуальной (по запросам родителе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6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матика и содержание собрания зависит от возраста детей и особенностей групп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ведение родительского собрания требует тщательной подготовки, составления сценария собрания, только в этом случае оно пройдет в обстановке заинтересованности, при активном участии родител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163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сновным методом проведения собрания должен стать диалог. Только он даст возможность выслушать и обсудить другие мнения и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процессе собрания следует использовать различные средства коммуникации (вербальные и невербальны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7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мнить, что впечатление о педагоге складывается из множества разнообразных его черт. В значительной степени оно зависит от умения человека общаться невербально. Например: интонация и темр голоса; соблюдение дистанции, разделяющей говорящих; осанка; жесты; выражение лица; зрительный контакт; манеры, стиль одежды и т. п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ка к родительскому собра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бор темы собр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 целей родительского собр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овместных путей решения всевозможных проблем воспитания, обучения и развития дошкольник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520" y="6854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едагогической культуры родителей, расширение их представлений по конкретному вопросу воспитания, обучения и развития ребенка в семье и дошкольном учреждении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сплочению родительского коллектива, вовлечению родителей в жизнедеятельность группового сообщества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Customer</cp:lastModifiedBy>
  <dcterms:modified xsi:type="dcterms:W3CDTF">2017-11-08T01:55:55Z</dcterms:modified>
  <cp:revision>169</cp:revision>
  <dc:subject/>
  <dc:title>Название презентации</dc:title>
</cp:coreProperties>
</file>