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B89-F063-4E64-ABA8-94077F86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144-C910-44B0-B5A3-5637037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B97-27CC-4799-9AD3-1E17405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395-A254-44D9-A456-3813E421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34AE-DB37-4D59-9549-BBD520DD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78AB-F585-4F52-9BF3-341C84B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EB27-3BCC-4B70-ABB5-CBE8F1A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4CB-B031-4862-8D23-7C267317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513B-FA48-493C-974B-F464335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D93A-4F67-4390-A946-15F6ECF8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282C-8A25-411A-828C-74FBE44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B70-517D-4BB5-9545-CFB4983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9E0-56F3-4305-B329-ECABABE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A5F-C34D-4EE7-A9F7-B0DB0F7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023E-A5FF-4E94-921A-9390F3AE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499C-091A-4F05-A2F3-1856CB69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C69-E637-47BA-90F4-F75BCF75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9957-9360-46CC-9C9F-128C1085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A91B-52EC-40BD-9558-030AA86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E3B8-E683-4BB4-BA69-FBF193C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76EF-3C5D-4E86-BA1F-0F6FC18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EC85-9020-4023-B3F9-654E354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63B-B866-4114-A9E0-93644A2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D793-DB6A-46B2-8DE9-39F2778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EC88-869B-4238-8745-1EE434E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4C08-352B-4951-8D9C-00F4F28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8905-305F-42CC-9E9E-1A14189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72BB-AA7A-4454-B7E5-61FF94B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3C18-9477-437A-BDDF-79D37B5A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77C7-0365-4D87-9FED-92BA5FA2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958-5D3F-4F11-9B7A-33FCE41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FA8-9574-4646-9DF4-10D0F8B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4EE-111E-4576-850E-6909C823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D35-C3CA-4CDE-BAB5-7A07D5D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5A8-1631-41B4-9202-37B848C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21A-ED47-420D-A67E-DC217F5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966825-9479-40D5-B298-5EB71909F463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3"/>
              </a:buBlip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Образец текста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4"/>
              </a:buBlip>
            </a:pPr>
            <a:r>
              <a:rPr b="0" i="1" lang="ru-RU" sz="2800" spc="-1" strike="noStrike">
                <a:solidFill>
                  <a:srgbClr val="000000"/>
                </a:solidFill>
                <a:latin typeface="Segoe U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8E27C9-F4F2-4400-8177-841A2E76B65C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6E0E05-FF77-4CA1-BA3A-0D82FB28D433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4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БОРИС </a:t>
            </a: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ЛЬВОВИЧ </a:t>
            </a: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ВАСИЛЬЕВ</a:t>
            </a:r>
            <a:br>
              <a:rPr sz="2800"/>
            </a:br>
            <a:br>
              <a:rPr sz="3200"/>
            </a:b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21.05.1924 – 11.03.2013 </a:t>
            </a:r>
            <a:br>
              <a:rPr sz="32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Администратор\Рабочий стол\фото Б.Васильева.jpg"/>
          <p:cNvPicPr/>
          <p:nvPr/>
        </p:nvPicPr>
        <p:blipFill>
          <a:blip r:embed="rId1"/>
          <a:stretch/>
        </p:blipFill>
        <p:spPr>
          <a:xfrm>
            <a:off x="1271520" y="1688400"/>
            <a:ext cx="66574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7"/>
          <p:cNvSpPr/>
          <p:nvPr/>
        </p:nvSpPr>
        <p:spPr>
          <a:xfrm>
            <a:off x="285840" y="50004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ИСТОРИЧЕСКАЯ П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Admin\Рабочий стол\Новая папка\ист. пр..jpg"/>
          <p:cNvPicPr/>
          <p:nvPr/>
        </p:nvPicPr>
        <p:blipFill>
          <a:blip r:embed="rId1"/>
          <a:stretch/>
        </p:blipFill>
        <p:spPr>
          <a:xfrm>
            <a:off x="1357200" y="1500120"/>
            <a:ext cx="5357520" cy="5000400"/>
          </a:xfrm>
          <a:prstGeom prst="rect">
            <a:avLst/>
          </a:prstGeom>
          <a:ln w="3810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7"/>
          <p:cNvSpPr/>
          <p:nvPr/>
        </p:nvSpPr>
        <p:spPr>
          <a:xfrm>
            <a:off x="857160" y="500040"/>
            <a:ext cx="7571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ФИЛЬМ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928800" y="1285920"/>
            <a:ext cx="7643520" cy="551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 сценариям и книгам Б. Л. Васильева снято 15 кинофильмов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чередной рейс» (195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линный день» (196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ед в океане» (196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ролевская регата» (196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пути в Берлин» (196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фицеры» (197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А зори здесь тихие» (197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ванов катер» (197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Аты-баты, шли солдаты...» (197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дсудимый» (1985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 зову сердца» (198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ездники» (198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втра была война» (1987)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ы чье, старичье?» (198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– русский солдат» (199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Admin\Рабочий стол\Новая папка\539091.jpg"/>
          <p:cNvPicPr/>
          <p:nvPr/>
        </p:nvPicPr>
        <p:blipFill>
          <a:blip r:embed="rId1"/>
          <a:stretch/>
        </p:blipFill>
        <p:spPr>
          <a:xfrm>
            <a:off x="785880" y="4429080"/>
            <a:ext cx="1785600" cy="20714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6" name="Picture 4" descr="C:\Documents and Settings\Admin\Рабочий стол\Новая папка\vasilyev-zori.jpg"/>
          <p:cNvPicPr/>
          <p:nvPr/>
        </p:nvPicPr>
        <p:blipFill>
          <a:blip r:embed="rId2"/>
          <a:stretch/>
        </p:blipFill>
        <p:spPr>
          <a:xfrm>
            <a:off x="3143160" y="3500280"/>
            <a:ext cx="2356920" cy="28573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7" name="Picture 5" descr="C:\Documents and Settings\Admin\Рабочий стол\Новая папка\зори.jpg"/>
          <p:cNvPicPr/>
          <p:nvPr/>
        </p:nvPicPr>
        <p:blipFill>
          <a:blip r:embed="rId3"/>
          <a:stretch/>
        </p:blipFill>
        <p:spPr>
          <a:xfrm>
            <a:off x="1143000" y="1285920"/>
            <a:ext cx="1999800" cy="292860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8" name="Picture 2" descr="C:\Documents and Settings\Admin\Рабочий стол\Новая папка\74233.jpg"/>
          <p:cNvPicPr/>
          <p:nvPr/>
        </p:nvPicPr>
        <p:blipFill>
          <a:blip r:embed="rId4"/>
          <a:stretch/>
        </p:blipFill>
        <p:spPr>
          <a:xfrm>
            <a:off x="5786280" y="1857240"/>
            <a:ext cx="2428560" cy="34286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9" name="Picture 3" descr="C:\Documents and Settings\Admin\Рабочий стол\Новая папка\539091.jpg"/>
          <p:cNvPicPr/>
          <p:nvPr/>
        </p:nvPicPr>
        <p:blipFill>
          <a:blip r:embed="rId5"/>
          <a:stretch/>
        </p:blipFill>
        <p:spPr>
          <a:xfrm>
            <a:off x="938160" y="4581360"/>
            <a:ext cx="1785600" cy="20714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400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d0d0d"/>
                </a:solidFill>
                <a:latin typeface="Segoe Script"/>
              </a:rPr>
              <a:t>О  чём молчит и говорит писатель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Segoe Script"/>
              </a:rPr>
              <a:t>(исследование по повести Б.Васильева  «А зори здесь тихие…»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Администратор\Рабочий стол\Васильев  - крупно.jpg"/>
          <p:cNvPicPr/>
          <p:nvPr/>
        </p:nvPicPr>
        <p:blipFill>
          <a:blip r:embed="rId1"/>
          <a:stretch/>
        </p:blipFill>
        <p:spPr>
          <a:xfrm>
            <a:off x="1998000" y="2108160"/>
            <a:ext cx="5905080" cy="38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4280" y="214200"/>
            <a:ext cx="7472160" cy="591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1"/>
              </a:buBlip>
            </a:pPr>
            <a:r>
              <a:rPr b="0" lang="ru-RU" sz="3200" spc="-1" strike="noStrike">
                <a:solidFill>
                  <a:srgbClr val="772754"/>
                </a:solidFill>
                <a:latin typeface="Segoe UI"/>
              </a:rPr>
              <a:t>           </a:t>
            </a:r>
            <a:r>
              <a:rPr b="1" lang="ru-RU" sz="3600" spc="-1" strike="noStrike" u="sng">
                <a:solidFill>
                  <a:srgbClr val="0d0d0d"/>
                </a:solidFill>
                <a:uFillTx/>
                <a:latin typeface="Segoe UI"/>
              </a:rPr>
              <a:t>Цель исследования: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Segoe UI"/>
              </a:rPr>
              <a:t>           </a:t>
            </a:r>
            <a:r>
              <a:rPr b="1" lang="ru-RU" sz="3600" spc="-1" strike="noStrike">
                <a:solidFill>
                  <a:srgbClr val="660066"/>
                </a:solidFill>
                <a:latin typeface="Segoe UI"/>
              </a:rPr>
              <a:t>каковы истоки героизма?</a:t>
            </a:r>
            <a:r>
              <a:rPr b="0" lang="ru-RU" sz="3600" spc="-1" strike="noStrike">
                <a:solidFill>
                  <a:srgbClr val="660066"/>
                </a:solidFill>
                <a:latin typeface="Segoe UI"/>
              </a:rPr>
              <a:t> 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4280" y="1143000"/>
            <a:ext cx="7472160" cy="498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</a:t>
            </a:r>
            <a:r>
              <a:rPr b="1" lang="ru-RU" sz="3200" spc="-1" strike="noStrike">
                <a:solidFill>
                  <a:srgbClr val="772754"/>
                </a:solidFill>
                <a:latin typeface="Segoe UI"/>
              </a:rPr>
              <a:t>Выдвижение  гипотез</a:t>
            </a:r>
            <a:r>
              <a:rPr b="0" i="1" lang="ru-RU" sz="3200" spc="-1" strike="noStrike">
                <a:solidFill>
                  <a:srgbClr val="772754"/>
                </a:solidFill>
                <a:latin typeface="Segoe UI"/>
              </a:rPr>
              <a:t> (предположение, требующее подтверждения – словарь Ожегова</a:t>
            </a:r>
            <a:r>
              <a:rPr b="1" lang="ru-RU" sz="3200" spc="-1" strike="noStrike">
                <a:solidFill>
                  <a:srgbClr val="772754"/>
                </a:solidFill>
                <a:latin typeface="Segoe UI"/>
              </a:rPr>
              <a:t>):</a:t>
            </a:r>
            <a:endParaRPr b="0" lang="ru-RU" sz="32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1. Русский характер.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2. Любовь к Родине и ненависть к врагу.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285840"/>
            <a:ext cx="640044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1 группа – доказательства к 1-ой гипотезе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– рассказать  о жизни   девушек до войны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группа  - доказательства  ко 2-ой  гипотез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4280" y="2071800"/>
            <a:ext cx="7472160" cy="40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Задача 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 рассказать о схватке  старшины Васкова и девушек-зенитчиц с фашистскими диверсантами.</a:t>
            </a:r>
            <a:r>
              <a:rPr b="1" lang="ru-RU" sz="2800" spc="-1" strike="noStrike" u="sng">
                <a:solidFill>
                  <a:srgbClr val="772754"/>
                </a:solidFill>
                <a:uFillTx/>
                <a:latin typeface="Segoe UI"/>
              </a:rPr>
              <a:t>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Segoe Script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3 группа -  словарная работ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а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обрать синонимы к словам « подвиг», «мужество», «помнить»</a:t>
            </a:r>
            <a:br>
              <a:rPr sz="3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4 группа – творческа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   5 группа- анализ эпизода </a:t>
            </a:r>
            <a:r>
              <a:rPr b="1" i="1" lang="ru-RU" sz="3600" spc="-1" strike="noStrike">
                <a:solidFill>
                  <a:srgbClr val="000000"/>
                </a:solidFill>
                <a:latin typeface="Segoe Script"/>
              </a:rPr>
              <a:t>"Последний бой Васкова"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SzPct val="100000"/>
              <a:buBlip>
                <a:blip r:embed="rId1"/>
              </a:buBlip>
            </a:pPr>
            <a:r>
              <a:rPr b="1" lang="ru-RU" sz="4400" spc="-1" strike="noStrike">
                <a:solidFill>
                  <a:srgbClr val="c00000"/>
                </a:solidFill>
                <a:latin typeface="Segoe UI"/>
              </a:rPr>
              <a:t>Урок-исследование </a:t>
            </a:r>
            <a:br>
              <a:rPr sz="4000"/>
            </a:br>
            <a:r>
              <a:rPr b="1" lang="ru-RU" sz="3600" spc="-1" strike="noStrike">
                <a:solidFill>
                  <a:srgbClr val="772754"/>
                </a:solidFill>
                <a:latin typeface="Times New Roman"/>
              </a:rPr>
              <a:t>«Не умирает мужество солдат»</a:t>
            </a:r>
            <a:br>
              <a:rPr sz="4000"/>
            </a:br>
            <a:r>
              <a:rPr b="0" lang="ru-RU" sz="3600" spc="-1" strike="noStrike">
                <a:solidFill>
                  <a:srgbClr val="772754"/>
                </a:solidFill>
                <a:latin typeface="Times New Roman"/>
              </a:rPr>
              <a:t>(</a:t>
            </a:r>
            <a:r>
              <a:rPr b="0" i="1" lang="ru-RU" sz="3600" spc="-1" strike="noStrike">
                <a:solidFill>
                  <a:srgbClr val="772754"/>
                </a:solidFill>
                <a:latin typeface="Times New Roman"/>
              </a:rPr>
              <a:t>по повести Б.Васильева «А зори здесь тихие…»)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571320"/>
            <a:ext cx="6400440" cy="121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Segoe Script"/>
              </a:rPr>
              <a:t>Мини-сочине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</a:t>
            </a: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О чем заставила задуматься повесть «А зори здесь тихие…»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660066"/>
                </a:solidFill>
                <a:latin typeface="Segoe Script"/>
              </a:rPr>
              <a:t>Домашнее зада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1"/>
              </a:buBlip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Составить кроссворд 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Segoe UI"/>
              </a:rPr>
              <a:t>или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Написать сочинение «Моё отношение к войне»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210f17"/>
                </a:solidFill>
                <a:latin typeface="Segoe Script"/>
              </a:rPr>
              <a:t>Эпиграфы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Не все солдаты встретят день победный,                                                                           Не всем прийти на праздничный парад.                                                                                   Солдаты смертны. Подвиги бессмертны.                                                                                   Не умирает мужество солдат.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    Б. Серман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Подвиг, память о нем, сколько бы времени  ни  прошло, не остынет в  наших сердцах.  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В. Быков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:\Documents and Settings\Admin\Рабочий стол\Новая папка\ст1.jpg"/>
          <p:cNvPicPr/>
          <p:nvPr/>
        </p:nvPicPr>
        <p:blipFill>
          <a:blip r:embed="rId1"/>
          <a:stretch/>
        </p:blipFill>
        <p:spPr>
          <a:xfrm>
            <a:off x="1428840" y="1357200"/>
            <a:ext cx="5643360" cy="4500360"/>
          </a:xfrm>
          <a:prstGeom prst="rect">
            <a:avLst/>
          </a:prstGeom>
          <a:ln w="381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Администратор\Рабочий стол\памятная доска на школе.JPG"/>
          <p:cNvPicPr/>
          <p:nvPr/>
        </p:nvPicPr>
        <p:blipFill>
          <a:blip r:embed="rId1"/>
          <a:stretch/>
        </p:blipFill>
        <p:spPr>
          <a:xfrm>
            <a:off x="928800" y="571320"/>
            <a:ext cx="750060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Администратор\Рабочий стол\автограф Б.Васильева.jpg"/>
          <p:cNvPicPr/>
          <p:nvPr/>
        </p:nvPicPr>
        <p:blipFill>
          <a:blip r:embed="rId1"/>
          <a:stretch/>
        </p:blipFill>
        <p:spPr>
          <a:xfrm>
            <a:off x="2071800" y="642960"/>
            <a:ext cx="6240960" cy="5299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4280" y="785880"/>
            <a:ext cx="7472160" cy="5339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1"/>
              </a:buBlip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   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     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32" name="Picture 2" descr="C:\Documents and Settings\Администратор\Рабочий стол\малое собр. соч..jpg"/>
          <p:cNvPicPr/>
          <p:nvPr/>
        </p:nvPicPr>
        <p:blipFill>
          <a:blip r:embed="rId2"/>
          <a:stretch/>
        </p:blipFill>
        <p:spPr>
          <a:xfrm>
            <a:off x="1528920" y="657360"/>
            <a:ext cx="60861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285840" y="50004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ВОЕННАЯ</a:t>
            </a:r>
            <a:r>
              <a:rPr b="1" i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 П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Рабочий стол\Новая папка\v_spiskah_ne_znachilsya466.jpg"/>
          <p:cNvPicPr/>
          <p:nvPr/>
        </p:nvPicPr>
        <p:blipFill>
          <a:blip r:embed="rId1"/>
          <a:stretch/>
        </p:blipFill>
        <p:spPr>
          <a:xfrm>
            <a:off x="714240" y="2643120"/>
            <a:ext cx="1512360" cy="236196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5" name="Picture 3" descr="C:\Documents and Settings\Admin\Рабочий стол\Новая папка\завтра.jpeg"/>
          <p:cNvPicPr/>
          <p:nvPr/>
        </p:nvPicPr>
        <p:blipFill>
          <a:blip r:embed="rId2"/>
          <a:stretch/>
        </p:blipFill>
        <p:spPr>
          <a:xfrm rot="21257400">
            <a:off x="2041200" y="2576160"/>
            <a:ext cx="1642680" cy="23587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6" name="Picture 5" descr="C:\Documents and Settings\Admin\Рабочий стол\Новая папка\3619.jpg"/>
          <p:cNvPicPr/>
          <p:nvPr/>
        </p:nvPicPr>
        <p:blipFill>
          <a:blip r:embed="rId3"/>
          <a:stretch/>
        </p:blipFill>
        <p:spPr>
          <a:xfrm>
            <a:off x="6858000" y="2643120"/>
            <a:ext cx="1525320" cy="23569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7" name="Picture 6" descr="C:\Documents and Settings\Admin\Рабочий стол\Новая папка\в списках.jpg"/>
          <p:cNvPicPr/>
          <p:nvPr/>
        </p:nvPicPr>
        <p:blipFill>
          <a:blip r:embed="rId4"/>
          <a:stretch/>
        </p:blipFill>
        <p:spPr>
          <a:xfrm>
            <a:off x="3786120" y="2643120"/>
            <a:ext cx="1463400" cy="224748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8" name="Picture 4" descr="C:\Documents and Settings\Admin\Рабочий стол\Новая папка\победители.jpg"/>
          <p:cNvPicPr/>
          <p:nvPr/>
        </p:nvPicPr>
        <p:blipFill>
          <a:blip r:embed="rId5"/>
          <a:stretch/>
        </p:blipFill>
        <p:spPr>
          <a:xfrm rot="427200">
            <a:off x="5427720" y="2584080"/>
            <a:ext cx="1499760" cy="23810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500040"/>
            <a:ext cx="6400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Tahoma"/>
              </a:rPr>
              <a:t>«НЕ СТРЕЛЯЙТЕ  в БЕЛЫХ ЛЕБЕДЕЙ» (1973 г.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Documents and Settings\Admin\Рабочий стол\Новая папка\749306.jpg"/>
          <p:cNvPicPr/>
          <p:nvPr/>
        </p:nvPicPr>
        <p:blipFill>
          <a:blip r:embed="rId1"/>
          <a:stretch/>
        </p:blipFill>
        <p:spPr>
          <a:xfrm>
            <a:off x="2643120" y="1785960"/>
            <a:ext cx="3571560" cy="435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0</TotalTime>
  <Application>LibreOffice/7.4.7.2$Linux_X86_64 LibreOffice_project/40$Build-2</Application>
  <AppVersion>15.0000</AppVersion>
  <Words>263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Шаблон оформления к 8 Марта</cp:category>
  <dcterms:created xsi:type="dcterms:W3CDTF">2012-03-08T18:28:44Z</dcterms:created>
  <dc:creator/>
  <dc:description/>
  <dc:language>en-US</dc:language>
  <cp:lastModifiedBy/>
  <dcterms:modified xsi:type="dcterms:W3CDTF">2017-03-24T20:39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  <property fmtid="{D5CDD505-2E9C-101B-9397-08002B2CF9AE}" pid="4" name="_TemplateID">
    <vt:lpwstr>TC103516769990</vt:lpwstr>
  </property>
</Properties>
</file>