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9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8592-AB85-48BE-A8A4-4630E917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5F16-832A-4CA7-B692-69EC0BB3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A4A0-0915-4F69-AD70-620D4F63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199-7890-49EB-B477-87CFBB91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23FF-9586-42DB-90EC-6FA81252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ADAD-70D5-46D0-BE25-559B2605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0253-3FFC-4B5C-915D-5C4B0F03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31DC-D361-4C6F-9765-6500B1BA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DD62-F17F-491F-B140-ED0FA6E6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9732-D3E2-4105-8378-2B42DC22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F6FE-354E-4A2C-9F0A-15B81403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72A-3C4D-4141-9CF9-178016F2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6D2C-9FBF-4518-B32C-D5E77C10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02EC-BAEF-4BC5-AD2C-80DFBC56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CEEE-3116-4713-83A4-574C2B66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FAF4-01F8-4CB5-A9CA-D4316D7B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C1FC-2872-4F36-B2C8-67D4C07D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39C2B-6EFD-4DF2-AAE3-B9E56439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CC398-ED2A-4D6E-8418-86D55C4F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FD6F9-4E7E-4DED-B2A4-33BF09A5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174C9-05A9-45BF-AF6A-DAA26ED6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967C8-46A7-48D2-BA0E-42A72964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971-D8FE-4621-80DF-E1D8E1FB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D22B1-A08E-4BC5-A578-93A2D9AA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A947-2949-456B-88DF-7E5BC10A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08DF6-D35E-45C1-A89F-DAE970D8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3A7D2-F47C-40C9-951C-55850AE3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66D94-E33D-4573-966A-53711330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ACAD1-FC8E-47CE-AB01-4CAFAECB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90532-406A-426C-BA95-5D8B7E51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48257-8C9B-4B74-B7F9-FFDF274A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A672A-9338-412F-9DF6-80A10EBE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ED42E-DCCA-4CA2-B7F7-F5C2F298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02F-848F-4108-8A91-4E0C640B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532D1-2851-48B6-B481-2EAA80BB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0A672-1BF7-4BFF-AEF9-40D8F71E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5DAF1-90CA-4FA5-A5D9-1A37E953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C3705-683A-4D87-85CB-32A9561B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4A276-5E3B-4F1E-B806-9CB45CFF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4DCCE-518D-4B18-991D-7F871F73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24E18-02FA-47FF-A629-FA2ECCEC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FF0ED-45F1-453F-B05C-1B5E29E9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3FFB6-FD91-467C-96A4-51D6A497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49966-0B03-4D0E-8BAC-66DFF482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4C5-BC04-4C76-A5BB-27B5121B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A7315-B23F-44E5-A4D7-0F350BD2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9D536-387C-47AA-AF03-26C9BED3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A5FB5-A048-47C2-85BB-9B1E9AA6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B7581-46A1-49F8-91C5-8E71E2C0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05976-C643-48E0-BD71-C83F660F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74E43-DC30-4D51-96EE-6C051651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E3333-55FD-4F43-BF09-40397D6B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14C80-4757-4AEB-9658-89B06EC5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A879E-6817-4FB4-935F-64EA8F01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28449-B1FC-4CF4-8C3B-55195246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CE17-412D-4D22-88E5-24B89038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386C1-F021-4437-B2F7-A1C26877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FE8-E478-4546-A3FC-F3DA1C9D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3AE-E2FA-4348-B27A-FB4CE907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1B3B-C762-4E58-878C-95D87DD6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3969-4AD4-4EC5-B24B-A05BCDCFA8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E229-0304-4639-8759-7EE73AB2C8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BF87-70BB-48D9-977C-02AB7444AE5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0814-EB39-46F5-A38F-8D030EC6B5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8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8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2266-4437-4EB9-B2BD-A85F516948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4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5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1074;&#1080;&#1076;&#1077;&#1086;%20&#1057;&#1072;&#1074;&#1099;/CIMG3565.AVI" TargetMode="External"/><Relationship Id="rId2" Type="http://schemas.openxmlformats.org/officeDocument/2006/relationships/hyperlink" Target="file:///&#1074;&#1080;&#1076;&#1077;&#1086;%20&#1057;&#1072;&#1074;&#1099;/CIMG3565.AVI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Arial"/>
              </a:rPr>
              <a:t>Патриотическое воспитание дошкольников средствами народного прикладного искус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8" descr="1111"/>
          <p:cNvPicPr/>
          <p:nvPr/>
        </p:nvPicPr>
        <p:blipFill>
          <a:blip r:embed="rId1"/>
          <a:stretch/>
        </p:blipFill>
        <p:spPr>
          <a:xfrm>
            <a:off x="5181480" y="2322360"/>
            <a:ext cx="3527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00ff00"/>
                </a:solidFill>
                <a:latin typeface="Arial"/>
              </a:rPr>
              <a:t>Городецкая роспис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10" descr="62717525_1281811075_gr23"/>
          <p:cNvPicPr/>
          <p:nvPr/>
        </p:nvPicPr>
        <p:blipFill>
          <a:blip r:embed="rId1"/>
          <a:stretch/>
        </p:blipFill>
        <p:spPr>
          <a:xfrm>
            <a:off x="2057400" y="914400"/>
            <a:ext cx="4876920" cy="5791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На берегу Волги стоит славный и древний город Городе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10" descr="18645086d39d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5257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Жители Городца и окрестных селений славились как умелые плотники, резчики по дереву. Леса давали материал из которого делали все: от детских игрушек и колыбелей, до кораб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10" descr="Master-klassi-narodnie-promisli-480"/>
          <p:cNvPicPr/>
          <p:nvPr/>
        </p:nvPicPr>
        <p:blipFill>
          <a:blip r:embed="rId1"/>
          <a:stretch/>
        </p:blipFill>
        <p:spPr>
          <a:xfrm>
            <a:off x="685800" y="1676520"/>
            <a:ext cx="7848720" cy="4876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Городецкая роспись – как ее нам не зн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Здесь и жаркие кони, молодецкая ст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Здесь такие букеты, что нельзя опис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Здесь такие сюжеты, что ни в сказке сказ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Со временем мастера стали расписывать, игрушки посуду, мебель матрешек, части дома – ставни, двери, воро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11" descr="Баночка"/>
          <p:cNvPicPr/>
          <p:nvPr/>
        </p:nvPicPr>
        <p:blipFill>
          <a:blip r:embed="rId1"/>
          <a:stretch/>
        </p:blipFill>
        <p:spPr>
          <a:xfrm>
            <a:off x="380880" y="3276720"/>
            <a:ext cx="1697040" cy="2881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Матрешка"/>
          <p:cNvPicPr/>
          <p:nvPr/>
        </p:nvPicPr>
        <p:blipFill>
          <a:blip r:embed="rId2"/>
          <a:stretch/>
        </p:blipFill>
        <p:spPr>
          <a:xfrm>
            <a:off x="2590920" y="3352680"/>
            <a:ext cx="1544400" cy="280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Доска"/>
          <p:cNvPicPr/>
          <p:nvPr/>
        </p:nvPicPr>
        <p:blipFill>
          <a:blip r:embed="rId3"/>
          <a:stretch/>
        </p:blipFill>
        <p:spPr>
          <a:xfrm>
            <a:off x="4572000" y="3276720"/>
            <a:ext cx="1865160" cy="2663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Качалка"/>
          <p:cNvPicPr/>
          <p:nvPr/>
        </p:nvPicPr>
        <p:blipFill>
          <a:blip r:embed="rId4"/>
          <a:stretch/>
        </p:blipFill>
        <p:spPr>
          <a:xfrm>
            <a:off x="6556320" y="3200400"/>
            <a:ext cx="25876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Элементы городецкой роспис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Раст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бутоны, ромашки, купавки, роз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Живот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(птицы, кони, козлик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Лю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10" descr="Без-имени-1"/>
          <p:cNvPicPr/>
          <p:nvPr/>
        </p:nvPicPr>
        <p:blipFill>
          <a:blip r:embed="rId1"/>
          <a:stretch/>
        </p:blipFill>
        <p:spPr>
          <a:xfrm>
            <a:off x="6892920" y="152280"/>
            <a:ext cx="2251080" cy="2664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Конь"/>
          <p:cNvPicPr/>
          <p:nvPr/>
        </p:nvPicPr>
        <p:blipFill>
          <a:blip r:embed="rId2"/>
          <a:stretch/>
        </p:blipFill>
        <p:spPr>
          <a:xfrm>
            <a:off x="6400800" y="2971800"/>
            <a:ext cx="2263680" cy="1649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" descr="Жарптица"/>
          <p:cNvPicPr/>
          <p:nvPr/>
        </p:nvPicPr>
        <p:blipFill>
          <a:blip r:embed="rId3"/>
          <a:stretch/>
        </p:blipFill>
        <p:spPr>
          <a:xfrm>
            <a:off x="4572000" y="2514600"/>
            <a:ext cx="1192320" cy="2232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3" descr="Девушка"/>
          <p:cNvPicPr/>
          <p:nvPr/>
        </p:nvPicPr>
        <p:blipFill>
          <a:blip r:embed="rId4"/>
          <a:stretch/>
        </p:blipFill>
        <p:spPr>
          <a:xfrm>
            <a:off x="1828800" y="3475080"/>
            <a:ext cx="2241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ГОРОДЕЦКАЯ ДОЩЕ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10" descr="Дощечка"/>
          <p:cNvPicPr/>
          <p:nvPr/>
        </p:nvPicPr>
        <p:blipFill>
          <a:blip r:embed="rId1"/>
          <a:stretch/>
        </p:blipFill>
        <p:spPr>
          <a:xfrm>
            <a:off x="2124000" y="635040"/>
            <a:ext cx="4576680" cy="6222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Коняшка"/>
          <p:cNvPicPr/>
          <p:nvPr/>
        </p:nvPicPr>
        <p:blipFill>
          <a:blip r:embed="rId2"/>
          <a:stretch/>
        </p:blipFill>
        <p:spPr>
          <a:xfrm rot="362400">
            <a:off x="3203280" y="2276280"/>
            <a:ext cx="2355840" cy="3313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5" descr="линия"/>
          <p:cNvPicPr/>
          <p:nvPr/>
        </p:nvPicPr>
        <p:blipFill>
          <a:blip r:embed="rId3"/>
          <a:stretch/>
        </p:blipFill>
        <p:spPr>
          <a:xfrm rot="6140400">
            <a:off x="1247400" y="3655800"/>
            <a:ext cx="3743280" cy="552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7" descr="линия"/>
          <p:cNvPicPr/>
          <p:nvPr/>
        </p:nvPicPr>
        <p:blipFill>
          <a:blip r:embed="rId4"/>
          <a:stretch/>
        </p:blipFill>
        <p:spPr>
          <a:xfrm rot="4942800">
            <a:off x="3623760" y="3728880"/>
            <a:ext cx="3743280" cy="552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узор"/>
          <p:cNvPicPr/>
          <p:nvPr/>
        </p:nvPicPr>
        <p:blipFill>
          <a:blip r:embed="rId5"/>
          <a:stretch/>
        </p:blipFill>
        <p:spPr>
          <a:xfrm>
            <a:off x="3352680" y="2286000"/>
            <a:ext cx="2210040" cy="774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линия"/>
          <p:cNvPicPr/>
          <p:nvPr/>
        </p:nvPicPr>
        <p:blipFill>
          <a:blip r:embed="rId6"/>
          <a:stretch/>
        </p:blipFill>
        <p:spPr>
          <a:xfrm>
            <a:off x="3276720" y="5516640"/>
            <a:ext cx="2158920" cy="4334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цветок"/>
          <p:cNvPicPr/>
          <p:nvPr/>
        </p:nvPicPr>
        <p:blipFill>
          <a:blip r:embed="rId7"/>
          <a:stretch/>
        </p:blipFill>
        <p:spPr>
          <a:xfrm>
            <a:off x="2195640" y="4941720"/>
            <a:ext cx="2000160" cy="1324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3" descr="цветок"/>
          <p:cNvPicPr/>
          <p:nvPr/>
        </p:nvPicPr>
        <p:blipFill>
          <a:blip r:embed="rId8"/>
          <a:stretch/>
        </p:blipFill>
        <p:spPr>
          <a:xfrm>
            <a:off x="4572000" y="5084640"/>
            <a:ext cx="192888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В старину люди ели из деревянной посуды. В селе Хохлома искусные мастера делали деревянную посуду и расписывали ее хохломской росписью, отправляли в другие города. Посуда эта нравилась людям своей яркостью, праздничностью, узорами. Различные ложки, ковши, чашки пользовались большим успехом. Позже стали делать меб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7" descr="9"/>
          <p:cNvPicPr/>
          <p:nvPr/>
        </p:nvPicPr>
        <p:blipFill>
          <a:blip r:embed="rId1"/>
          <a:stretch/>
        </p:blipFill>
        <p:spPr>
          <a:xfrm>
            <a:off x="2438280" y="2286000"/>
            <a:ext cx="37213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5400" spc="-1" strike="noStrike">
                <a:solidFill>
                  <a:srgbClr val="00ff00"/>
                </a:solidFill>
                <a:latin typeface="Arial"/>
              </a:rPr>
              <a:t>Хохломская роспис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7" descr="0a31c7e76a8ae8646f716cf09e3c3b44"/>
          <p:cNvPicPr/>
          <p:nvPr/>
        </p:nvPicPr>
        <p:blipFill>
          <a:blip r:embed="rId1"/>
          <a:stretch/>
        </p:blipFill>
        <p:spPr>
          <a:xfrm>
            <a:off x="1981080" y="914400"/>
            <a:ext cx="4800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Arial"/>
              </a:rPr>
              <a:t>При рассказе о росписи, детей поражает то, каким образом начинается путь превращения деревянного бревна в конечное золотое изделие хохло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2"/>
          <p:cNvPicPr/>
          <p:nvPr/>
        </p:nvPicPr>
        <p:blipFill>
          <a:blip r:embed="rId1"/>
          <a:stretch/>
        </p:blipFill>
        <p:spPr>
          <a:xfrm>
            <a:off x="1763640" y="2421000"/>
            <a:ext cx="56214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ff00"/>
                </a:solidFill>
                <a:latin typeface="Arial"/>
              </a:rPr>
              <a:t>Элементы хохломской роспис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Золотая хохлома! И богата, и краси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       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Гостю рада от душ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       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Кубки, чашки и ковши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    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И чего здесь только нет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Гроздья огненных ряби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Маки солнечного лет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        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И ромашки лугови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Зорь червонные лу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И узорчатый орнам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Древне – суздальской пар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Воспитание гражданина и патриота, знающего и любящего свою Родину, не может быть успешно решено без глубокого познания духовного богатства своего народа, освоения народной культу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2" descr="C:\Documents and Settings\User\Мои документы\Лена\к открытому уроку\русские праздники\2.jpg"/>
          <p:cNvPicPr/>
          <p:nvPr/>
        </p:nvPicPr>
        <p:blipFill>
          <a:blip r:embed="rId1"/>
          <a:stretch/>
        </p:blipFill>
        <p:spPr>
          <a:xfrm>
            <a:off x="2666880" y="2971800"/>
            <a:ext cx="4114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рос1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1238400" y="1076400"/>
            <a:ext cx="66672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рос2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рис3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609480" y="380880"/>
            <a:ext cx="81536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рис4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609480" y="228600"/>
            <a:ext cx="8077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ВАЗОЧКА ДЛЯ Ц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7" descr="рис5"/>
          <p:cNvPicPr/>
          <p:nvPr/>
        </p:nvPicPr>
        <p:blipFill>
          <a:blip r:embed="rId1"/>
          <a:stretch/>
        </p:blipFill>
        <p:spPr>
          <a:xfrm>
            <a:off x="914400" y="762120"/>
            <a:ext cx="7746840" cy="5467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2222"/>
          <p:cNvPicPr/>
          <p:nvPr/>
        </p:nvPicPr>
        <p:blipFill>
          <a:blip r:embed="rId2"/>
          <a:stretch/>
        </p:blipFill>
        <p:spPr>
          <a:xfrm>
            <a:off x="5148360" y="2637000"/>
            <a:ext cx="701640" cy="5270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5" descr="2222"/>
          <p:cNvPicPr/>
          <p:nvPr/>
        </p:nvPicPr>
        <p:blipFill>
          <a:blip r:embed="rId3"/>
          <a:stretch/>
        </p:blipFill>
        <p:spPr>
          <a:xfrm>
            <a:off x="6012000" y="2637000"/>
            <a:ext cx="701640" cy="5270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6" descr="2222"/>
          <p:cNvPicPr/>
          <p:nvPr/>
        </p:nvPicPr>
        <p:blipFill>
          <a:blip r:embed="rId4"/>
          <a:stretch/>
        </p:blipFill>
        <p:spPr>
          <a:xfrm>
            <a:off x="6804000" y="2637000"/>
            <a:ext cx="701640" cy="5270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6"/>
          <p:cNvPicPr/>
          <p:nvPr/>
        </p:nvPicPr>
        <p:blipFill>
          <a:blip r:embed="rId5"/>
          <a:stretch/>
        </p:blipFill>
        <p:spPr>
          <a:xfrm rot="1215600">
            <a:off x="4500720" y="3860640"/>
            <a:ext cx="3638520" cy="1067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1" descr="22"/>
          <p:cNvPicPr/>
          <p:nvPr/>
        </p:nvPicPr>
        <p:blipFill>
          <a:blip r:embed="rId6"/>
          <a:stretch/>
        </p:blipFill>
        <p:spPr>
          <a:xfrm rot="3480000">
            <a:off x="4843080" y="4092480"/>
            <a:ext cx="1266840" cy="16671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2" descr="22"/>
          <p:cNvPicPr/>
          <p:nvPr/>
        </p:nvPicPr>
        <p:blipFill>
          <a:blip r:embed="rId7"/>
          <a:stretch/>
        </p:blipFill>
        <p:spPr>
          <a:xfrm rot="18271800">
            <a:off x="6643800" y="2941200"/>
            <a:ext cx="12668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3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3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Ремесло росписи по дереву является частью народного искусства, частью фольклора. Не случайно термин «фольклор» трактуется и как народное творчество, и как народная мудрость, и как народные зн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2" descr="http://ruskerealie.zcu.cz/images/image_2684.jpg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видео Савы\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CIMG3565.A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Прямоугольник 3" descr=""/>
          <p:cNvPicPr/>
          <p:nvPr/>
        </p:nvPicPr>
        <p:blipFill>
          <a:blip r:embed="rId1"/>
          <a:stretch/>
        </p:blipFill>
        <p:spPr>
          <a:xfrm>
            <a:off x="749160" y="2968560"/>
            <a:ext cx="764568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4400" spc="-1" strike="noStrike">
                <a:solidFill>
                  <a:srgbClr val="00ff00"/>
                </a:solidFill>
                <a:latin typeface="Arial"/>
              </a:rPr>
              <a:t>Цели презентаци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Дать представление о воспитании патриотических чувств дошкольников в народно – прикладном искус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Показать индивидуальность, своеобразие и неповторимость произведений народно – прикладного искусства ( хохлома, дымка, городец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Arial"/>
              </a:rPr>
              <a:t>Предоставляя детям возможности заниматься художественно – прикладной деятельностью, дети осознают свое «Я», свои способности, выражают себя в творчестве, проявляют инициативность, самостоятельность, чувство радости и уверенности в своих силах, расширяют круг общения со взрослыми и сверстни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4" descr="г1"/>
          <p:cNvPicPr/>
          <p:nvPr/>
        </p:nvPicPr>
        <p:blipFill>
          <a:blip r:embed="rId1"/>
          <a:stretch/>
        </p:blipFill>
        <p:spPr>
          <a:xfrm>
            <a:off x="1295280" y="3505320"/>
            <a:ext cx="6172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ff00"/>
                </a:solidFill>
                <a:latin typeface="Arial"/>
              </a:rPr>
              <a:t>Дымковская роспис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7" descr="2374894_014dimka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990720" y="1752480"/>
            <a:ext cx="6856200" cy="495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Arial"/>
              </a:rPr>
              <a:t>С высокого берега реки Вятка, на котором стоит город Киров, видно заречную слободу Дымково.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ff00"/>
                </a:solidFill>
                <a:latin typeface="Arial"/>
              </a:rPr>
              <a:t>Зимой, когда топятся печи, летом в пасмурные дни, когда туман, слобода вся - будто в дыму, в дымке. Здесь в далекую старину и зародилась эта игруш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4" descr="images (3)"/>
          <p:cNvPicPr/>
          <p:nvPr/>
        </p:nvPicPr>
        <p:blipFill>
          <a:blip r:embed="rId1"/>
          <a:stretch/>
        </p:blipFill>
        <p:spPr>
          <a:xfrm>
            <a:off x="2133720" y="2666880"/>
            <a:ext cx="5041800" cy="403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Элементы дымковской роспис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Игрушки лепят из гл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Потом разводят на моло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мел и белят игрушки. И ту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наступает пора их расписыва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Узор необычно прост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кружочки прямые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волнистые лини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клеточка, пятна, точ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Краски яркие – яркие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малиновые, красн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зеленые, желт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оранжевые, синие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0" descr="рис10"/>
          <p:cNvPicPr/>
          <p:nvPr/>
        </p:nvPicPr>
        <p:blipFill>
          <a:blip r:embed="rId1"/>
          <a:stretch/>
        </p:blipFill>
        <p:spPr>
          <a:xfrm>
            <a:off x="4952880" y="838080"/>
            <a:ext cx="4038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Вначале были свистульки. Мастерицы лепили их для ярмарки. Из небольшого глиняного шарика с отверстиями свистулька превращалась то в петушка, то в уточку, то в барашика. Прошло много лет и вот придумали лепить из глины другие игрушки: коников, индюков, барынь и кавалеров, диковинных оленей и д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8" descr="рис7"/>
          <p:cNvPicPr/>
          <p:nvPr/>
        </p:nvPicPr>
        <p:blipFill>
          <a:blip r:embed="rId1"/>
          <a:stretch/>
        </p:blipFill>
        <p:spPr>
          <a:xfrm>
            <a:off x="0" y="2590920"/>
            <a:ext cx="3622680" cy="3479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рис9"/>
          <p:cNvPicPr/>
          <p:nvPr/>
        </p:nvPicPr>
        <p:blipFill>
          <a:blip r:embed="rId2"/>
          <a:stretch/>
        </p:blipFill>
        <p:spPr>
          <a:xfrm>
            <a:off x="2971800" y="2895480"/>
            <a:ext cx="2638440" cy="3600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рис8"/>
          <p:cNvPicPr/>
          <p:nvPr/>
        </p:nvPicPr>
        <p:blipFill>
          <a:blip r:embed="rId3"/>
          <a:stretch/>
        </p:blipFill>
        <p:spPr>
          <a:xfrm>
            <a:off x="5770440" y="2438280"/>
            <a:ext cx="33735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Ремесло росписи по дереву является частью народного искусства, частью фольклора. Не случайно термин «фольклор» трактуется и как народное творчество, и как народная мудрость, и как народные знания, опы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г2"/>
          <p:cNvPicPr/>
          <p:nvPr/>
        </p:nvPicPr>
        <p:blipFill>
          <a:blip r:embed="rId1"/>
          <a:stretch/>
        </p:blipFill>
        <p:spPr>
          <a:xfrm>
            <a:off x="838080" y="3124080"/>
            <a:ext cx="7391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8-03-24T12:05:11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