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9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2BF-11F1-460C-ABD0-929121E8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48B-7915-48E4-BAB1-7017E5B6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78E-5B43-4173-9955-AC7D6B7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4F5-ECC4-42CB-A324-53F39D6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0EE-F39A-4DCC-A4EB-2D18E886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FDFB-3410-4ED9-B87A-8E9F39A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BD8-B829-459D-9DFA-24F26E3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37ED-6B0D-4A90-8D8F-263714AC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210-A305-4BAF-9198-F7B90D3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83C0-48BB-4770-A078-0C91BA0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53F-A179-46E3-A5AC-95F738C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FB1-DA6D-413B-8601-DF87A61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EE1D-AF1D-41C8-8AEB-2EA62B9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2D64-9795-4115-87F4-DC881DF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CF8E-7275-4BE1-9058-FBCB449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8BE9-D6B1-4B00-B42F-40D6B62B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6CD-D1D6-495B-BB45-60B16F21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9F6F-B494-4530-8C4B-F3283B09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9A64-585F-4C4B-82B8-721221C2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5154-317A-47BB-AEF3-B267F8A0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EBC7-437E-452D-9F0B-B5535F50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5EA0-0094-4A0D-AD13-95294EBB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1D4-B0F3-4EE2-BCCB-20B1493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5D73-93B5-412B-96A4-9B05603E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18A8-8488-4FDC-987F-806A256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F521-5B74-436B-926B-3381BFF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1B47-1AD9-4CE1-B086-6B2A239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5A933-CB9A-40CC-BD2B-BFCB771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1952-D9BE-4EE5-BB92-90056747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6D09-4BE5-4741-8F51-B49F1DD9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1488-A6A7-46F2-8826-7E86BF22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F527-CC18-464D-B260-098A4A25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562E2-C681-43F3-A37D-DA71A27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700-BFDE-4B69-9AC8-728E88A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07D3-EE42-4F9B-88F1-AB6E290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6621-0F5F-4241-B3A5-4FA8B74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2B81-1F7A-4C8F-82CE-D056E7E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EEEE-48D8-4A7A-96DA-EEC74C5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F8FC-FD9B-49B8-A938-A345C54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0BDC-51F3-47CA-B035-C19800D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660E-BB66-438A-92C9-FC4777DA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A67A-1CF4-43CF-9EAB-F46EA25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829F-1D29-492A-81A6-148AF61B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3280-752C-48EF-A98C-5E93E641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633-AFD8-477C-8521-F722D44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7024-8031-4A1E-AAE6-20339154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7F69-4AD1-4714-A585-0E452E7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7BC8-FA0B-49B3-A2D3-29494D4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94E5-19BC-4864-A4D2-3BE71B7C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F934A-7274-4781-8BC8-0F72C19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AB15F-7BE2-49CB-9242-8BA1497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A0584-DE27-4629-A938-DA1E72F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8A23-E663-43BF-9B48-49EFD7E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ACD4-0ED3-40B6-ADA7-6BB9172F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A1EBB-D788-4F4B-B22A-28126761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1B2-9BE2-4626-BB2F-8BDA8A8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DD33-CDF1-45CA-846E-071B8202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975-EE24-48BE-8CBE-5C581CE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A86-E15A-4F36-8E3C-6FCD69B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854-F93B-470F-AAD7-CA004DD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8340-2B9E-4594-B262-380DF56472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CF2C-2856-4C21-9DEB-22B6E167B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485-8A50-4E8D-A44A-66EA18E68C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520-2FFD-4A52-9C6A-FD9859E009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36B9-FCF7-46C2-BE5F-11DF4FF45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77;&#1086;%20&#1057;&#1072;&#1074;&#1099;/CIMG3565.AVI" TargetMode="External"/><Relationship Id="rId2" Type="http://schemas.openxmlformats.org/officeDocument/2006/relationships/hyperlink" Target="file:///&#1074;&#1080;&#1076;&#1077;&#1086;%20&#1057;&#1072;&#1074;&#1099;/CIMG3565.AVI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Патриотическое воспитание дошкольников средствами народного прикладного искус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1111"/>
          <p:cNvPicPr/>
          <p:nvPr/>
        </p:nvPicPr>
        <p:blipFill>
          <a:blip r:embed="rId1"/>
          <a:stretch/>
        </p:blipFill>
        <p:spPr>
          <a:xfrm>
            <a:off x="5181480" y="2322360"/>
            <a:ext cx="3527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ff00"/>
                </a:solidFill>
                <a:latin typeface="Arial"/>
              </a:rPr>
              <a:t>Городецкая роспис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0" descr="62717525_1281811075_gr23"/>
          <p:cNvPicPr/>
          <p:nvPr/>
        </p:nvPicPr>
        <p:blipFill>
          <a:blip r:embed="rId1"/>
          <a:stretch/>
        </p:blipFill>
        <p:spPr>
          <a:xfrm>
            <a:off x="2057400" y="914400"/>
            <a:ext cx="487692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На берегу Волги стоит славный и древний город Город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0" descr="18645086d39d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Жители Городца и окрестных селений славились как умелые плотники, резчики по дереву. Леса давали материал из которого делали все: от детских игрушек и колыбелей, до кораб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Master-klassi-narodnie-promisli-480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87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Городецкая роспись – как ее нам не зн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и жаркие кони, молодецкая с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такие букеты, что нельзя опис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Здесь такие сюжеты, что ни в сказке сказ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о временем мастера стали расписывать, игрушки посуду, мебель матрешек, части дома – ставни, двери, вор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1" descr="Баночка"/>
          <p:cNvPicPr/>
          <p:nvPr/>
        </p:nvPicPr>
        <p:blipFill>
          <a:blip r:embed="rId1"/>
          <a:stretch/>
        </p:blipFill>
        <p:spPr>
          <a:xfrm>
            <a:off x="380880" y="3276720"/>
            <a:ext cx="1697040" cy="2881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Матрешка"/>
          <p:cNvPicPr/>
          <p:nvPr/>
        </p:nvPicPr>
        <p:blipFill>
          <a:blip r:embed="rId2"/>
          <a:stretch/>
        </p:blipFill>
        <p:spPr>
          <a:xfrm>
            <a:off x="2590920" y="3352680"/>
            <a:ext cx="1544400" cy="280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Доска"/>
          <p:cNvPicPr/>
          <p:nvPr/>
        </p:nvPicPr>
        <p:blipFill>
          <a:blip r:embed="rId3"/>
          <a:stretch/>
        </p:blipFill>
        <p:spPr>
          <a:xfrm>
            <a:off x="4572000" y="3276720"/>
            <a:ext cx="1865160" cy="266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ачалка"/>
          <p:cNvPicPr/>
          <p:nvPr/>
        </p:nvPicPr>
        <p:blipFill>
          <a:blip r:embed="rId4"/>
          <a:stretch/>
        </p:blipFill>
        <p:spPr>
          <a:xfrm>
            <a:off x="6556320" y="3200400"/>
            <a:ext cx="2587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Элементы городецкой роспис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Раст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бутоны, ромашки, купавки, роз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Жив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(птицы, кони, козл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Без-имени-1"/>
          <p:cNvPicPr/>
          <p:nvPr/>
        </p:nvPicPr>
        <p:blipFill>
          <a:blip r:embed="rId1"/>
          <a:stretch/>
        </p:blipFill>
        <p:spPr>
          <a:xfrm>
            <a:off x="6892920" y="152280"/>
            <a:ext cx="2251080" cy="266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Конь"/>
          <p:cNvPicPr/>
          <p:nvPr/>
        </p:nvPicPr>
        <p:blipFill>
          <a:blip r:embed="rId2"/>
          <a:stretch/>
        </p:blipFill>
        <p:spPr>
          <a:xfrm>
            <a:off x="6400800" y="2971800"/>
            <a:ext cx="2263680" cy="164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Жарптица"/>
          <p:cNvPicPr/>
          <p:nvPr/>
        </p:nvPicPr>
        <p:blipFill>
          <a:blip r:embed="rId3"/>
          <a:stretch/>
        </p:blipFill>
        <p:spPr>
          <a:xfrm>
            <a:off x="4572000" y="2514600"/>
            <a:ext cx="1192320" cy="223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Девушка"/>
          <p:cNvPicPr/>
          <p:nvPr/>
        </p:nvPicPr>
        <p:blipFill>
          <a:blip r:embed="rId4"/>
          <a:stretch/>
        </p:blipFill>
        <p:spPr>
          <a:xfrm>
            <a:off x="1828800" y="3475080"/>
            <a:ext cx="2241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ОРОДЕЦКАЯ ДОЩЕ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0" descr="Дощечка"/>
          <p:cNvPicPr/>
          <p:nvPr/>
        </p:nvPicPr>
        <p:blipFill>
          <a:blip r:embed="rId1"/>
          <a:stretch/>
        </p:blipFill>
        <p:spPr>
          <a:xfrm>
            <a:off x="2124000" y="635040"/>
            <a:ext cx="4576680" cy="622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Коняшка"/>
          <p:cNvPicPr/>
          <p:nvPr/>
        </p:nvPicPr>
        <p:blipFill>
          <a:blip r:embed="rId2"/>
          <a:stretch/>
        </p:blipFill>
        <p:spPr>
          <a:xfrm rot="362400">
            <a:off x="3203280" y="2276280"/>
            <a:ext cx="2355840" cy="331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линия"/>
          <p:cNvPicPr/>
          <p:nvPr/>
        </p:nvPicPr>
        <p:blipFill>
          <a:blip r:embed="rId3"/>
          <a:stretch/>
        </p:blipFill>
        <p:spPr>
          <a:xfrm rot="6140400">
            <a:off x="1247400" y="3655800"/>
            <a:ext cx="3743280" cy="552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7" descr="линия"/>
          <p:cNvPicPr/>
          <p:nvPr/>
        </p:nvPicPr>
        <p:blipFill>
          <a:blip r:embed="rId4"/>
          <a:stretch/>
        </p:blipFill>
        <p:spPr>
          <a:xfrm rot="4942800">
            <a:off x="3623760" y="3728880"/>
            <a:ext cx="3743280" cy="552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узор"/>
          <p:cNvPicPr/>
          <p:nvPr/>
        </p:nvPicPr>
        <p:blipFill>
          <a:blip r:embed="rId5"/>
          <a:stretch/>
        </p:blipFill>
        <p:spPr>
          <a:xfrm>
            <a:off x="3352680" y="2286000"/>
            <a:ext cx="2210040" cy="77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линия"/>
          <p:cNvPicPr/>
          <p:nvPr/>
        </p:nvPicPr>
        <p:blipFill>
          <a:blip r:embed="rId6"/>
          <a:stretch/>
        </p:blipFill>
        <p:spPr>
          <a:xfrm>
            <a:off x="3276720" y="5516640"/>
            <a:ext cx="215892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цветок"/>
          <p:cNvPicPr/>
          <p:nvPr/>
        </p:nvPicPr>
        <p:blipFill>
          <a:blip r:embed="rId7"/>
          <a:stretch/>
        </p:blipFill>
        <p:spPr>
          <a:xfrm>
            <a:off x="2195640" y="4941720"/>
            <a:ext cx="2000160" cy="132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цветок"/>
          <p:cNvPicPr/>
          <p:nvPr/>
        </p:nvPicPr>
        <p:blipFill>
          <a:blip r:embed="rId8"/>
          <a:stretch/>
        </p:blipFill>
        <p:spPr>
          <a:xfrm>
            <a:off x="4572000" y="5084640"/>
            <a:ext cx="19288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 старину люди ели из деревянной посуды. В селе Хохлома искусные мастера делали деревянную посуду и расписывали ее хохломской росписью, отправляли в другие города. Посуда эта нравилась людям своей яркостью, праздничностью, узорами. Различные ложки, ковши, чашки пользовались большим успехом. Позже стали делать меб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7" descr="9"/>
          <p:cNvPicPr/>
          <p:nvPr/>
        </p:nvPicPr>
        <p:blipFill>
          <a:blip r:embed="rId1"/>
          <a:stretch/>
        </p:blipFill>
        <p:spPr>
          <a:xfrm>
            <a:off x="2438280" y="2286000"/>
            <a:ext cx="3721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00ff00"/>
                </a:solidFill>
                <a:latin typeface="Arial"/>
              </a:rPr>
              <a:t>Хохломская рос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0a31c7e76a8ae8646f716cf09e3c3b44"/>
          <p:cNvPicPr/>
          <p:nvPr/>
        </p:nvPicPr>
        <p:blipFill>
          <a:blip r:embed="rId1"/>
          <a:stretch/>
        </p:blipFill>
        <p:spPr>
          <a:xfrm>
            <a:off x="1981080" y="914400"/>
            <a:ext cx="4800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При рассказе о росписи, детей поражает то, каким образом начинается путь превращения деревянного бревна в конечное золотое изделие хохл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2"/>
          <p:cNvPicPr/>
          <p:nvPr/>
        </p:nvPicPr>
        <p:blipFill>
          <a:blip r:embed="rId1"/>
          <a:stretch/>
        </p:blipFill>
        <p:spPr>
          <a:xfrm>
            <a:off x="1763640" y="2421000"/>
            <a:ext cx="56214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Элементы хохломской роспи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Золотая хохлома! И богата, и крас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остю рада от д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убки, чашки и ковш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чего здесь только нет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роздья огненных ряб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Маки солнечного л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ромашки лугов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Зорь червонные лу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узорчатый орна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Древне – суздальской пар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Воспитание гражданина и патриота, знающего и любящего свою Родину, не может быть успешно решено без глубокого познания духовного богатства своего народа, освоения народной куль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C:\Documents and Settings\User\Мои документы\Лена\к открытому уроку\русские праздники\2.jpg"/>
          <p:cNvPicPr/>
          <p:nvPr/>
        </p:nvPicPr>
        <p:blipFill>
          <a:blip r:embed="rId1"/>
          <a:stretch/>
        </p:blipFill>
        <p:spPr>
          <a:xfrm>
            <a:off x="2666880" y="297180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рос1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1238400" y="1076400"/>
            <a:ext cx="66672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рос2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рис3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609480" y="380880"/>
            <a:ext cx="8153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рис4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609480" y="228600"/>
            <a:ext cx="8077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ВАЗОЧКА ДЛЯ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рис5"/>
          <p:cNvPicPr/>
          <p:nvPr/>
        </p:nvPicPr>
        <p:blipFill>
          <a:blip r:embed="rId1"/>
          <a:stretch/>
        </p:blipFill>
        <p:spPr>
          <a:xfrm>
            <a:off x="914400" y="762120"/>
            <a:ext cx="7746840" cy="546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2222"/>
          <p:cNvPicPr/>
          <p:nvPr/>
        </p:nvPicPr>
        <p:blipFill>
          <a:blip r:embed="rId2"/>
          <a:stretch/>
        </p:blipFill>
        <p:spPr>
          <a:xfrm>
            <a:off x="514836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2222"/>
          <p:cNvPicPr/>
          <p:nvPr/>
        </p:nvPicPr>
        <p:blipFill>
          <a:blip r:embed="rId3"/>
          <a:stretch/>
        </p:blipFill>
        <p:spPr>
          <a:xfrm>
            <a:off x="601200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6" descr="2222"/>
          <p:cNvPicPr/>
          <p:nvPr/>
        </p:nvPicPr>
        <p:blipFill>
          <a:blip r:embed="rId4"/>
          <a:stretch/>
        </p:blipFill>
        <p:spPr>
          <a:xfrm>
            <a:off x="6804000" y="2637000"/>
            <a:ext cx="701640" cy="527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6"/>
          <p:cNvPicPr/>
          <p:nvPr/>
        </p:nvPicPr>
        <p:blipFill>
          <a:blip r:embed="rId5"/>
          <a:stretch/>
        </p:blipFill>
        <p:spPr>
          <a:xfrm rot="1215600">
            <a:off x="4500720" y="3860640"/>
            <a:ext cx="3638520" cy="1067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22"/>
          <p:cNvPicPr/>
          <p:nvPr/>
        </p:nvPicPr>
        <p:blipFill>
          <a:blip r:embed="rId6"/>
          <a:stretch/>
        </p:blipFill>
        <p:spPr>
          <a:xfrm rot="3480000">
            <a:off x="4843080" y="4092480"/>
            <a:ext cx="1266840" cy="1667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22"/>
          <p:cNvPicPr/>
          <p:nvPr/>
        </p:nvPicPr>
        <p:blipFill>
          <a:blip r:embed="rId7"/>
          <a:stretch/>
        </p:blipFill>
        <p:spPr>
          <a:xfrm rot="18271800">
            <a:off x="6643800" y="2941200"/>
            <a:ext cx="1266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Ремесло росписи по дереву является частью народного искусства, частью фольклора. Не случайно термин «фольклор» трактуется и как народное творчество, и как народная мудрость, и как народные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http://ruskerealie.zcu.cz/images/image_2684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видео Савы\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IMG3565.A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2968560"/>
            <a:ext cx="7645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Цели презентац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Дать представление о воспитании патриотических чувств дошкольников в народно – прикладном искус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Показать индивидуальность, своеобразие и неповторимость произведений народно – прикладного искусства ( хохлома, дымка, городец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Предоставляя детям возможности заниматься художественно – прикладной деятельностью, дети осознают свое «Я», свои способности, выражают себя в творчестве, проявляют инициативность, самостоятельность, чувство радости и уверенности в своих силах, расширяют круг общения со взрослыми и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г1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ff00"/>
                </a:solidFill>
                <a:latin typeface="Arial"/>
              </a:rPr>
              <a:t>Дымковская рос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2374894_014dimka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1752480"/>
            <a:ext cx="6856200" cy="495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С высокого берега реки Вятка, на котором стоит город Киров, видно заречную слободу Дымково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Зимой, когда топятся печи, летом в пасмурные дни, когда туман, слобода вся - будто в дыму, в дымке. Здесь в далекую старину и зародилась эта игр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images (3)"/>
          <p:cNvPicPr/>
          <p:nvPr/>
        </p:nvPicPr>
        <p:blipFill>
          <a:blip r:embed="rId1"/>
          <a:stretch/>
        </p:blipFill>
        <p:spPr>
          <a:xfrm>
            <a:off x="2133720" y="2666880"/>
            <a:ext cx="5041800" cy="403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Элементы дымковской роспис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Игрушки лепят из гл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Потом разводят на моло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мел и белят игрушки. И т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наступает пора их расписы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Узор необычно прос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ружочки прям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олнистые лин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леточка, пятна, точ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Краски яркие – ярки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малиновые, красн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зеленые, желт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оранжевые, синие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" descr="рис10"/>
          <p:cNvPicPr/>
          <p:nvPr/>
        </p:nvPicPr>
        <p:blipFill>
          <a:blip r:embed="rId1"/>
          <a:stretch/>
        </p:blipFill>
        <p:spPr>
          <a:xfrm>
            <a:off x="4952880" y="838080"/>
            <a:ext cx="4038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начале были свистульки. Мастерицы лепили их для ярмарки. Из небольшого глиняного шарика с отверстиями свистулька превращалась то в петушка, то в уточку, то в барашика. Прошло много лет и вот придумали лепить из глины другие игрушки: коников, индюков, барынь и кавалеров, диковинных оленей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8" descr="рис7"/>
          <p:cNvPicPr/>
          <p:nvPr/>
        </p:nvPicPr>
        <p:blipFill>
          <a:blip r:embed="rId1"/>
          <a:stretch/>
        </p:blipFill>
        <p:spPr>
          <a:xfrm>
            <a:off x="0" y="2590920"/>
            <a:ext cx="3622680" cy="3479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рис9"/>
          <p:cNvPicPr/>
          <p:nvPr/>
        </p:nvPicPr>
        <p:blipFill>
          <a:blip r:embed="rId2"/>
          <a:stretch/>
        </p:blipFill>
        <p:spPr>
          <a:xfrm>
            <a:off x="2971800" y="2895480"/>
            <a:ext cx="2638440" cy="360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рис8"/>
          <p:cNvPicPr/>
          <p:nvPr/>
        </p:nvPicPr>
        <p:blipFill>
          <a:blip r:embed="rId3"/>
          <a:stretch/>
        </p:blipFill>
        <p:spPr>
          <a:xfrm>
            <a:off x="5770440" y="2438280"/>
            <a:ext cx="3373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Ремесло росписи по дереву является частью народного искусства, частью фольклора. Не случайно термин «фольклор» трактуется и как народное творчество, и как народная мудрость, и как народные знания, опы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г2"/>
          <p:cNvPicPr/>
          <p:nvPr/>
        </p:nvPicPr>
        <p:blipFill>
          <a:blip r:embed="rId1"/>
          <a:stretch/>
        </p:blipFill>
        <p:spPr>
          <a:xfrm>
            <a:off x="838080" y="312408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3-24T12:05:1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