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0ED-F4B8-43D0-8AFE-B30A3AE6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F10-F807-4F83-99AF-E0408A15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BA8-0575-47A0-941F-52891A29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ED2-CA1F-461C-88C0-3AC99E5B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C24-4236-4523-B0A4-7AD7F7A7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18D-3622-4E43-89F8-3D0A7D4C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9F0-DB23-4546-ACAD-7A03BC89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A1F-BCDD-4F83-9D07-D6C15C87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001-32DD-426B-879D-2609B9CF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DCC-599E-4A2F-87F2-E664C8D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BF1-EF26-4170-84C3-46A3AD9B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B48-8528-4418-8FB2-70BFC92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41D9-3BC5-4623-9D4B-277CE249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1.Снаряжение война(шлем, панцирь, щит, оруж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600200" y="228600"/>
          <a:ext cx="6095880" cy="631512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2.Серебряная мо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3.Человек отказавшийся от общения, живущий уединё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4.По-гречески «захваченны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5.Высокий столб, обычно служащий опорой в 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6.Большое и сильное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7.Красочные рисунки на стенах, потолках, ва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8.Человек, занимающийся изготовлением сосудов, орудий труда, тканей или др.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00200" y="609480"/>
          <a:ext cx="6095880" cy="582624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9.Сказание о богах и легендарных геро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00200" y="609480"/>
          <a:ext cx="6095880" cy="631512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ool</cp:lastModifiedBy>
  <dcterms:modified xsi:type="dcterms:W3CDTF">2010-05-11T02:54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