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BFF-17E4-4BCD-9940-39F05063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74A-B598-42F8-A666-8F8B66A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5BE-A927-41C3-9BCB-15CA7000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4C8-CBFC-4E0E-9D7C-CC4051DE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C95-B1D3-47DB-82C5-2D99637E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FCF-D45B-4682-8622-BE405F5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57E-B846-4D28-AA2A-C6EA35F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3E3-FD05-43A6-BBB8-11545AF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2E5-23C4-4B05-9EDD-62AEA194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1DE-9790-4621-9A8F-4C9D059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29C-9D65-4E0C-B7FE-3DA4E332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1BA-B741-4963-94A7-AAE494B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209-E11F-4B25-8E08-B2AD77A5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1.Снаряжение война(шлем, панцирь, щит, оруж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600200" y="228600"/>
          <a:ext cx="6095880" cy="631512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2.Серебряная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3.Человек отказавшийся от общения, живущий уедин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4.По-гречески «захвачен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5.Высокий столб, обычно служащий опорой в 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6.Большое и сильное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7.Красочные рисунки на стенах, потолках, ва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8.Человек, занимающийся изготовлением сосудов, орудий труда, тканей или др.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9.Сказание о богах и легендарных геро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00200" y="609480"/>
          <a:ext cx="6095880" cy="631512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ool</cp:lastModifiedBy>
  <dcterms:modified xsi:type="dcterms:W3CDTF">2010-05-11T02:54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