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2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74D5B-AF1D-46F1-808B-410A1B573A5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D3540-FBC4-49A2-BAA3-C3805B1BCF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8F2D4-CBF6-45B6-8568-39CA6C01F9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66F8D-AE7F-41C1-BD15-DEE6956D950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74A95-B53E-41B0-98C7-7EA8D910AC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CA441-A90A-40C9-ADE2-832146260A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35C9-AE84-47B5-B70C-157BAA704B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37EC7-D628-4D15-ACEB-9D46C63AEE6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94424-DF9D-4B8F-8DCF-6FD327D3B7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52370-09CC-4301-A271-2522540ED3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01CE-34B8-4FF9-8167-5287A018C8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8607A-1410-49CA-89EE-E0B51DCACB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34154-450B-4B41-AA19-6D9E2461E06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07B09A-25FD-41FB-84AE-FF6707CAA7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5F164-EA2E-4FCA-8C96-65A3668D207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0FE36-6C32-40FE-8546-D4BD7D04E17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673F5-128D-445F-8324-BB0B9A7B193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011DC-04A0-400A-BD27-1464D491EF3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CE9E8-1A29-4975-A8EB-89B89A63747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0601D-C32F-49F0-BF74-4D23CC1297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F8D76-744E-4C17-BFE5-79CEA84396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58C5A-EB3C-40AF-B32B-C900F2F39B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238F5-873C-4A76-B8E5-48B501EF69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2AD8F0-1686-48AB-8694-7D1DF097BC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6B655-8FAE-4689-8E28-F96DB99AB12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1E7F9A-3A57-48EC-A942-E612D1C23F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1094A-A653-4323-9B7F-D42902A76AA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4B992-8A27-40CA-851C-F83373F2E0A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216316-A14F-43D1-9FC0-0957FDD98F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0852-648A-4DC1-B210-D8AEB2EED7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3E584-3AC4-4C4F-94DC-A50EC942BD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B504-A12C-4607-AD2D-2950B447A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293D-8DC8-4092-9578-1D7C83A5FC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A928-4E59-461F-A8F1-68961A4EB48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5E53-CF86-4EBB-9783-C42A53FEBA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DCEF-D154-487C-AADC-12E65C84DC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AB54-D8E1-48BB-9814-6796A989C95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6B0D-9D59-43A6-930F-47DB26C59F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BE3C-115C-49A3-BA4B-56AC85DA4B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B47F-FFD4-4CB0-AE2B-EBA5F12727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199D-2C77-421F-9C7A-B5E37F611A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CE5C-090F-4F3B-BA37-F30B340E4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8C54-5493-415C-BCF9-81039DF26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A000-1B6A-4DCB-ABE4-D358C3BBC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F1E5-F826-4D32-81BE-FD20AB2515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0870-E75B-40F8-9300-E5AF1DD724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B629-E9FC-4322-8855-B3041B2F8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65A0-E73A-4A3C-A505-92B262BD7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F0BB-640C-455A-B370-F56367ADE1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69D4-E715-4304-8049-2ED0AD2998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CC3F-2312-43BF-B563-259C903CF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CC5F-467C-4777-98CA-A1D07253F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62CD-AB46-47FF-9548-0464470724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82B5-A423-46BD-BB72-96365555D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37F3-7F9B-475B-B70D-695FDCFB9E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FFF8-5E94-4EFC-A11B-ED12C1014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5970-D05B-4C6C-B834-DFD297FBAC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C76-845E-4019-A150-3B9166BE13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E4C-DB23-4B00-9EB7-82FFF2B421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43F-E445-4F3E-9DD3-1EB5B86159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B07-DCB7-4117-AA4E-1905FA2567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B3F-94CF-4339-ABF4-ABF468886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5D34-7B32-49FD-8CCB-BBA439862F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A44-35D4-401B-BAB2-886F2AE0D8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8F9-C166-4402-BF9D-16146938D1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3EE-0BFD-4179-9B43-31483F165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B5D-C491-45E4-9A4D-4FF99C3526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E13-CB55-49BE-B71F-9E2E4CF72E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5D4-ED00-4D9F-9451-0CC7428BBD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75E-1DD6-46B7-921F-2E368EABE5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F6A3-FB04-4682-8BEC-0D4248D7D9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D45DC-BA2B-4855-9E6D-9AEE4C19DF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A161-30B0-4328-AADA-41FA73FFC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7D65-AC1F-40CB-BF2D-4B74BD726E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6F96B-E4ED-480E-8F15-11762C6101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BA956-B75F-4B29-90DE-EA58F3FEB1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70311-3479-4D41-BEE2-9836E05F24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AF8E6-FCF6-4374-81E8-F3DEF77BAC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1874A-ADC7-44DC-A3D1-83E24A1AC5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77BFF-8E62-4E9B-98B7-2E776EAB8D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4E227-6515-4939-B930-10BC02B27B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337A7-D9BB-42FE-AC82-AAB90BD4B2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5F7D6-DA89-4472-A13F-27F9EB75E0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13909-EBF9-4EDD-9EA9-A4201110A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6C6B-BB30-455C-8033-531F4FAD45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E4BF2-F73D-4A9B-8C75-9DB0A3CCBC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654E-8CBE-4720-BC10-BA1017BC0A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69153-CBD0-40F8-A588-A84A9FB006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76C26-8D86-45FD-82A3-A8C9E3BB8F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8F4F8-557F-4FA3-A0E5-A349CC9114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4F47B-04C0-4DC3-AA29-8B1A11B529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C5B68-D2D3-4BD1-B351-90423CF79B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91153-2CAC-4AB7-917D-0796296C12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36964-0A3B-4583-8185-70E09E0725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93E0D-1A07-4DB5-8A76-78E76F07B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574A-F695-4ADC-B401-9F3DE91FE8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D31A2-658F-4BCD-AB7B-E56276FD5F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0DB-1FBB-4EBB-B18F-DF6A42B32C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25A3-6954-4062-983A-8ECB66629F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9094-2605-4F0E-BAAE-A07AC6C41A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B41D-011B-4488-B229-E83869312C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39E4-C931-456C-9552-A08289DDC2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B722-0620-4A75-A9B6-6D21AB777A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D75-0A19-4F19-8248-D108A321AE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6BB1-B39F-482E-809E-D7FDF83EAC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DA7F-7D14-49D0-BB37-CAA33E04D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A84F-7395-462C-927C-4AE93C52D8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0E30-879A-408D-934D-C556426FF0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516-6A24-434C-A529-E801A0FB78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4EE-8D0A-4F38-93E9-83AC0E78A3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11137-F070-4E33-94FF-DC1E696DA8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2E0EB-D519-40B8-B97D-67B036DA91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853A5-3CE4-4775-AC39-17F10BF6A7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43CE7-F22E-489F-B60E-FEB1030F6C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DB19B-2921-4044-BB2F-C13E085315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21D8A-F474-4AFD-95B3-604FD02E29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9914E-6108-4539-88DD-C476D4577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1DF5-0206-4391-BE44-03826F811B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EC3A2-2200-429E-870C-19AF2F0991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29EFC-D309-4C29-B4F7-CE304FE5DD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DB76E-C986-4747-8519-7FC68E6E9F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C512D-26A3-4CD5-A905-C21A39FC32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64371-E025-426A-858B-6411D6A34E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DCE4C-A043-434B-B4E7-7D4B2DA5B6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401F1-BF1C-4494-B55A-895255A122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5E7B3-C383-4F92-9D48-5744F2760E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4254F-AF83-4404-AEC9-1C59BFAF5F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2E233-42D2-4CF2-A67E-AEF6FE604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21F1-0B2B-4884-B712-A10D4B419F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78174-B610-44E2-902C-419D5C85BC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B40BE-93C8-4D17-B491-BE4C55F62C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08B4D-7A6C-40A1-8A56-DF0D84792F3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D07A6-C8CE-4F32-B5C2-70A979259A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A756E-2DF8-4C20-9CC0-E82EF7C505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4E1BB-0253-4C18-BBD2-3A2BE32C8A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919AD-42CD-484E-A2D2-1F9170293C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2541-E2DF-45B4-866B-B77B07C525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5113-9847-4598-BD70-6D4459EBC6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568A-8602-4352-A411-014C12154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7B9161-D557-4EC6-8DF8-F47A924B09A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20880" y="1414440"/>
            <a:ext cx="217440" cy="211320"/>
            <a:chOff x="920880" y="1414440"/>
            <a:chExt cx="217440" cy="2113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744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F68C37-0982-40E8-A4E8-3EB2AAA8032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70080" y="2816280"/>
            <a:ext cx="217440" cy="210960"/>
            <a:chOff x="2170080" y="2816280"/>
            <a:chExt cx="217440" cy="21096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744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231C1D-0FB1-4FE5-8325-E65CAB06146A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DA143F-4832-4B02-8ABC-EA78F0DD939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647C57-5B9C-4CEA-8DF8-FCB094D54898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FD0752-7031-44C4-9162-0D4021CCBAD4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52320" y="974880"/>
            <a:ext cx="4795920" cy="4795560"/>
            <a:chOff x="652320" y="974880"/>
            <a:chExt cx="4795920" cy="479556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5920" cy="47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2A6C7B-8F5E-4FA4-A47D-3B60F390281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21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96345C-F580-463E-A86A-573B5FD69216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69" name="Picture 4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AA44BE-3BD6-4952-9BCE-AB03105581AB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Bookman Old Style"/>
              </a:rPr>
              <a:t>Олимпийское движение в России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635280" cy="37335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068477-7653-4922-8111-93FEC41FBA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876920" y="3505320"/>
            <a:ext cx="39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учениц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ы № 5 г. Льг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ёминой Варвар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2884B8-2D1C-4CC9-9541-8B16BF030B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808360" cy="3124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"/>
          <p:cNvSpPr/>
          <p:nvPr/>
        </p:nvSpPr>
        <p:spPr>
          <a:xfrm>
            <a:off x="3809880" y="457200"/>
            <a:ext cx="5334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ОЛИМПИЙСКАЯ ЭМБЛЕМА</a:t>
            </a:r>
            <a:r>
              <a:rPr b="1" lang="ru-RU" sz="3200" spc="-1" strike="noStrike">
                <a:solidFill>
                  <a:srgbClr val="aa8a1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ять переплетенных колец голубого, черного, красного (верхний ряд), желтого и зеленого (нижний) цветов — символ пяти объединенных в олимпийское движение континентов. Предложена в 1913 П. де Куберт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Отечественные спортсмены на </a:t>
            </a: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aa8a14"/>
                </a:solidFill>
                <a:latin typeface="Times New Roman"/>
                <a:ea typeface="Times New Roman"/>
              </a:rPr>
              <a:t>лимпийских игра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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орию олимпийского движения в России можно разделить на 3 основных период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Corbel"/>
              <a:buChar char="•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1. Дореволюционный пери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Corbel"/>
              <a:buChar char="•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2. Период Союза Советских Социалистических Республ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Corbel"/>
              <a:buChar char="•"/>
              <a:tabLst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3. Период современной Росси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55600"/>
                <a:tab algn="l" pos="2070000"/>
                <a:tab algn="l" pos="2984400"/>
                <a:tab algn="l" pos="3898800"/>
                <a:tab algn="l" pos="4813200"/>
                <a:tab algn="l" pos="5727600"/>
                <a:tab algn="l" pos="6642000"/>
                <a:tab algn="l" pos="7556400"/>
                <a:tab algn="l" pos="8470800"/>
                <a:tab algn="l" pos="9385200"/>
                <a:tab algn="l" pos="102996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A22662-25AE-4240-9754-054D13D553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a8a14"/>
                </a:solidFill>
                <a:latin typeface="Times New Roman"/>
              </a:rPr>
              <a:t>Дореволюционный пери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D8BAA4-6812-4676-B47D-EBD652887D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3200400" y="198108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мены дореволюционной Росси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в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ли участие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лимпийских играх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 Лондо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08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 год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571920" y="2000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57200" y="54100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V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08 Лондон Англия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27 Апреля - 31 Октябр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Picture 6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25720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B1A010-AA7B-4D7A-91A2-5BD4F99F37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346480" cy="3353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"/>
          <p:cNvSpPr/>
          <p:nvPr/>
        </p:nvSpPr>
        <p:spPr>
          <a:xfrm>
            <a:off x="3505320" y="457200"/>
            <a:ext cx="50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золотую медаль завоевал Н. Панин-Коломенкин, первенствовавший в соревнованиях по фигурному катанию на Четвертых Олимпийских играх в Лондоне (1908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533520" y="45720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еребряными призерами стали борцы классического стиля легковес Николай Орлов и тяжеловес Андрей Пет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1A36E6-6603-493E-856A-C60B2B36A7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2666880" y="380880"/>
            <a:ext cx="64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1911 был основан Российский олимпийский комитет (РОК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д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ой команде России покровительствовал император Николай II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Пятых Олимпийских играх в Стокгольм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ось завоевать лишь 2 серебряные и 2 бронзовые медал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бщем командном зачете команда России оказалась лишь на 15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4343400"/>
            <a:ext cx="23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V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12 Стокгольм Швеция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5 Мая - 22 Ию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224172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383E48-8145-4500-B531-B1618E4195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85800" y="914400"/>
            <a:ext cx="75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51 был создан Олимпийский комитет СССР, получивший признание МОК (Международного олимпийского комитета);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95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тские спортсмены участвовали во всех Олимпийских играх (за исключением Олимпийских игр в </a:t>
            </a: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-Анджелесе, 198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г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почти всегда побежда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838080" y="1936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981080" y="380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Период ССС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ACE56-3094-4E66-8A6F-E165D569A7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3276720" y="304920"/>
            <a:ext cx="5333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 первой советской чемпионкой  стала в 1952 году на Олимпийских играх в Хельсинки Ромашкова (в метании диск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ая золотая медаль у сборной по хоккею СССР – в 1956 г. на 7 зимней Олимпиаде в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</a:rPr>
              <a:t>Кортина-д'Ампеццо (Итал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</a:rPr>
              <a:t>Первая золотая медаль у сборной футбольной команды СССР (вратарь Лев Яшин) – в 1956 г. на 16 Олимпиаде в Мельбурне (Австрал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04920" y="4191120"/>
            <a:ext cx="243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agmaticaKMM"/>
              </a:rPr>
              <a:t>Лев Яшин — бессменный вратарь Московского «Динамо» и сборной СССР 1950-60-х гг. Признан лучшим вратарем мирового футбо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06712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304920" y="22860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</a:rPr>
              <a:t>Олимпийские</a:t>
            </a: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 Игры </a:t>
            </a: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</a:rPr>
              <a:t>1980 г.</a:t>
            </a:r>
            <a:r>
              <a:rPr b="0" lang="ru-RU" sz="2500" spc="-1" strike="noStrike" u="sng">
                <a:solidFill>
                  <a:srgbClr val="572314"/>
                </a:solidFill>
                <a:uFillTx/>
                <a:latin typeface="Times New Roman"/>
              </a:rPr>
              <a:t> </a:t>
            </a:r>
            <a:r>
              <a:rPr b="1" lang="ru-RU" sz="2900" spc="-1" strike="noStrike" u="sng">
                <a:solidFill>
                  <a:srgbClr val="572314"/>
                </a:solidFill>
                <a:uFillTx/>
                <a:latin typeface="Times New Roman"/>
              </a:rPr>
              <a:t>в Москве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йкот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</a:rPr>
              <a:t>ировались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со стороны США, ФРГ, Японии и еще нескольких стран, протестующих против вторжения советских войск в Афганистан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384640" cy="3429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2971800" y="2057400"/>
            <a:ext cx="6172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И все-таки в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их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 приняло участие более шести тыс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ч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 спортсменов из 81 страны. Было установлено 36 мировых и 39 европейских рекордов, 74 раза обновлены олимпийские рекорды.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борная страны-хозяйки Игр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держала убедительную победу в неофициальном командном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ч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ете (80 золотых, 69 серебряных и 46 бронзовых наград)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9187FF-9EF4-4055-B123-981FD582C7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28600" y="55627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XII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80 Москва СССР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 Июля - 3 Августа</a:t>
            </a: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68F719-7FEF-44A7-878B-25DCDF21AD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387600" cy="36576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4"/>
          <p:cNvSpPr/>
          <p:nvPr/>
        </p:nvSpPr>
        <p:spPr>
          <a:xfrm>
            <a:off x="746280" y="106668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 Олимпийских игр в Москве в 1980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181480" y="41148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вежонок Миша –  талисман 22-х Олимпийских игр в Моск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a8a14"/>
                </a:solidFill>
                <a:latin typeface="Times New Roman"/>
              </a:rPr>
              <a:t>Современный пери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3352680" y="1371600"/>
            <a:ext cx="5791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25-х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Олимпийских играх (Барселона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1992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) принимали участие спортсмены объединенной команды СНГ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Союза Независимых государств)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B4358-2EFF-4580-B865-C032E26ECE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09480" y="518148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XV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92 Барселона Испания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25 Июля - 9 Авгус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144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C180D8-B96B-4A5B-8A56-7A441D5DE5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822240" y="304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Цель работ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накомиться с развитием Олимпийского движения в Росс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533520" y="2590920"/>
            <a:ext cx="78721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о рассмотреть историю возникновения и развития Олимпийского движения в античном мире, возобновление  игр в современном ми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ледить развитие Олимпийского движения в России на разных этапах истории стран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анализировать итоги выступления нашей страны на Олимпийских игр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70AC3B-D773-45D7-BEF7-8B8EAC518D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3505320" y="1295280"/>
            <a:ext cx="510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6-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импийских игр (Атлан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 состязаниях принимают участие спортсмены Российской Федерац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533520" y="49546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XVI Олимпийские Игры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96 Атланта США</a:t>
            </a:r>
            <a:br>
              <a:rPr sz="2000"/>
            </a:br>
            <a:r>
              <a:rPr b="0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9 Июля - 4 Августа</a:t>
            </a: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09088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492B6-2BA7-49E9-94BD-BF5F372F6F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355760" y="498600"/>
            <a:ext cx="710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</a:rPr>
              <a:t>В 2014 году все мы болели за наших спортсменов </a:t>
            </a:r>
            <a:r>
              <a:rPr b="1" lang="ru-RU" sz="3200" spc="-1" strike="noStrike" u="sng">
                <a:solidFill>
                  <a:srgbClr val="4f271c"/>
                </a:solidFill>
                <a:uFillTx/>
                <a:latin typeface="Times New Roman"/>
              </a:rPr>
              <a:t>на зимних Олимпийских играх в Сочи</a:t>
            </a:r>
            <a:r>
              <a:rPr b="1" lang="ru-RU" sz="3200" spc="-1" strike="noStrike">
                <a:solidFill>
                  <a:srgbClr val="4f27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09960" y="2809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914400" y="4952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124160" y="2814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2556000" y="20685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CB2353-C399-4436-8300-F192CDC360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609480" y="2971800"/>
            <a:ext cx="770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</a:rPr>
              <a:t>Российская сборная в Сочи сумела превзойти достижение сборной СССР по количеству медалей на зимних Олимпийских играх, завоевав 33 награды: 13 золотых (Россия повторила достижение СССР 1976 года), 11 серебряных и 9 бронзовых, установив национальный рекор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</a:rPr>
              <a:t>Предыдущий рекорд по количеству медалей был в 1988 году — 29 награ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258920" y="136440"/>
            <a:ext cx="504180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Общее количество медалей команды России-СССР-СНГ-РФ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324000" y="1866960"/>
          <a:ext cx="83055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66960"/>
                    <a:ext cx="83055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2EDE27-E335-4BD7-A14D-2944A6BC1E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457210-4908-49C0-B62F-5810A567F2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45720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46280" y="574560"/>
            <a:ext cx="7483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видно из графика, команда дореволюционной России выступала на олимпийских играх не очень успешно. Но тогда  только зарождалось олимпийское движение в стране. Затем из-за исторических событий (революция 1917 года, годы гражданской войны и разрухи, Великая Отечественная война 1941-1945 гг.) наша страна не участвовала в олимпийских играх. Но в послевоенное время физкультуре и спорту стало придаваться огромное значение. В результате, начиная с 1952 года, СССР стал занимать лидирующее положение на олимпийских играх. Так продолжалось до 1988 года, за исключением 1984 года, когда наша страна бойкотировала Олимпиаду в Лос-Анжелесе. Последним успешным выступлением после распада СССР было выступление сборной команды СНГ на Олимпийских играх 1992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6309F9-3441-4AB7-AD66-DE9581657B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822240" y="345960"/>
            <a:ext cx="786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развитие Олимпийского движения в России явно замедлило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импийская сборная Российской Федерации еще ни разу не занимала выше второго места в командном зачете по летним олимпийским играм, а по зимним и вовсе ни разу не вошла в тройку лид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оличества медал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их причин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чно, сказалось то, что много талантливых спортсменов после распада СССР стало выступать за другие стра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ная причина состоит в отсутствии системного подхода к решению задач, стоящих пере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ижением в России, отсутствии стратегического планирования деятельности 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мпийс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ите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ои предложения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Широко пропагандировать принципы Олимпизма в каждом уголке Росс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звивать физкультурное движение, начиная с детских садов и шко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строить необходимое количество спортивных сооружений: стадионов , спортивных залов, бассейнов, ледовых дворцов, спортивных площадок во дворах, в том числе футбольных, баскетбольных и хоккейных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строить специальные спортивные сооружения, например, горнолыжные трассы, санно-бобслейные трассы, трамплины, велотреки и др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ткрыть необходимое количество бесплатных спортивных секций  в каждом районе город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силить подготовку подрастающего олимпийского резерв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оздать центры олимпийской подготовки не только в Москве и Санкт-Петербурге, но и в регионах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Закреплять успехи  в наших традиционных видах спорта: фигурное катание, лыжные гонки, биатлон, синхронное плавание, борьба, гимнастика и др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собое внимание уделить хоккею, футболу и баскетболу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ропагандировать и развивать малораспространенные дисциплины: керлинг, шорт-трек, сноуборд, фристайл, бейсбол, пляжный волейбол и други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28010-6E64-4140-A988-062D48873E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3124080" y="762120"/>
            <a:ext cx="5562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раткая история возникновения Олимпийских игр в античном мире (в Древней Греции)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A0FBED-4AC9-4011-BAC9-084A6E6931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053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762120" y="3808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Corbel"/>
                <a:ea typeface="Times New Roman"/>
              </a:rPr>
              <a:t>ОЛИМПИИЙСКИЕ ИГРЫ в античности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влялись в честь Зевса Олимпийского через каждые четыре года, летом, в Элиде (области на северо-западе Пелопоннеса) в Священном городе Олимпии у подножия горы Олимп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733920" y="571500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Храм Зевса в Олимпи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13B88-50F1-44BE-805D-0106C65100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3619440" y="2314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2447640" cy="22096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6"/>
          <p:cNvSpPr/>
          <p:nvPr/>
        </p:nvSpPr>
        <p:spPr>
          <a:xfrm>
            <a:off x="533520" y="628956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3352680" y="0"/>
            <a:ext cx="55627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776 год до нашей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эры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Times New Roman"/>
              </a:rPr>
              <a:t>явилс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первой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Times New Roman"/>
              </a:rPr>
              <a:t> летописной страницей Олимпийских игр.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394 году олимпийские иг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93 по счету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ыли запрещен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языческое празднество декретом римского императора Феодосия 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к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ED8E67-C915-4B6F-AC0A-9BE3DA5F69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4976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E2294A-85A9-45D1-B9E1-C7908B4ED0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838080" y="76212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a8a14"/>
                </a:solidFill>
                <a:latin typeface="Arial"/>
                <a:ea typeface="Times New Roman"/>
              </a:rPr>
              <a:t>ОЛИМПИИЙСКИЕ ИГРЫ</a:t>
            </a:r>
            <a:r>
              <a:rPr b="0" lang="ru-RU" sz="4400" spc="-1" strike="noStrike">
                <a:solidFill>
                  <a:srgbClr val="aa8a14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aa8a14"/>
                </a:solidFill>
                <a:latin typeface="Arial"/>
                <a:ea typeface="Times New Roman"/>
              </a:rPr>
              <a:t>(современные)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(</a:t>
            </a:r>
            <a:r>
              <a:rPr b="0" lang="ru-RU" sz="4400" spc="-1" strike="noStrike">
                <a:solidFill>
                  <a:srgbClr val="4f271c"/>
                </a:solidFill>
                <a:latin typeface="Times New Roman"/>
              </a:rPr>
              <a:t>от 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греч. Olympia)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</a:rPr>
              <a:t> -</a:t>
            </a: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4f271c"/>
                </a:solidFill>
                <a:latin typeface="Arial"/>
                <a:ea typeface="Times New Roman"/>
              </a:rPr>
              <a:t>всемирные спортивные соревнования, праобразом которых явились древнегреческие Олимпийские игр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3276720" y="457200"/>
            <a:ext cx="5638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Французский общественный деятель, историк и литератор, барон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aa8a14"/>
                </a:solidFill>
                <a:latin typeface="Corbel"/>
                <a:ea typeface="Times New Roman"/>
              </a:rPr>
              <a:t>Пьер де Кубертен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в 1883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.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выступил с предложением о регулярном проведении всемирных спортивных состязаний под названием Олимпийские игры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85800" y="457200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«</a:t>
            </a:r>
            <a:r>
              <a:rPr b="1" lang="ru-RU" sz="3200" spc="-1" strike="noStrike">
                <a:solidFill>
                  <a:srgbClr val="4f271c"/>
                </a:solidFill>
                <a:latin typeface="Corbel"/>
                <a:ea typeface="Times New Roman"/>
              </a:rPr>
              <a:t>Нужно сделать спорт интернациональным, нужно возродить олимпийские игры!</a:t>
            </a:r>
            <a:r>
              <a:rPr b="1" lang="ru-RU" sz="3200" spc="-1" strike="noStrike">
                <a:solidFill>
                  <a:srgbClr val="4f271c"/>
                </a:solidFill>
                <a:latin typeface="Corbe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E6E823-CA2F-469B-8BF1-CC9CE898B9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85776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3276720" y="457200"/>
            <a:ext cx="5486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тянуть нить, связывающую две цивилизации - эллинскую и нашу, местом проведе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х игр современности были выбраны Афины.</a:t>
            </a: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Первая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  <a:ea typeface="Times New Roman"/>
              </a:rPr>
              <a:t> Олимпиад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а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состоялась в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  <a:ea typeface="Times New Roman"/>
              </a:rPr>
              <a:t> 1896</a:t>
            </a:r>
            <a:r>
              <a:rPr b="1" lang="ru-RU" sz="2900" spc="-1" strike="noStrike" u="sng">
                <a:solidFill>
                  <a:srgbClr val="aa8a14"/>
                </a:solidFill>
                <a:uFillTx/>
                <a:latin typeface="Times New Roman"/>
              </a:rPr>
              <a:t> г.</a:t>
            </a: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тех пор каждые четыре года по планете пробегает огонь, зажженный на алтаре Олимпии.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1E5C8C-AF26-4421-AD2A-A02AA6B7E2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380880" y="51055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 Олимпийские Игры</a:t>
            </a:r>
            <a:br>
              <a:rPr sz="2400"/>
            </a:b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896 Афины Греция</a:t>
            </a:r>
            <a:br>
              <a:rPr sz="2400"/>
            </a:b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6 - 15 Апреля</a:t>
            </a:r>
            <a:r>
              <a:rPr b="0" lang="en-US" sz="2400" spc="-1" strike="noStrike">
                <a:solidFill>
                  <a:srgbClr val="4f27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03D412-FD39-43D1-A9FF-0DFBD563BF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a8a14"/>
                </a:solidFill>
                <a:latin typeface="Times New Roman"/>
              </a:rPr>
              <a:t>Олимпийский деви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«CITIUS, ALTIUS, FORTI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(БЫСТРЕЕ, ВЫШЕ, СИЛЬНЕЕ»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8dc765"/>
                </a:solidFill>
                <a:latin typeface="Times New Roman"/>
                <a:ea typeface="Arial"/>
              </a:rPr>
              <a:t>точно выражает устремление современного олимпизм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думают, что девиз придумал Пьер де Кубертен. Однако это не так. Слова эти, как ни странно, принадлежат... священнику, французскому священнику Анри Дидону, директору одного из духовных колледж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7-04-11T15:03:33Z</dcterms:modified>
  <cp:revision>17</cp:revision>
  <dc:subject/>
  <dc:title>Презентация PowerPoint</dc:title>
</cp:coreProperties>
</file>