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23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589EB-B7F1-410D-A3F5-3371D16D77E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87A41-698E-4B95-8C9B-372BE0FADB3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2A5FF-85D5-4FF3-8105-66A9CD17E87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979CC-B64B-464D-ACE4-C7DA45B589B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6B988-14CF-4535-BB6B-1570C06407E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F6375-0B42-429D-BFB9-9AE79C83968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CDA51-BB82-4C44-A977-6713E6718A1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30D48-3CA2-4164-8B16-835FD488713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355C4-E507-4245-B8A2-115EDF1996D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CB75C-8240-400A-904D-D0D0A3C5705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C2FDD-A91B-4364-B0D5-DBA266AAA7A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AB6EE-8B03-481D-B1A5-842037957BD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CBC4A-822B-4DDA-9372-4C38F415361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C95668-8A9E-454B-94BE-6F300C221A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66945-363E-47CB-B84A-29B354AF714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F6096-C67F-45E9-A708-92331939680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BAB8E-3606-4657-92CA-536B73D1086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94D8E-32BB-4FA2-8182-31F1F4498A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E3550-DCCF-4CAB-98C4-2C3959FE9D9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64970-160C-4275-BC83-2728C40D78B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43908-BB24-4327-9C25-B0F8C0F743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AF700-E651-408C-98F2-E9A378C6C6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F857B-B9C9-4F07-A0AE-28F9B9CAB8B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BA8AD3-2321-4726-AB87-0C8E4B1BA7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4CB44-CAF6-4543-AAE9-7E8F88FA5A0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8DC6DB-1B99-4525-9433-367474F01F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E9446-3F4B-46E4-93A4-AAF986295F2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68FF6-0515-4DE3-B49B-08E8A213142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1BB47F-26BD-47C5-B1A5-EA162ACD49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06B67-8ED6-4505-84C5-4CDB0AC63D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F3E6E-1B88-4A12-83B5-AB44787E9ED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3214-58BE-4672-9DF5-6E788167C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B97C-6794-4A40-A05D-80E5EF65340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E337-ECD9-46FF-B164-CAF29F357E0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B0891-9E9D-4D3E-84A6-A18FF851B82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620D-26C2-49C9-A93D-5C8AF01A1A5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2301-035E-41C6-8682-F83DB407935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81C4-4DF1-40F4-B910-9311C51D37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7D13-865A-4212-ABFD-D81C0429219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4BEA-6F88-422E-8457-97CB1E5C352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5DD0-3D21-4DB3-B9AA-FD34A7EEB64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64E1-9F8C-4511-BBEF-DB113776E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99C6-F938-4099-B2CF-C2C57CA5B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F871-CA53-49C7-A4F6-07AB9E09E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C5D2-C9C5-4B51-8957-7C383EB8E5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C4404-CF5D-4A43-9ADE-125C28BA68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F280-EF33-45A4-80EB-521C2A06AD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FA43-BEF5-4372-9EF4-522765A009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78B1-ACFA-4CAC-B77F-2100263AD5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D9AB-51F7-448D-B222-DC48C257DA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755F-35CA-46D2-9DAF-1B1A5B6DA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165D-DC21-4FB9-9C72-1C01446BB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BD0A-CA14-41E4-A68C-C07F6787B8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8243-BD45-40C5-9C70-4DE9254F44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8A8B-C6CF-4135-B044-AF38F9E01E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3C88-67DB-4937-AC81-B622F3D6C5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5261-0DF7-4AA3-B66F-B28993DA25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8F3-CCA4-43F4-8497-A0841EA4CB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B57-F1A9-4E40-BD02-3DC58C2437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570-2DBC-4CFD-B962-715273E721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1F5-EF43-4D2D-AE17-279840F023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5DB-9FFE-4BE0-A652-A22E43896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99FD-9145-4F58-8863-1AD4CED243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554-9A63-492E-ADC2-7FD2B4519F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89F-CF52-418C-8CB4-DF9047AC17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099-7C2A-4FBF-BCBF-67B3CEED94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420-0E6A-41CD-B448-01AB947EB7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AAE-691F-4C53-8660-AC9651D16C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F34-6FAD-4BD5-AC7D-5B7AF9F1DA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447-FE49-4CA8-A931-DCF616A041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5B949-4C84-4B39-98D0-3C75DC78FA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1DA89-BACA-4C4C-A0CF-FA83EBF412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71D29-123D-414C-B39A-15A47C689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934B-AAD6-4B3C-856A-4EDB03C174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1AAFA-9BD5-440F-BA15-EA399E0EB6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90F83-1900-4877-99F3-5CE7C2EC61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61960-34E9-4413-8AFA-F1E9DAD5E8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4DF9D-8DEB-48D8-990B-35E2C2B4CA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1C99A-2C8C-4088-8910-E2B1E37A28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D5482-8E8B-4A1A-A980-0EE3635C16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32BC5-4D83-4C91-ADC3-682CE2B6CC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4AC89-8CF6-4AA3-84C4-1C8394CF24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D53C5-1BE0-433D-9875-92173540A4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F1EBE-6DE1-4676-A509-A89ECF602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4DA0-5A66-41E7-8D9B-F74D3A5044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70532-07F3-414C-A55E-D26807D0340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5C231-9725-42F1-B7D1-B439F4156E8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E41C0-305A-4788-AC05-FBA1716EA9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21178-62A6-4758-9851-3AF803ACD3E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05BE4-6CE9-420B-A4C9-05C8FAC335C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4BC4A-390D-4A19-86D3-C3752D0D48D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B15E5-1377-4F79-A8C5-2D454046A03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7E33D-D97E-4D27-AD3B-F3761A084DA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E5C44-F17B-4C82-8388-8AD0DF47835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77EFC-750E-4774-9A1A-965C70061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A614-1C87-401D-8CBA-A1D24C34CDB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09359-14D1-4B5E-9386-06A85937BE0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A534-3588-4850-B5C6-899D103BE11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D48B-5D7B-446C-9B97-D9B13FE08D5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996B-3CEF-4B06-871F-180595B4B6A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21AF-7938-4566-A707-47F6914DCC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6F3D-7F6F-4BDE-BB49-EF70039E97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EB33-A104-475A-8108-6C56FDFC97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513F-35B3-4234-9271-283B96B9A0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ABB0-45CF-417B-9696-CC0DECB386F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C525-485F-4004-AA3F-C1FCBC16B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C852-CC6D-409C-B920-00AA839C58F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CCDB-6184-415C-B6E6-299C1609C8D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FD5F-ADEB-45A6-BF6A-2A47882B13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67A9-2F77-4EF5-B3F1-31DD4DFC57E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36652-40F0-4AFE-91B2-54322A4D00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EAB8D-ED82-45AD-97EE-F6D5DFB800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878422-70CD-4D66-980A-08D15A580F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0CE8C-9C09-4402-97C0-45E65A7EAF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7557C5-C7F7-4DCD-A011-0844442417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06835-BF85-4F38-8603-D7BC3F9040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AE86D-1664-4D05-BFD4-3D4EC2096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BD5D-796C-4115-80B9-9505A091CA2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FD248F-D281-43DE-AF78-8C45CBC1ED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2C59B-F06B-4826-AA30-1B6A5BF176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0849F-6449-4231-BEFB-2FDF7D1795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E4AB60-DEE2-4A1B-89B5-3EBDB6780DA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FCA424-BB57-47D4-B469-B82F4A8858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FD24C-9330-4953-BF77-9F461106D9F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C0317-3909-4ABD-978B-9F808B9DA82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6596B-23C3-4095-A130-157E75BF787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EB97C-9345-4C04-945F-5438F663AA4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6E4B8-8B14-4DCD-8B5D-2CC46F697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B360-FB9F-4D5B-951D-4610605E0B9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B807C-CA23-4D03-99D7-63A5C376AF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AF1FF-1694-4580-A17A-BE658FF0B31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AC803-2615-4C91-A398-3AED665527B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C8200-5139-45C1-9C03-4ABE9932B1B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93984-9960-4FF3-842C-CB47309D086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F445D-A290-4ABC-990C-862482305AD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681CB-0100-42BF-8B18-7ED4603030A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2AAA-4BF0-49BA-A90C-846385842A1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B8F47-B2EE-416B-A4FD-5F9373E4B1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9BBD-84E1-4CC2-8322-5B4E47E23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B79939-10B1-4CA7-9507-4BD4989C8B5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20880" y="1414440"/>
            <a:ext cx="217440" cy="211320"/>
            <a:chOff x="920880" y="1414440"/>
            <a:chExt cx="217440" cy="21132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7440" cy="2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C65DAF-A597-4CF2-B5BB-20AD03E8314D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70080" y="2816280"/>
            <a:ext cx="217440" cy="210960"/>
            <a:chOff x="2170080" y="2816280"/>
            <a:chExt cx="217440" cy="21096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744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664149-E92D-4F24-9B38-A3B3BA17ED70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B5D989-E7C7-414C-AAB3-7FCE681911CA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77145E-3890-4946-AB35-FE0CCA24757E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968ACA-60C7-468F-949A-44AA579C0B08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52320" y="974880"/>
            <a:ext cx="4795920" cy="4795560"/>
            <a:chOff x="652320" y="974880"/>
            <a:chExt cx="4795920" cy="479556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5920" cy="47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5F772F-AB02-468D-A321-FDF8FDAD92EA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321" name="Picture 4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232A8F-7073-4A3E-BCCC-830E3A9A5EFC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369" name="Picture 4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435A38-9AE2-43CB-A2A9-18F91F9D7040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Bookman Old Style"/>
              </a:rPr>
              <a:t>Олимпийское движение в России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635280" cy="373356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8B9547-E7B5-415D-A69D-783FED4453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4876920" y="3505320"/>
            <a:ext cx="39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учениц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ы № 5 г. Льг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ёминой Варвар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774A83-7012-4724-AB3B-1E4715E7633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2808360" cy="31244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"/>
          <p:cNvSpPr/>
          <p:nvPr/>
        </p:nvSpPr>
        <p:spPr>
          <a:xfrm>
            <a:off x="3809880" y="457200"/>
            <a:ext cx="5334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ОЛИМПИЙСКАЯ ЭМБЛЕМА</a:t>
            </a:r>
            <a:r>
              <a:rPr b="1" lang="ru-RU" sz="3200" spc="-1" strike="noStrike">
                <a:solidFill>
                  <a:srgbClr val="aa8a14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ять переплетенных колец голубого, черного, красного (верхний ряд), желтого и зеленого (нижний) цветов — символ пяти объединенных в олимпийское движение континентов. Предложена в 1913 П. де Кубертен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Отечественные спортсмены на </a:t>
            </a:r>
            <a:r>
              <a:rPr b="1" lang="ru-RU" sz="3600" spc="-1" strike="noStrike">
                <a:solidFill>
                  <a:srgbClr val="aa8a14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лимпийских игра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"/>
              <a:tabLst>
                <a:tab algn="l" pos="1155600"/>
                <a:tab algn="l" pos="2070000"/>
                <a:tab algn="l" pos="2984400"/>
                <a:tab algn="l" pos="3898800"/>
                <a:tab algn="l" pos="4813200"/>
                <a:tab algn="l" pos="5727600"/>
                <a:tab algn="l" pos="6642000"/>
                <a:tab algn="l" pos="7556400"/>
                <a:tab algn="l" pos="8470800"/>
                <a:tab algn="l" pos="9385200"/>
                <a:tab algn="l" pos="102996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орию олимпийского движения в России можно разделить на 3 основных период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Corbel"/>
              <a:buChar char="•"/>
              <a:tabLst>
                <a:tab algn="l" pos="1155600"/>
                <a:tab algn="l" pos="2070000"/>
                <a:tab algn="l" pos="2984400"/>
                <a:tab algn="l" pos="3898800"/>
                <a:tab algn="l" pos="4813200"/>
                <a:tab algn="l" pos="5727600"/>
                <a:tab algn="l" pos="6642000"/>
                <a:tab algn="l" pos="7556400"/>
                <a:tab algn="l" pos="8470800"/>
                <a:tab algn="l" pos="9385200"/>
                <a:tab algn="l" pos="102996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1. Дореволюционный пери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Corbel"/>
              <a:buChar char="•"/>
              <a:tabLst>
                <a:tab algn="l" pos="1155600"/>
                <a:tab algn="l" pos="2070000"/>
                <a:tab algn="l" pos="2984400"/>
                <a:tab algn="l" pos="3898800"/>
                <a:tab algn="l" pos="4813200"/>
                <a:tab algn="l" pos="5727600"/>
                <a:tab algn="l" pos="6642000"/>
                <a:tab algn="l" pos="7556400"/>
                <a:tab algn="l" pos="8470800"/>
                <a:tab algn="l" pos="9385200"/>
                <a:tab algn="l" pos="102996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2. Период Союза Советских Социалистических Республ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Corbel"/>
              <a:buChar char="•"/>
              <a:tabLst>
                <a:tab algn="l" pos="1155600"/>
                <a:tab algn="l" pos="2070000"/>
                <a:tab algn="l" pos="2984400"/>
                <a:tab algn="l" pos="3898800"/>
                <a:tab algn="l" pos="4813200"/>
                <a:tab algn="l" pos="5727600"/>
                <a:tab algn="l" pos="6642000"/>
                <a:tab algn="l" pos="7556400"/>
                <a:tab algn="l" pos="8470800"/>
                <a:tab algn="l" pos="9385200"/>
                <a:tab algn="l" pos="102996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3. Период современной Росси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55600"/>
                <a:tab algn="l" pos="2070000"/>
                <a:tab algn="l" pos="2984400"/>
                <a:tab algn="l" pos="3898800"/>
                <a:tab algn="l" pos="4813200"/>
                <a:tab algn="l" pos="5727600"/>
                <a:tab algn="l" pos="6642000"/>
                <a:tab algn="l" pos="7556400"/>
                <a:tab algn="l" pos="8470800"/>
                <a:tab algn="l" pos="9385200"/>
                <a:tab algn="l" pos="102996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C4ED7E-BF0C-4693-9734-38F71111C60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aa8a14"/>
                </a:solidFill>
                <a:latin typeface="Times New Roman"/>
              </a:rPr>
              <a:t>Дореволюционный пери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02DF5B-AA1B-4CCB-8B0E-BF6DEABC78F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3200400" y="1981080"/>
            <a:ext cx="54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мены дореволюционной Росси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первы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ли участие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лимпийских играх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 Лондон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1908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 год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571920" y="2000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57200" y="541008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V Олимпийские Игры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08 Лондон Англия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27 Апреля - 31 Октябр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7" name="Picture 6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257200" cy="373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8682A8-E142-42E2-8AC2-AC291B234F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346480" cy="335304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3"/>
          <p:cNvSpPr/>
          <p:nvPr/>
        </p:nvSpPr>
        <p:spPr>
          <a:xfrm>
            <a:off x="3505320" y="457200"/>
            <a:ext cx="50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золотую медаль завоевал Н. Панин-Коломенкин, первенствовавший в соревнованиях по фигурному катанию на Четвертых Олимпийских играх в Лондоне (1908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533520" y="457200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еребряными призерами стали борцы классического стиля легковес Николай Орлов и тяжеловес Андрей Пет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5860B5-2469-4489-9EC8-418CFDDD33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2666880" y="380880"/>
            <a:ext cx="6477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1911 был основан Российский олимпийский комитет (РОК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191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д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ой команде России покровительствовал император Николай II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 Пятых Олимпийских играх в Стокгольм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ось завоевать лишь 2 серебряные и 2 бронзовые медал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бщем командном зачете команда России оказалась лишь на 15 мест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457200" y="4343400"/>
            <a:ext cx="23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V Олимпийские Игры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12 Стокгольм Швеция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5 Мая - 22 Июл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224172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4E93FB-7506-4E7A-8DDC-65D40E5572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85800" y="914400"/>
            <a:ext cx="754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51 был создан Олимпийский комитет СССР, получивший признание МОК (Международного олимпийского комитета);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195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тские спортсмены участвовали во всех Олимпийских играх (за исключением Олимпийских игр в </a:t>
            </a:r>
            <a:r>
              <a:rPr b="0" lang="ru-RU" sz="3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-Анджелесе, 198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г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почти всегда побеждал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838080" y="1936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981080" y="3808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a8a14"/>
                </a:solidFill>
                <a:latin typeface="Times New Roman"/>
              </a:rPr>
              <a:t>Период ССС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3C1A39-B446-4230-BC76-EDBC062FC6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3276720" y="304920"/>
            <a:ext cx="5333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 первой советской чемпионкой  стала в 1952 году на Олимпийских играх в Хельсинки Ромашкова (в метании диск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ая золотая медаль у сборной по хоккею СССР – в 1956 г. на 7 зимней Олимпиаде в </a:t>
            </a:r>
            <a:r>
              <a:rPr b="0" lang="ru-RU" sz="2800" spc="-1" strike="noStrike">
                <a:solidFill>
                  <a:srgbClr val="000000"/>
                </a:solidFill>
                <a:latin typeface="Arial Cyr"/>
              </a:rPr>
              <a:t>Кортина-д'Ампеццо (Итали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"/>
              </a:rPr>
              <a:t>Первая золотая медаль у сборной футбольной команды СССР (вратарь Лев Яшин) – в 1956 г. на 16 Олимпиаде в Мельбурне (Австрали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04920" y="4191120"/>
            <a:ext cx="243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agmaticaKMM"/>
              </a:rPr>
              <a:t>Лев Яшин — бессменный вратарь Московского «Динамо» и сборной СССР 1950-60-х гг. Признан лучшим вратарем мирового футбол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2067120" cy="154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304920" y="22860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900" spc="-1" strike="noStrike" u="sng">
                <a:solidFill>
                  <a:srgbClr val="572314"/>
                </a:solidFill>
                <a:uFillTx/>
                <a:latin typeface="Times New Roman"/>
              </a:rPr>
              <a:t>Олимпийские</a:t>
            </a:r>
            <a:r>
              <a:rPr b="1" lang="ru-RU" sz="2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 Игры </a:t>
            </a:r>
            <a:r>
              <a:rPr b="1" lang="ru-RU" sz="2900" spc="-1" strike="noStrike" u="sng">
                <a:solidFill>
                  <a:srgbClr val="572314"/>
                </a:solidFill>
                <a:uFillTx/>
                <a:latin typeface="Times New Roman"/>
              </a:rPr>
              <a:t>1980 г.</a:t>
            </a:r>
            <a:r>
              <a:rPr b="0" lang="ru-RU" sz="2500" spc="-1" strike="noStrike" u="sng">
                <a:solidFill>
                  <a:srgbClr val="572314"/>
                </a:solidFill>
                <a:uFillTx/>
                <a:latin typeface="Times New Roman"/>
              </a:rPr>
              <a:t> </a:t>
            </a:r>
            <a:r>
              <a:rPr b="1" lang="ru-RU" sz="2900" spc="-1" strike="noStrike" u="sng">
                <a:solidFill>
                  <a:srgbClr val="572314"/>
                </a:solidFill>
                <a:uFillTx/>
                <a:latin typeface="Times New Roman"/>
              </a:rPr>
              <a:t>в Москве</a:t>
            </a:r>
            <a:r>
              <a:rPr b="0" lang="ru-RU" sz="2500" spc="-1" strike="noStrike">
                <a:solidFill>
                  <a:srgbClr val="572314"/>
                </a:solidFill>
                <a:latin typeface="Times New Roman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ойкот</a:t>
            </a:r>
            <a:r>
              <a:rPr b="0" lang="ru-RU" sz="2500" spc="-1" strike="noStrike">
                <a:solidFill>
                  <a:srgbClr val="572314"/>
                </a:solidFill>
                <a:latin typeface="Times New Roman"/>
              </a:rPr>
              <a:t>ировались</a:t>
            </a: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со стороны США, ФРГ, Японии и еще нескольких стран, протестующих против вторжения советских войск в Афганистан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2384640" cy="34290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/>
          <p:cNvSpPr/>
          <p:nvPr/>
        </p:nvSpPr>
        <p:spPr>
          <a:xfrm>
            <a:off x="2971800" y="2057400"/>
            <a:ext cx="6172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И все-таки в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их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 приняло участие более шести тыс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ч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 спортсменов из 81 страны. Было установлено 36 мировых и 39 европейских рекордов, 74 раза обновлены олимпийские рекорды.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борная страны-хозяйки Игр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держала убедительную победу в неофициальном командном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ч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ете (80 золотых, 69 серебряных и 46 бронзовых наград)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5C043B-E110-4A90-94FD-EEB835A87E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228600" y="55627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XXII Олимпийские Игры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80 Москва СССР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 Июля - 3 Августа</a:t>
            </a:r>
            <a:r>
              <a:rPr b="0" lang="en-US" sz="2000" spc="-1" strike="noStrike">
                <a:solidFill>
                  <a:srgbClr val="4f27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B9E4AC-5806-433D-98D7-70FC096113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387600" cy="365760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4"/>
          <p:cNvSpPr/>
          <p:nvPr/>
        </p:nvSpPr>
        <p:spPr>
          <a:xfrm>
            <a:off x="746280" y="1066680"/>
            <a:ext cx="32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аль Олимпийских игр в Москве в 1980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181480" y="41148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вежонок Миша –  талисман 22-х Олимпийских игр в Моск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aa8a14"/>
                </a:solidFill>
                <a:latin typeface="Times New Roman"/>
              </a:rPr>
              <a:t>Современный пери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3352680" y="1371600"/>
            <a:ext cx="5791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В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25-х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Олимпийских играх (Барселона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1992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) принимали участие спортсмены объединенной команды СНГ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(Союза Независимых государств)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2B3848-DE07-4DF2-9AAB-4E3A608B64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609480" y="518148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XXV Олимпийские Игры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92 Барселона Испания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25 Июля - 9 Август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Picture 5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3144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7621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01BB85-2134-40A6-8939-96376343B3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822240" y="304920"/>
            <a:ext cx="74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a8a14"/>
                </a:solidFill>
                <a:latin typeface="Times New Roman"/>
              </a:rPr>
              <a:t>Цель работы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знакомиться с развитием Олимпийского движения в Росс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533520" y="2590920"/>
            <a:ext cx="78721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3600" spc="-1" strike="noStrike">
                <a:solidFill>
                  <a:srgbClr val="aa8a14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тко рассмотреть историю возникновения и развития Олимпийского движения в античном мире, возобновление  игр в современном мир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ледить развитие Олимпийского движения в России на разных этапах истории стран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анализировать итоги выступления нашей страны на Олимпийских игр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488CE8-635B-4F4C-BA88-2D135AF8C2F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3505320" y="1295280"/>
            <a:ext cx="510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6-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лимпийских игр (Атлан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199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 состязаниях принимают участие спортсмены Российской Федерац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533520" y="49546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XXVI Олимпийские Игры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96 Атланта США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 Июля - 4 Августа</a:t>
            </a:r>
            <a:r>
              <a:rPr b="0" lang="en-US" sz="2000" spc="-1" strike="noStrike">
                <a:solidFill>
                  <a:srgbClr val="4f27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09088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4780B1-8173-4926-ABAA-C6862EE59C3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355760" y="498600"/>
            <a:ext cx="710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imes New Roman"/>
              </a:rPr>
              <a:t>В 2014 году все мы болели за наших спортсменов </a:t>
            </a:r>
            <a:r>
              <a:rPr b="1" lang="ru-RU" sz="3200" spc="-1" strike="noStrike" u="sng">
                <a:solidFill>
                  <a:srgbClr val="4f271c"/>
                </a:solidFill>
                <a:uFillTx/>
                <a:latin typeface="Times New Roman"/>
              </a:rPr>
              <a:t>на зимних Олимпийских играх в Сочи</a:t>
            </a:r>
            <a:r>
              <a:rPr b="1" lang="ru-RU" sz="3200" spc="-1" strike="noStrike">
                <a:solidFill>
                  <a:srgbClr val="4f271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909960" y="28098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914400" y="4952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124160" y="2814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6" descr=""/>
          <p:cNvPicPr/>
          <p:nvPr/>
        </p:nvPicPr>
        <p:blipFill>
          <a:blip r:embed="rId1"/>
          <a:stretch/>
        </p:blipFill>
        <p:spPr>
          <a:xfrm>
            <a:off x="2556000" y="20685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B845D5-1DAE-405A-B3BA-BA238C91A1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609480" y="2971800"/>
            <a:ext cx="770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Times New Roman"/>
              </a:rPr>
              <a:t>Российская сборная в Сочи сумела превзойти достижение сборной СССР по количеству медалей на зимних Олимпийских играх, завоевав 33 награды: 13 золотых (Россия повторила достижение СССР 1976 года), 11 серебряных и 9 бронзовых, установив национальный рекор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Times New Roman"/>
              </a:rPr>
              <a:t>Предыдущий рекорд по количеству медалей был в 1988 году — 29 награ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1258920" y="136440"/>
            <a:ext cx="5041800" cy="2835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Общее количество медалей команды России-СССР-СНГ-РФ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3" name="Object 2"/>
          <p:cNvGraphicFramePr/>
          <p:nvPr/>
        </p:nvGraphicFramePr>
        <p:xfrm>
          <a:off x="324000" y="1866960"/>
          <a:ext cx="83055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66960"/>
                    <a:ext cx="83055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Text Box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E49E45-EB9B-4298-8904-FBD18A8CEC4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E9D7AC-1947-45EA-AB33-16293B0271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85800" y="45720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746280" y="574560"/>
            <a:ext cx="7483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видно из графика, команда дореволюционной России выступала на олимпийских играх не очень успешно. Но тогда  только зарождалось олимпийское движение в стране. Затем из-за исторических событий (революция 1917 года, годы гражданской войны и разрухи, Великая Отечественная война 1941-1945 гг.) наша страна не участвовала в олимпийских играх. Но в послевоенное время физкультуре и спорту стало придаваться огромное значение. В результате, начиная с 1952 года, СССР стал занимать лидирующее положение на олимпийских играх. Так продолжалось до 1988 года, за исключением 1984 года, когда наша страна бойкотировала Олимпиаду в Лос-Анжелесе. Последним успешным выступлением после распада СССР было выступление сборной команды СНГ на Олимпийских играх 1992 г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32CE57-C085-4BA0-BEB1-7F4A60345FB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2"/>
          <p:cNvSpPr/>
          <p:nvPr/>
        </p:nvSpPr>
        <p:spPr>
          <a:xfrm>
            <a:off x="822240" y="345960"/>
            <a:ext cx="786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развитие Олимпийского движения в России явно замедлило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импийская сборная Российской Федерации еще ни разу не занимала выше второго места в командном зачете по летним олимпийским играм, а по зимним и вовсе ни разу не вошла в тройку лиде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количества медале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их причин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чно, сказалось то, что много талантливых спортсменов после распада СССР стало выступать за другие стран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ная причина состоит в отсутствии системного подхода к решению задач, стоящих пере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ижением в России, отсутствии стратегического планирования деятельности 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мпийс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мите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Мои предложения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Широко пропагандировать принципы Олимпизма в каждом уголке Росси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азвивать физкультурное движение, начиная с детских садов и школ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остроить необходимое количество спортивных сооружений: стадионов , спортивных залов, бассейнов, ледовых дворцов, спортивных площадок во дворах, в том числе футбольных, баскетбольных и хоккейных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остроить специальные спортивные сооружения, например, горнолыжные трассы, санно-бобслейные трассы, трамплины, велотреки и др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Открыть необходимое количество бесплатных спортивных секций  в каждом районе город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Усилить подготовку подрастающего олимпийского резерв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Создать центры олимпийской подготовки не только в Москве и Санкт-Петербурге, но и в регионах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Закреплять успехи  в наших традиционных видах спорта: фигурное катание, лыжные гонки, биатлон, синхронное плавание, борьба, гимнастика и др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Особое внимание уделить хоккею, футболу и баскетболу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ропагандировать и развивать малораспространенные дисциплины: керлинг, шорт-трек, сноуборд, фристайл, бейсбол, пляжный волейбол и други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E233E8-681A-46F8-A657-11A2DF07AB1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3124080" y="762120"/>
            <a:ext cx="5562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раткая история возникновения Олимпийских игр в античном мире (в Древней Греции)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5B9EEB-4AEA-4BAD-A4C6-07B5E65FF5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6053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762120" y="3808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a8a14"/>
                </a:solidFill>
                <a:latin typeface="Corbel"/>
                <a:ea typeface="Times New Roman"/>
              </a:rPr>
              <a:t>ОЛИМПИИЙСКИЕ ИГРЫ в античности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влялись в честь Зевса Олимпийского через каждые четыре года, летом, в Элиде (области на северо-западе Пелопоннеса) в Священном городе Олимпии у подножия горы Олимп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3733920" y="5715000"/>
            <a:ext cx="4952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f271c"/>
                </a:solidFill>
                <a:latin typeface="Corbel"/>
              </a:rPr>
              <a:t>Храм Зевса в Олимпи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A5F70D-07F0-4928-AE40-16335A6B14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3619440" y="2314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2447640" cy="22096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6"/>
          <p:cNvSpPr/>
          <p:nvPr/>
        </p:nvSpPr>
        <p:spPr>
          <a:xfrm>
            <a:off x="533520" y="628956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3352680" y="0"/>
            <a:ext cx="55627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776 год до нашей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эры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Times New Roman"/>
              </a:rPr>
              <a:t>явился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первой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Times New Roman"/>
              </a:rPr>
              <a:t> летописной страницей Олимпийских игр.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394 году олимпийские игр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93 по счету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ыли запрещен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языческое празднество декретом римского императора Феодосия 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ког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F8958A-8DBC-4A8E-BBDC-076E30F6DA1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849760" cy="34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2EB9AE-B55D-40D6-AD91-D8749C80E3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838080" y="762120"/>
            <a:ext cx="7620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aa8a14"/>
                </a:solidFill>
                <a:latin typeface="Arial"/>
                <a:ea typeface="Times New Roman"/>
              </a:rPr>
              <a:t>ОЛИМПИИЙСКИЕ ИГРЫ</a:t>
            </a:r>
            <a:r>
              <a:rPr b="0" lang="ru-RU" sz="4400" spc="-1" strike="noStrike">
                <a:solidFill>
                  <a:srgbClr val="aa8a14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aa8a14"/>
                </a:solidFill>
                <a:latin typeface="Arial"/>
                <a:ea typeface="Times New Roman"/>
              </a:rPr>
              <a:t>(современные)</a:t>
            </a:r>
            <a:r>
              <a:rPr b="0" lang="ru-RU" sz="4400" spc="-1" strike="noStrike">
                <a:solidFill>
                  <a:srgbClr val="4f271c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4f271c"/>
                </a:solidFill>
                <a:latin typeface="Arial"/>
                <a:ea typeface="Times New Roman"/>
              </a:rPr>
              <a:t>(</a:t>
            </a:r>
            <a:r>
              <a:rPr b="0" lang="ru-RU" sz="4400" spc="-1" strike="noStrike">
                <a:solidFill>
                  <a:srgbClr val="4f271c"/>
                </a:solidFill>
                <a:latin typeface="Times New Roman"/>
              </a:rPr>
              <a:t>от </a:t>
            </a:r>
            <a:r>
              <a:rPr b="0" lang="ru-RU" sz="4400" spc="-1" strike="noStrike">
                <a:solidFill>
                  <a:srgbClr val="4f271c"/>
                </a:solidFill>
                <a:latin typeface="Arial"/>
                <a:ea typeface="Times New Roman"/>
              </a:rPr>
              <a:t>греч. Olympia)</a:t>
            </a:r>
            <a:r>
              <a:rPr b="0" lang="ru-RU" sz="4400" spc="-1" strike="noStrike">
                <a:solidFill>
                  <a:srgbClr val="4f271c"/>
                </a:solidFill>
                <a:latin typeface="Arial"/>
              </a:rPr>
              <a:t> -</a:t>
            </a:r>
            <a:r>
              <a:rPr b="0" lang="ru-RU" sz="4400" spc="-1" strike="noStrike">
                <a:solidFill>
                  <a:srgbClr val="4f271c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4f271c"/>
                </a:solidFill>
                <a:latin typeface="Arial"/>
                <a:ea typeface="Times New Roman"/>
              </a:rPr>
              <a:t>всемирные спортивные соревнования, праобразом которых явились древнегреческие Олимпийские игры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3276720" y="457200"/>
            <a:ext cx="5638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Французский общественный деятель, историк и литератор, барон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aa8a14"/>
                </a:solidFill>
                <a:latin typeface="Corbel"/>
                <a:ea typeface="Times New Roman"/>
              </a:rPr>
              <a:t>Пьер де Кубертен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в 1883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.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выступил с предложением о регулярном проведении всемирных спортивных состязаний под названием Олимпийские игры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85800" y="4572000"/>
            <a:ext cx="7924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Corbel"/>
              </a:rPr>
              <a:t>«</a:t>
            </a:r>
            <a:r>
              <a:rPr b="1" lang="ru-RU" sz="3200" spc="-1" strike="noStrike">
                <a:solidFill>
                  <a:srgbClr val="4f271c"/>
                </a:solidFill>
                <a:latin typeface="Corbel"/>
                <a:ea typeface="Times New Roman"/>
              </a:rPr>
              <a:t>Нужно сделать спорт интернациональным, нужно возродить олимпийские игры!</a:t>
            </a:r>
            <a:r>
              <a:rPr b="1" lang="ru-RU" sz="3200" spc="-1" strike="noStrike">
                <a:solidFill>
                  <a:srgbClr val="4f271c"/>
                </a:solidFill>
                <a:latin typeface="Corbe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FBF638-610E-4F57-B388-80CFE9638C2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385776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Picture 5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4004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3276720" y="457200"/>
            <a:ext cx="5486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тянуть нить, связывающую две цивилизации - эллинскую и нашу, местом проведени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х игр современности были выбраны Афины.</a:t>
            </a:r>
            <a:r>
              <a:rPr b="0" lang="ru-RU" sz="2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</a:rPr>
              <a:t>Первая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  <a:ea typeface="Times New Roman"/>
              </a:rPr>
              <a:t> Олимпиад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</a:rPr>
              <a:t>а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</a:rPr>
              <a:t>состоялась в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  <a:ea typeface="Times New Roman"/>
              </a:rPr>
              <a:t> 1896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</a:rPr>
              <a:t> г.</a:t>
            </a:r>
            <a:r>
              <a:rPr b="0" lang="ru-RU" sz="2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тех пор каждые четыре года по планете пробегает огонь, зажженный на алтаре Олимпии.</a:t>
            </a: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FCE28A-793A-4BCB-B001-AA1B1DC8BF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380880" y="51055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 Олимпийские Игры</a:t>
            </a:r>
            <a:br>
              <a:rPr sz="2400"/>
            </a:b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896 Афины Греция</a:t>
            </a:r>
            <a:br>
              <a:rPr sz="2400"/>
            </a:b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6 - 15 Апреля</a:t>
            </a:r>
            <a:r>
              <a:rPr b="0" lang="en-US" sz="2400" spc="-1" strike="noStrike">
                <a:solidFill>
                  <a:srgbClr val="4f27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5146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1ADC94-5BBE-4D55-B9ED-64FC78F7CB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a8a14"/>
                </a:solidFill>
                <a:latin typeface="Times New Roman"/>
              </a:rPr>
              <a:t>Олимпийский деви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8dc765"/>
                </a:solidFill>
                <a:latin typeface="Times New Roman"/>
                <a:ea typeface="Arial"/>
              </a:rPr>
              <a:t>«CITIUS, ALTIUS, FORTI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8dc765"/>
                </a:solidFill>
                <a:latin typeface="Times New Roman"/>
                <a:ea typeface="Arial"/>
              </a:rPr>
              <a:t>(БЫСТРЕЕ, ВЫШЕ, СИЛЬНЕЕ»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8dc765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8dc765"/>
                </a:solidFill>
                <a:latin typeface="Times New Roman"/>
                <a:ea typeface="Arial"/>
              </a:rPr>
              <a:t>точно выражает устремление современного олимпизм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думают, что девиз придумал Пьер де Кубертен. Однако это не так. Слова эти, как ни странно, принадлежат... священнику, французскому священнику Анри Дидону, директору одного из духовных колледж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7-04-11T15:03:33Z</dcterms:modified>
  <cp:revision>17</cp:revision>
  <dc:subject/>
  <dc:title>Презентация PowerPoint</dc:title>
</cp:coreProperties>
</file>