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0D9-6819-4A16-85C5-4752BD65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2EF-4806-4ECB-97DA-73D02BF1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D7E-F4F7-4284-8271-A12962D2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E9B-9BDD-4DFE-9621-CF323842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C0D-FCB4-4F21-8355-98A80693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421-4434-4DF2-B9D0-AF92EA4A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C0B-3B04-49CF-8F17-D0CB5BE6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E3D-FF44-46BF-ADFC-5BE6DA25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DDD-36E6-4AE3-BB60-778A2B0E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D74-B093-4B4F-9B8C-54E814D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102-8432-494A-9F5D-15A44BE4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A4C-26FD-446B-BA5E-39302AC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9EAD-846C-4FEE-B560-A10A9975D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229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рующее оценивани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роках русского языка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литературы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2895480"/>
            <a:ext cx="3124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бросова Юлия Борисовна, учитель русского языка и лит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№ 3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5638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8769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78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ого ответ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клад, сообщение, выразительное чтение, ответ и т.п.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4114800" y="2438280"/>
            <a:ext cx="50292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ТА СОДЕРЖ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ЛЬНОСТЬ (ДОКАЗАТЕЛЬНОСТЬ), НАЛИЧИЕ ПРИМ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 И ВЫРАЗИТЕЛЬНОСТЬ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733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собственной деятельности школьника на уроках рус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формирующего оцениван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 же критериям (+ критерий «Работа в команде») с использованием прие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стница успешности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оценивают собственную работу, расположив на одной из ступеней лестницы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лыбающееся лицо 3"/>
          <p:cNvSpPr/>
          <p:nvPr/>
        </p:nvSpPr>
        <p:spPr>
          <a:xfrm>
            <a:off x="3708360" y="5229360"/>
            <a:ext cx="1092240" cy="8665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углом вверх 13"/>
          <p:cNvSpPr/>
          <p:nvPr/>
        </p:nvSpPr>
        <p:spPr>
          <a:xfrm>
            <a:off x="6804000" y="530064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углом вверх 14"/>
          <p:cNvSpPr/>
          <p:nvPr/>
        </p:nvSpPr>
        <p:spPr>
          <a:xfrm>
            <a:off x="6357960" y="557208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углом вверх 16"/>
          <p:cNvSpPr/>
          <p:nvPr/>
        </p:nvSpPr>
        <p:spPr>
          <a:xfrm>
            <a:off x="5940360" y="587700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углом вверх 17"/>
          <p:cNvSpPr/>
          <p:nvPr/>
        </p:nvSpPr>
        <p:spPr>
          <a:xfrm>
            <a:off x="5410080" y="6172200"/>
            <a:ext cx="500040" cy="357120"/>
          </a:xfrm>
          <a:custGeom>
            <a:avLst/>
            <a:gdLst>
              <a:gd name="textAreaLeft" fmla="*/ 0 w 500040"/>
              <a:gd name="textAreaRight" fmla="*/ 455400 w 50004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500066" h="357190">
                <a:moveTo>
                  <a:pt x="0" y="267893"/>
                </a:moveTo>
                <a:lnTo>
                  <a:pt x="366120" y="267893"/>
                </a:lnTo>
                <a:lnTo>
                  <a:pt x="366120" y="89298"/>
                </a:lnTo>
                <a:lnTo>
                  <a:pt x="321471" y="89298"/>
                </a:lnTo>
                <a:lnTo>
                  <a:pt x="410769" y="0"/>
                </a:lnTo>
                <a:lnTo>
                  <a:pt x="500066" y="89298"/>
                </a:lnTo>
                <a:lnTo>
                  <a:pt x="455417" y="89298"/>
                </a:lnTo>
                <a:lnTo>
                  <a:pt x="455417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углом вверх 18"/>
          <p:cNvSpPr/>
          <p:nvPr/>
        </p:nvSpPr>
        <p:spPr>
          <a:xfrm>
            <a:off x="4952880" y="6572160"/>
            <a:ext cx="500040" cy="285840"/>
          </a:xfrm>
          <a:custGeom>
            <a:avLst/>
            <a:gdLst>
              <a:gd name="textAreaLeft" fmla="*/ 0 w 500040"/>
              <a:gd name="textAreaRight" fmla="*/ 464400 w 500040"/>
              <a:gd name="textAreaTop" fmla="*/ 214560 h 285840"/>
              <a:gd name="textAreaBottom" fmla="*/ 286200 h 285840"/>
            </a:gdLst>
            <a:ahLst/>
            <a:rect l="textAreaLeft" t="textAreaTop" r="textAreaRight" b="textAreaBottom"/>
            <a:pathLst>
              <a:path w="500066" h="285752">
                <a:moveTo>
                  <a:pt x="0" y="214314"/>
                </a:moveTo>
                <a:lnTo>
                  <a:pt x="392909" y="214314"/>
                </a:lnTo>
                <a:lnTo>
                  <a:pt x="392909" y="71438"/>
                </a:lnTo>
                <a:lnTo>
                  <a:pt x="357190" y="71438"/>
                </a:lnTo>
                <a:lnTo>
                  <a:pt x="428628" y="0"/>
                </a:lnTo>
                <a:lnTo>
                  <a:pt x="500066" y="71438"/>
                </a:lnTo>
                <a:lnTo>
                  <a:pt x="464347" y="71438"/>
                </a:lnTo>
                <a:lnTo>
                  <a:pt x="464347" y="285752"/>
                </a:lnTo>
                <a:lnTo>
                  <a:pt x="0" y="28575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19"/>
          <p:cNvSpPr/>
          <p:nvPr/>
        </p:nvSpPr>
        <p:spPr>
          <a:xfrm>
            <a:off x="5867280" y="5181480"/>
            <a:ext cx="733680" cy="5716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рабочего листа к уроку исследования личности главного героя по рассказу И.С. Тургенева «Мум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4200" y="1071720"/>
            <a:ext cx="8715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оманды/капит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пределяет задания между членами команд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характеристик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ю рассказа  И. Тугенева «Муму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расим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едующим критер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ешность, одежда, значение име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 занятий, обяза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, поступ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ьер комна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 (какой перед нами герой?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Оцените собственную работ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тавив зн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ой из ступеней «Лестницы успешности» (Критерии оценки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, полнота содержания, убедительность (доказательность), наличие примеров, грамотность и выразительность речи, работа всех членов команд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цените работу команды-соперника по пятибалльной систем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итерии те ж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3"/>
          <p:cNvSpPr/>
          <p:nvPr/>
        </p:nvSpPr>
        <p:spPr>
          <a:xfrm>
            <a:off x="5791320" y="3809880"/>
            <a:ext cx="761760" cy="795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углом вверх 4"/>
          <p:cNvSpPr/>
          <p:nvPr/>
        </p:nvSpPr>
        <p:spPr>
          <a:xfrm>
            <a:off x="8501040" y="407196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углом вверх 5"/>
          <p:cNvSpPr/>
          <p:nvPr/>
        </p:nvSpPr>
        <p:spPr>
          <a:xfrm>
            <a:off x="8143920" y="435780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углом вверх 6"/>
          <p:cNvSpPr/>
          <p:nvPr/>
        </p:nvSpPr>
        <p:spPr>
          <a:xfrm>
            <a:off x="7715160" y="4643280"/>
            <a:ext cx="500040" cy="357480"/>
          </a:xfrm>
          <a:custGeom>
            <a:avLst/>
            <a:gdLst>
              <a:gd name="textAreaLeft" fmla="*/ 0 w 500040"/>
              <a:gd name="textAreaRight" fmla="*/ 455400 w 500040"/>
              <a:gd name="textAreaTop" fmla="*/ 268200 h 357480"/>
              <a:gd name="textAreaBottom" fmla="*/ 357840 h 357480"/>
            </a:gdLst>
            <a:ahLst/>
            <a:rect l="textAreaLeft" t="textAreaTop" r="textAreaRight" b="textAreaBottom"/>
            <a:pathLst>
              <a:path w="500066" h="357190">
                <a:moveTo>
                  <a:pt x="0" y="267893"/>
                </a:moveTo>
                <a:lnTo>
                  <a:pt x="366120" y="267893"/>
                </a:lnTo>
                <a:lnTo>
                  <a:pt x="366120" y="89298"/>
                </a:lnTo>
                <a:lnTo>
                  <a:pt x="321471" y="89298"/>
                </a:lnTo>
                <a:lnTo>
                  <a:pt x="410769" y="0"/>
                </a:lnTo>
                <a:lnTo>
                  <a:pt x="500066" y="89298"/>
                </a:lnTo>
                <a:lnTo>
                  <a:pt x="455417" y="89298"/>
                </a:lnTo>
                <a:lnTo>
                  <a:pt x="455417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углом вверх 8"/>
          <p:cNvSpPr/>
          <p:nvPr/>
        </p:nvSpPr>
        <p:spPr>
          <a:xfrm>
            <a:off x="7358040" y="492912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углом вверх 9"/>
          <p:cNvSpPr/>
          <p:nvPr/>
        </p:nvSpPr>
        <p:spPr>
          <a:xfrm>
            <a:off x="7000920" y="5214960"/>
            <a:ext cx="428760" cy="357120"/>
          </a:xfrm>
          <a:custGeom>
            <a:avLst/>
            <a:gdLst>
              <a:gd name="textAreaLeft" fmla="*/ 0 w 428760"/>
              <a:gd name="textAreaRight" fmla="*/ 384120 w 428760"/>
              <a:gd name="textAreaTop" fmla="*/ 267840 h 357120"/>
              <a:gd name="textAreaBottom" fmla="*/ 357480 h 357120"/>
            </a:gdLst>
            <a:ahLst/>
            <a:rect l="textAreaLeft" t="textAreaTop" r="textAreaRight" b="textAreaBottom"/>
            <a:pathLst>
              <a:path w="428628" h="357190">
                <a:moveTo>
                  <a:pt x="0" y="267893"/>
                </a:moveTo>
                <a:lnTo>
                  <a:pt x="294682" y="267893"/>
                </a:lnTo>
                <a:lnTo>
                  <a:pt x="294682" y="89298"/>
                </a:lnTo>
                <a:lnTo>
                  <a:pt x="250033" y="89298"/>
                </a:lnTo>
                <a:lnTo>
                  <a:pt x="339331" y="0"/>
                </a:lnTo>
                <a:lnTo>
                  <a:pt x="428628" y="89298"/>
                </a:lnTo>
                <a:lnTo>
                  <a:pt x="383979" y="89298"/>
                </a:lnTo>
                <a:lnTo>
                  <a:pt x="383979" y="357190"/>
                </a:lnTo>
                <a:lnTo>
                  <a:pt x="0" y="3571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лыбающееся лицо 11"/>
          <p:cNvSpPr/>
          <p:nvPr/>
        </p:nvSpPr>
        <p:spPr>
          <a:xfrm>
            <a:off x="8001000" y="3962520"/>
            <a:ext cx="60948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0880" y="3049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оценка знаний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447920"/>
          <a:ext cx="8458200" cy="506088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знания/у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/уме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/не уме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сложносочинённого пред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сочинительных союз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унктуации в сложносочинённом предложен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тличать сложносочинённое предложение от других видов предлож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3049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учаемые понятия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523880"/>
            <a:ext cx="701028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жносочинённое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029200"/>
            <a:ext cx="426744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чин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3809880" cy="1218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он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276720"/>
            <a:ext cx="358128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304920"/>
            <a:ext cx="8382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рование умения -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ительный процесс!!!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 flipV="1" rot="5400000">
            <a:off x="3848040" y="-344160"/>
            <a:ext cx="1219320" cy="632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аблица-монитор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962520"/>
            <a:ext cx="358128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ПЕР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1955880" cy="2895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0880" y="304920"/>
            <a:ext cx="8382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рование умения -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ительный процесс!!!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ниторинг формирования умения проводить синтаксический анализ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1722600"/>
          <a:ext cx="8382240" cy="4957560"/>
        </p:xfrm>
        <a:graphic>
          <a:graphicData uri="http://schemas.openxmlformats.org/drawingml/2006/table">
            <a:tbl>
              <a:tblPr/>
              <a:tblGrid>
                <a:gridCol w="4648320"/>
                <a:gridCol w="609480"/>
                <a:gridCol w="685800"/>
                <a:gridCol w="838440"/>
                <a:gridCol w="68580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. №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. №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к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ыделять грамматические основ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вусоставны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днососта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спознавать союз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жду однородными членам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жду частями сложного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тавить запяту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тавить другие знаки препи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62120" y="304920"/>
            <a:ext cx="7391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бования к процессу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ивания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05120"/>
            <a:ext cx="396252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стига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1981080"/>
            <a:ext cx="396252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цесса 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4267080"/>
            <a:ext cx="548640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знанность сво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ственн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0880" y="304920"/>
            <a:ext cx="838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оце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alphaModFix amt="90000"/>
          </a:blip>
          <a:stretch/>
        </p:blipFill>
        <p:spPr>
          <a:xfrm>
            <a:off x="990720" y="1752480"/>
            <a:ext cx="4267080" cy="453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90920"/>
            <a:ext cx="3352680" cy="2819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alphaModFix amt="90000"/>
          </a:blip>
          <a:stretch/>
        </p:blipFill>
        <p:spPr>
          <a:xfrm>
            <a:off x="990720" y="1752480"/>
            <a:ext cx="4267080" cy="453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34120" y="2590920"/>
            <a:ext cx="3352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90920" y="30492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оце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905120"/>
          <a:ext cx="7924680" cy="4516200"/>
        </p:xfrm>
        <a:graphic>
          <a:graphicData uri="http://schemas.openxmlformats.org/drawingml/2006/table">
            <a:tbl>
              <a:tblPr/>
              <a:tblGrid>
                <a:gridCol w="518148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рно выполнял(а) домашне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необходимости  консультируюсь с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ал (а) свои знания и исправлял(а) отме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рно вёл(а) необходимые запи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мне что-то непонятно, я не стесняюсь и спрашиваю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 свои усилия по освоению темы как достато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943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762120"/>
            <a:ext cx="79246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вал 1"/>
          <p:cNvSpPr/>
          <p:nvPr/>
        </p:nvSpPr>
        <p:spPr>
          <a:xfrm>
            <a:off x="457200" y="444600"/>
            <a:ext cx="8381880" cy="908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онтроль и оц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209680" y="1752480"/>
            <a:ext cx="632484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ответствовать целям и задачам, этапам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1676520"/>
            <a:ext cx="838080" cy="3080160"/>
          </a:xfrm>
          <a:prstGeom prst="rect">
            <a:avLst/>
          </a:prstGeom>
          <a:solidFill>
            <a:srgbClr val="ff99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209680" y="2971800"/>
            <a:ext cx="632484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тать для ребёнка осмысленным дейст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600200" y="4267080"/>
            <a:ext cx="716292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правлены на отслеживания динамики роста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04920" y="5562720"/>
            <a:ext cx="853128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оводиться в целях диагностики и выявления уровня развития обучаю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2514600" y="1676520"/>
            <a:ext cx="571500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нтролировать процесс и результаты сво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57200" y="1905120"/>
            <a:ext cx="914400" cy="3932640"/>
          </a:xfrm>
          <a:prstGeom prst="rect">
            <a:avLst/>
          </a:prstGeom>
          <a:solidFill>
            <a:srgbClr val="ff99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590920" y="3124080"/>
            <a:ext cx="5638680" cy="9471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екватно воспринимать оценки и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590920" y="4648320"/>
            <a:ext cx="563868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заимодействовать со взросл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 сверстни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"/>
          <p:cNvSpPr/>
          <p:nvPr/>
        </p:nvSpPr>
        <p:spPr>
          <a:xfrm>
            <a:off x="380880" y="380880"/>
            <a:ext cx="8307360" cy="8218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езультаты обучаю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Овал 1"/>
          <p:cNvSpPr/>
          <p:nvPr/>
        </p:nvSpPr>
        <p:spPr>
          <a:xfrm>
            <a:off x="304920" y="6480"/>
            <a:ext cx="3168360" cy="2200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886200" y="838080"/>
            <a:ext cx="4335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то оценив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3962520" y="2819520"/>
            <a:ext cx="489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Оцениваем результаты</a:t>
            </a: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- предмет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- метапредмет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- лично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6576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3"/>
          <p:cNvSpPr/>
          <p:nvPr/>
        </p:nvSpPr>
        <p:spPr>
          <a:xfrm>
            <a:off x="3657600" y="457200"/>
            <a:ext cx="5486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то оценив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929040" y="1676520"/>
            <a:ext cx="5214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99"/>
                </a:solidFill>
                <a:uFillTx/>
                <a:latin typeface="Calibri"/>
              </a:rPr>
              <a:t>Учитель и уче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Вместе определяют оценку и отметку по совместно разработанным  критер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"/>
          <p:cNvSpPr/>
          <p:nvPr/>
        </p:nvSpPr>
        <p:spPr>
          <a:xfrm>
            <a:off x="304920" y="0"/>
            <a:ext cx="3168360" cy="2200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181120" y="2209680"/>
            <a:ext cx="350532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ую деятель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лементы формирующего оцени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одноклас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"/>
          <p:cNvSpPr/>
          <p:nvPr/>
        </p:nvSpPr>
        <p:spPr>
          <a:xfrm>
            <a:off x="304920" y="0"/>
            <a:ext cx="3168360" cy="2200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2960" y="-148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657600" y="304920"/>
            <a:ext cx="5181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то оценивает учен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43434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3"/>
          <p:cNvSpPr/>
          <p:nvPr/>
        </p:nvSpPr>
        <p:spPr>
          <a:xfrm>
            <a:off x="3500280" y="476280"/>
            <a:ext cx="53578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тавить отмет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3809880" y="167652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екущие -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по желанию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За темат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 проверочные работы –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обяз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"/>
          <p:cNvSpPr/>
          <p:nvPr/>
        </p:nvSpPr>
        <p:spPr>
          <a:xfrm>
            <a:off x="304920" y="0"/>
            <a:ext cx="3168360" cy="2200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971800" y="2133720"/>
            <a:ext cx="57484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та и правильность содерж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0-1 ошиб., 4 – 1-3 ошиб., 3 – 3-5 ошиб., 2- 6  боле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оформ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 п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274840" cy="5029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380880" y="380880"/>
            <a:ext cx="84772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письменной работы (ответа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6T17:21:34Z</dcterms:created>
  <dc:creator>Julia</dc:creator>
  <dc:description/>
  <dc:language>en-US</dc:language>
  <cp:lastModifiedBy>0</cp:lastModifiedBy>
  <dcterms:modified xsi:type="dcterms:W3CDTF">2018-03-24T13:45:5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