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FB9-BEA4-417B-A3CD-B5BCAC08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F38-6855-4B6D-969B-BBE75C6B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C19-AD68-4ACC-8816-4DFFAA3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662-54C9-478D-86C0-B267F55F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F3D-43D7-4024-9611-11DFB5F5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048-A5D8-4FD3-AEE3-92A260C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10C-7C8B-4147-93A6-637089B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618-50EE-45C4-8DC9-7BD650E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65E-1F26-4837-8712-3996818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057-0F89-4025-8BC9-1B1D228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C7E-708D-4619-8640-2AD64C2B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AE6-2D6C-413C-B097-A35D073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CEF-1B7C-4F2A-AF4F-63ADD440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ующее оценивани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русского языка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литератур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895480"/>
            <a:ext cx="312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бросова Юлия Борисовна, учитель русского языка и 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№ 3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876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ого ответ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клад, сообщение, выразительное чтение, ответ и т.п.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4114800" y="2438280"/>
            <a:ext cx="5029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 СОДЕРЖ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(ДОКАЗАТЕЛЬНОСТЬ), НАЛИЧИЕ ПРИМ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 И ВЫРАЗИТЕЛЬНО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733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собственной деятельности школьника на уроках 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формирующего оценива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 же критериям (+ критерий «Работа в команде») с использованием прие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стница успешности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оценивают собственную работу, расположив на одной из ступеней лестницы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3"/>
          <p:cNvSpPr/>
          <p:nvPr/>
        </p:nvSpPr>
        <p:spPr>
          <a:xfrm>
            <a:off x="3708360" y="5229360"/>
            <a:ext cx="1092240" cy="86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углом вверх 13"/>
          <p:cNvSpPr/>
          <p:nvPr/>
        </p:nvSpPr>
        <p:spPr>
          <a:xfrm>
            <a:off x="6804000" y="530064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углом вверх 14"/>
          <p:cNvSpPr/>
          <p:nvPr/>
        </p:nvSpPr>
        <p:spPr>
          <a:xfrm>
            <a:off x="6357960" y="557208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углом вверх 16"/>
          <p:cNvSpPr/>
          <p:nvPr/>
        </p:nvSpPr>
        <p:spPr>
          <a:xfrm>
            <a:off x="5940360" y="587700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углом вверх 17"/>
          <p:cNvSpPr/>
          <p:nvPr/>
        </p:nvSpPr>
        <p:spPr>
          <a:xfrm>
            <a:off x="5410080" y="6172200"/>
            <a:ext cx="500040" cy="357120"/>
          </a:xfrm>
          <a:custGeom>
            <a:avLst/>
            <a:gdLst>
              <a:gd name="textAreaLeft" fmla="*/ 0 w 500040"/>
              <a:gd name="textAreaRight" fmla="*/ 455400 w 50004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500066" h="357190">
                <a:moveTo>
                  <a:pt x="0" y="267893"/>
                </a:moveTo>
                <a:lnTo>
                  <a:pt x="366120" y="267893"/>
                </a:lnTo>
                <a:lnTo>
                  <a:pt x="366120" y="89298"/>
                </a:lnTo>
                <a:lnTo>
                  <a:pt x="321471" y="89298"/>
                </a:lnTo>
                <a:lnTo>
                  <a:pt x="410769" y="0"/>
                </a:lnTo>
                <a:lnTo>
                  <a:pt x="500066" y="89298"/>
                </a:lnTo>
                <a:lnTo>
                  <a:pt x="455417" y="89298"/>
                </a:lnTo>
                <a:lnTo>
                  <a:pt x="455417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углом вверх 18"/>
          <p:cNvSpPr/>
          <p:nvPr/>
        </p:nvSpPr>
        <p:spPr>
          <a:xfrm>
            <a:off x="4952880" y="6572160"/>
            <a:ext cx="500040" cy="285840"/>
          </a:xfrm>
          <a:custGeom>
            <a:avLst/>
            <a:gdLst>
              <a:gd name="textAreaLeft" fmla="*/ 0 w 500040"/>
              <a:gd name="textAreaRight" fmla="*/ 464400 w 500040"/>
              <a:gd name="textAreaTop" fmla="*/ 214560 h 285840"/>
              <a:gd name="textAreaBottom" fmla="*/ 286200 h 285840"/>
            </a:gdLst>
            <a:ahLst/>
            <a:rect l="textAreaLeft" t="textAreaTop" r="textAreaRight" b="textAreaBottom"/>
            <a:pathLst>
              <a:path w="500066" h="285752">
                <a:moveTo>
                  <a:pt x="0" y="214314"/>
                </a:moveTo>
                <a:lnTo>
                  <a:pt x="392909" y="214314"/>
                </a:lnTo>
                <a:lnTo>
                  <a:pt x="392909" y="71438"/>
                </a:lnTo>
                <a:lnTo>
                  <a:pt x="357190" y="71438"/>
                </a:lnTo>
                <a:lnTo>
                  <a:pt x="428628" y="0"/>
                </a:lnTo>
                <a:lnTo>
                  <a:pt x="500066" y="71438"/>
                </a:lnTo>
                <a:lnTo>
                  <a:pt x="464347" y="71438"/>
                </a:lnTo>
                <a:lnTo>
                  <a:pt x="464347" y="285752"/>
                </a:lnTo>
                <a:lnTo>
                  <a:pt x="0" y="28575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9"/>
          <p:cNvSpPr/>
          <p:nvPr/>
        </p:nvSpPr>
        <p:spPr>
          <a:xfrm>
            <a:off x="5867280" y="5181480"/>
            <a:ext cx="733680" cy="5716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рабочего листа к уроку исследования личности главного героя по рассказу И.С. Тургенева «Мум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4200" y="107172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оманды/капит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пределяет задания между членами команд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характеристик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ю рассказа  И. Тугенева «Муму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расим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едующим критер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ешность, одежда, значение им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занятий, обяза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, поступ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ьер комна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(какой перед нами герой?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Оцените собственную работ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авив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й из ступеней «Лестницы успешности» (Критерии оценки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, полнота содержания, убедительность (доказательность), наличие примеров, грамотность и выразительность речи, работа всех членов команд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цените работу команды-соперника по пятибалльной систем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итерии те ж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3"/>
          <p:cNvSpPr/>
          <p:nvPr/>
        </p:nvSpPr>
        <p:spPr>
          <a:xfrm>
            <a:off x="5791320" y="3809880"/>
            <a:ext cx="761760" cy="795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углом вверх 4"/>
          <p:cNvSpPr/>
          <p:nvPr/>
        </p:nvSpPr>
        <p:spPr>
          <a:xfrm>
            <a:off x="8501040" y="407196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углом вверх 5"/>
          <p:cNvSpPr/>
          <p:nvPr/>
        </p:nvSpPr>
        <p:spPr>
          <a:xfrm>
            <a:off x="8143920" y="435780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углом вверх 6"/>
          <p:cNvSpPr/>
          <p:nvPr/>
        </p:nvSpPr>
        <p:spPr>
          <a:xfrm>
            <a:off x="7715160" y="4643280"/>
            <a:ext cx="500040" cy="357480"/>
          </a:xfrm>
          <a:custGeom>
            <a:avLst/>
            <a:gdLst>
              <a:gd name="textAreaLeft" fmla="*/ 0 w 500040"/>
              <a:gd name="textAreaRight" fmla="*/ 455400 w 500040"/>
              <a:gd name="textAreaTop" fmla="*/ 268200 h 357480"/>
              <a:gd name="textAreaBottom" fmla="*/ 357840 h 357480"/>
            </a:gdLst>
            <a:ahLst/>
            <a:rect l="textAreaLeft" t="textAreaTop" r="textAreaRight" b="textAreaBottom"/>
            <a:pathLst>
              <a:path w="500066" h="357190">
                <a:moveTo>
                  <a:pt x="0" y="267893"/>
                </a:moveTo>
                <a:lnTo>
                  <a:pt x="366120" y="267893"/>
                </a:lnTo>
                <a:lnTo>
                  <a:pt x="366120" y="89298"/>
                </a:lnTo>
                <a:lnTo>
                  <a:pt x="321471" y="89298"/>
                </a:lnTo>
                <a:lnTo>
                  <a:pt x="410769" y="0"/>
                </a:lnTo>
                <a:lnTo>
                  <a:pt x="500066" y="89298"/>
                </a:lnTo>
                <a:lnTo>
                  <a:pt x="455417" y="89298"/>
                </a:lnTo>
                <a:lnTo>
                  <a:pt x="455417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углом вверх 8"/>
          <p:cNvSpPr/>
          <p:nvPr/>
        </p:nvSpPr>
        <p:spPr>
          <a:xfrm>
            <a:off x="7358040" y="492912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углом вверх 9"/>
          <p:cNvSpPr/>
          <p:nvPr/>
        </p:nvSpPr>
        <p:spPr>
          <a:xfrm>
            <a:off x="7000920" y="521496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лыбающееся лицо 11"/>
          <p:cNvSpPr/>
          <p:nvPr/>
        </p:nvSpPr>
        <p:spPr>
          <a:xfrm>
            <a:off x="8001000" y="3962520"/>
            <a:ext cx="60948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3049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нка знаний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447920"/>
          <a:ext cx="8458200" cy="50608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знания/у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/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/не 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сложносочинённого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сочинительных союз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унктуации в сложносочинённом предложе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тличать сложносочинённое предложение от других видов предлож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9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аемые понят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523880"/>
            <a:ext cx="7010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осочинён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029200"/>
            <a:ext cx="426744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чи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380988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о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276720"/>
            <a:ext cx="358128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304920"/>
            <a:ext cx="8382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умения -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ительный процесс!!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 flipV="1" rot="5400000">
            <a:off x="3848040" y="-344160"/>
            <a:ext cx="1219320" cy="632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аблица-монитор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962520"/>
            <a:ext cx="358128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ПЕР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1955880" cy="2895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0880" y="304920"/>
            <a:ext cx="8382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умения -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ительный процесс!!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ниторинг формирования умения проводить синтаксический анализ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722600"/>
          <a:ext cx="8382240" cy="4957560"/>
        </p:xfrm>
        <a:graphic>
          <a:graphicData uri="http://schemas.openxmlformats.org/drawingml/2006/table">
            <a:tbl>
              <a:tblPr/>
              <a:tblGrid>
                <a:gridCol w="4648320"/>
                <a:gridCol w="609480"/>
                <a:gridCol w="685800"/>
                <a:gridCol w="838440"/>
                <a:gridCol w="6858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. №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. №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лять грамматические осно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усоставны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дносост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спознавать союз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жду однородными член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жду частями сложного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тавить запят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тавить другие знаки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2120" y="304920"/>
            <a:ext cx="7391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бования к процесс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иван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39625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сти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981080"/>
            <a:ext cx="39625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цесса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4267080"/>
            <a:ext cx="548640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знанность сво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ственн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0880" y="304920"/>
            <a:ext cx="838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990720" y="1752480"/>
            <a:ext cx="4267080" cy="453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3352680" cy="281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alphaModFix amt="90000"/>
          </a:blip>
          <a:stretch/>
        </p:blipFill>
        <p:spPr>
          <a:xfrm>
            <a:off x="990720" y="1752480"/>
            <a:ext cx="4267080" cy="453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4120" y="25909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90920" y="3049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905120"/>
          <a:ext cx="7924680" cy="4516200"/>
        </p:xfrm>
        <a:graphic>
          <a:graphicData uri="http://schemas.openxmlformats.org/drawingml/2006/table">
            <a:tbl>
              <a:tblPr/>
              <a:tblGrid>
                <a:gridCol w="518148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 выполнял(а) домашне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необходимости  консультируюсь с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ал (а) свои знания и исправлял(а) 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 вёл(а) необходимые 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мне что-то непонятно, я не стесняюсь и спрашиваю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 свои усилия по освоению темы как достато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943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762120"/>
            <a:ext cx="7924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1"/>
          <p:cNvSpPr/>
          <p:nvPr/>
        </p:nvSpPr>
        <p:spPr>
          <a:xfrm>
            <a:off x="457200" y="444600"/>
            <a:ext cx="8381880" cy="908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онтроль и 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1752480"/>
            <a:ext cx="632484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ветствовать целям и задачам, этапам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1676520"/>
            <a:ext cx="838080" cy="3080160"/>
          </a:xfrm>
          <a:prstGeom prst="rect">
            <a:avLst/>
          </a:prstGeom>
          <a:solidFill>
            <a:srgbClr val="ff99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209680" y="2971800"/>
            <a:ext cx="632484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ать для ребёнка осмысленным дейст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00200" y="4267080"/>
            <a:ext cx="716292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правлены на отслеживания динамики роста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04920" y="5562720"/>
            <a:ext cx="853128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водиться в целях диагностики и выявления уровня развития обучаю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2514600" y="1676520"/>
            <a:ext cx="571500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нтролировать процесс и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905120"/>
            <a:ext cx="914400" cy="3932640"/>
          </a:xfrm>
          <a:prstGeom prst="rect">
            <a:avLst/>
          </a:prstGeom>
          <a:solidFill>
            <a:srgbClr val="ff99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590920" y="3124080"/>
            <a:ext cx="563868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екватно воспринимать оценки и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590920" y="4648320"/>
            <a:ext cx="563868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заимодействовать со взрос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 сверстн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"/>
          <p:cNvSpPr/>
          <p:nvPr/>
        </p:nvSpPr>
        <p:spPr>
          <a:xfrm>
            <a:off x="380880" y="380880"/>
            <a:ext cx="8307360" cy="821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езультаты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1"/>
          <p:cNvSpPr/>
          <p:nvPr/>
        </p:nvSpPr>
        <p:spPr>
          <a:xfrm>
            <a:off x="304920" y="648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86200" y="838080"/>
            <a:ext cx="4335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оценив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3962520" y="2819520"/>
            <a:ext cx="489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Оцениваем результаты</a:t>
            </a: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предме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метапредме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6576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3"/>
          <p:cNvSpPr/>
          <p:nvPr/>
        </p:nvSpPr>
        <p:spPr>
          <a:xfrm>
            <a:off x="3657600" y="457200"/>
            <a:ext cx="5486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оцени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929040" y="1676520"/>
            <a:ext cx="521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Учитель и 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Вместе определяют оценку и отметку по совместно разработанным  критер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181120" y="2209680"/>
            <a:ext cx="35053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ую деятель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лементы формирующего оцени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дно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-148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657600" y="304920"/>
            <a:ext cx="5181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оценивает уче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4343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3"/>
          <p:cNvSpPr/>
          <p:nvPr/>
        </p:nvSpPr>
        <p:spPr>
          <a:xfrm>
            <a:off x="3500280" y="476280"/>
            <a:ext cx="53578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тавить отм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809880" y="167652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екущие -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 темат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роверочные работы –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971800" y="2133720"/>
            <a:ext cx="5748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 и правильность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-1 ошиб., 4 – 1-3 ошиб., 3 – 3-5 ошиб., 2- 6  боле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оформ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27484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380880" y="380880"/>
            <a:ext cx="84772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письменной работы (ответа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17:21:34Z</dcterms:created>
  <dc:creator>Julia</dc:creator>
  <dc:description/>
  <dc:language>en-US</dc:language>
  <cp:lastModifiedBy>0</cp:lastModifiedBy>
  <dcterms:modified xsi:type="dcterms:W3CDTF">2018-03-24T13:45:5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