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54F-25F7-413E-8A40-D7D09A12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B82-C308-4295-8BB8-AB370009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E3B-BF5D-416F-A039-54C9F404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8AB-5F10-4619-B125-13672C2E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3360-168C-4D2A-8080-D0FFE004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2B16-E099-4993-96F0-9C4CB7B9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E5F4-41B0-4EB2-A704-B8C447F3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6264-00EC-4EF0-819B-EFCE9880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016F-8779-4038-8D5E-81CF0F5D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7D91-D4B0-4A4C-9DDA-31E9B129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AE68-C01A-41ED-B274-77F107A9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8D3-187C-4901-A4C5-C386BFDE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1062-1A9B-47CA-B0E1-F6FC769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7E04-E779-4A4C-8419-2BE71926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56FA-3154-45DD-BE7A-9BD353FB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EC1E-18E6-458D-B705-4A05896D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C081-1178-48CF-8841-9073CC02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B36-0E56-4885-9CC9-109116C3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A6E-D57E-4AED-9E92-E401DE2F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91E-3D49-4650-8C82-52DB8058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7FC-06A6-4696-AC6F-8E33436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D2A-4CB6-4390-8B1B-B935E07F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E9D-CF2D-415A-AF6F-B3BED21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CA9-1684-4B0E-BED1-4F86352C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2D23-B0AF-4EBD-9F1F-622F750B86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A5E2-6A9D-4A38-9AB5-BE9720C9A3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848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езентация на тему: Роль и значение физической культуры в развитии обществ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Выполнила: Романова Анн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Роль физической культуры в обществ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ледует отметить, что уровень культуры человека проявляется в его умении рационально, в полной мере использовать такое общественное благо, как свободное время. От того как оно используется, зависит не только успех трудовой деятельности, учебе и общим развитиям, но и само здоровье человека, полнота его жизнедеятельности, поэтому физическая культура здесь занимает важное место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За рубежом физкультура и спорт на всех своих уровнях является универсальным механизмом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оздоровления людей, способом самореализации человека, его самовыражения и развития, а также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редством борьбы против асоциальных явлений. Именно поэтому за последние годы место физкультуры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 спорта в системе ценностей современной культуры резко возросло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Таким образом, во всем мире наблюдается устойчивая тенденция повышения роли физической культуры в обществе, которая проявляется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в повышении роли государства в поддержке развития физической культуры, общественных форм организации и деятельности в этой сфере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-в широком использовании физической культуры в профилактике заболеваний и укреплении здоровья населения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-в продлении активного творческого долголетия людей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-в организации досуговой деятельности и в профилактике асоциального поведения молодежи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Физическая куль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Физическая культура - это особая и самостоятельная область культуры, которая возникла и развивалась одновременно с общечеловеческой культурой и является ее органической частью. Она не может быть отнесена только к материальной культуре, так как отражение материального бытия общества или отдельного человека - не главная ее характеристика как социального явления. По этой же причине она не может быть отнесена и только к духовной культуре, хотя в ее сфере и отражается общественное сознание.  Физическую культуру следует рассматривать и как деятельность, и как ее результаты. В интересах совершенствования человека физическая культура использует физические упражнения, естественные силы природы, гигиенические факторы, режим труда, быта, питания и отдыха. Различные виды физической культуры (неспециальное физкультурное образование, спорт, физическая рекреация, двигательная реабилитация, адаптивная физическая культура) должны всемерно способствовать росту экономического и оборонного потенциала России, удовлетворению духовных потребностей подростков, детей, молодежи и взрослого населения, формированию активной жизненной позиции быть действенным средством всестороннего гармоничного развития личности. Физическая культура - одна из тех областей социальной деятельности, в которой формируется и реализуется социальная активность членов общества. Она отражает состояние государства в целом, служит одной из форм проявления его социальной, политической и моральной структуры. Все это свидетельствует о том, что физическая культура является естественной частью культуры обществ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ФОРМЫ ФИЗИЧЕСКОЙ КУЛЬ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уществуют следующие формы физической культуры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 базовая физическая культур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спорт (в той части, в какой он относится к физической культуре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профессионально-прикладная физическая культур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оздоровительно-реабилитационная и «фоновая» физическая культура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азовая физическая культур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азовая физическая культура.  Базовая физическая культура личности - результат социализации в области физической культуры, многокомпонентное личностное  образование,   определяемое в соответствии с наличием у человека обязательного минимума знаний, норм и правил поведения в процессе физического воспитания, понимания ценностей физической культуры, самодетерминирующей двигательной активности, позволяющей соответствовать основным требованиям общества по показателям здоровья, уровня физической подготовленности, работоспособност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порт как компонент физической культуры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Большинство современных видов спорта сформировалось в качестве специфических элементов физической культуры, составив в совокупности крупную её часть. По сравнению с другими её компонентами спорт предоставляет наибольшие возможности для поступательного развития физических качеств и непосредственно связанных с ними способностей человека, требующихся в той или иной деятельности избранной в качестве предмета спортивной специализации. Конкретной, наглядно воспринимаемой целью спортивной деятельности является достижение возможно высокого спортивного результата, выраженного в общепринятых критериях - в мерах времени, расстояния, веса, в факте физической победы либо выигрыша, оцениваемых в баллах, очках и т.п. Через достижение этой «внешней» цели достигаются и более существенные результаты, воплощаемые в совершенствовании человеческих качеств, способностей. Функции спорта неодинаково выражены в различных разделах спортивного движения - спорте высших достижений, и массовом спорте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ессионально-прикладная физическая культура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-прикладная физическая культура - это социально-детерминированная область общей культуры человека, характеризующаяся высокой степенью образованности в области физической культуры и спорта, развитием двигательных умений, навыков и функций организма, способствующих более успешному овладению профессией и совершенствованию в ней, физическим совершенствованием, и развитостью мотивационно-ценностных ориентиров.</a:t>
            </a:r>
            <a:br>
              <a:rPr sz="12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ными компонентами ППФК явля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 когнитивный компонент - отражает знания в области физической культуры, физического воспитания,  профессионально-прикладной физической подготовки; критерии сформированности - качество знаний: объем, прочность, глубина, свернутость и развернут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 мотивационно-ценностный - раскрывает отношение человека к физической культуре, как к части общей культуре личности и как к важной стороне профессиональной подготовленности; критерий сформированности - степень  признания  значимости ППФК как важнейшего компонента профессиональной подготовки и потребности в ее саморазвит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деятельностный - отражает физкультурно-спортивную деятельность в процессе профессиональной подготовки и за ее пределами, а также их физическое совершенство; критерии сформированности - объем, последовательность, целесообразность, эффективность физических упражнений, используемых при самостоятельных занятиях ФВ, а также уровень сформированности общей физической подготовленности, профессионально необходимых психофизических качеств, состояние здоровь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здоровительно - реабилитационная физическая культура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Оздоровительно-реабилитационная физическая культура - это специфическая сфера использования средств физической культуры и спорта, направленная на оптимизацию физического состояния человека, восстановление сил, затраченных в процессе труда (учебы), организацию активного досуга и повышение устойчивости организма к действию неблагоприятных факторов производства и окружающей среды. В основе оздоровительной физической культуры находится двигательная активность, которая имеет важное значение для формирования и поддержания нормальной жизнедеятельности организма человека, а также для предотвращения возникновения различных заболеваний. Движение - не просто одно из составляющих здорового образа жизни, это совершенно необходимая предпосылка нормальной жизнедеятельности человека. Недостаток движения, приводящий к нарушению обмена веществ, является основной причиной так называемых болезней цивилизации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12T16:24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