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159-0CDF-4DED-9438-54C2053B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545-736E-4EE9-82E6-ACC760E3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18A-B3F7-4D90-974E-F447F1ED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621-66C4-417B-9F44-55D990DB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AA08-A415-4900-A020-FC941A0E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ABC1-C6DE-4CF9-A25F-20D9172D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816F-A221-4722-A90F-00864776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043C-4573-49BF-9F53-6F50A814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BE69-C90E-4AE7-AF82-B5166169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F44A-9D32-4478-AFB7-AC46ECEC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5C92-32C5-4BB3-8680-E2BEE710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36C-9293-42E0-9ACC-09DA1F39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F887-DD90-4F92-BDCD-814AC386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585E-77AF-4BA9-B3A8-6AAF43DE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954F-A1B0-4647-A2AA-8BEBD841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19EA-7044-4AF1-8C80-258DB040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219B-7A42-446A-AA5D-1E8D4257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0C4-B6D4-4BCE-AA16-B09FF2BC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BE7-B588-4F5A-A96D-37728AD8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CEB-9AFD-47A7-8253-141DD602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E9C-D7FF-4193-9404-C2965117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A2F-C4A6-46D4-AB60-955B9D80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29BF-266B-424A-9D1E-14549DE9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771-8F55-4685-9897-35CCB7E6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0B90-C13B-4640-8BDB-48D642CB02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5874-4D93-45AF-8CD7-EC19CE5EF4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848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езентация на тему: Роль и значение физической культуры в развитии обществ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Выполнила: Романова Анн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Роль физической культуры в обществе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ледует отметить, что уровень культуры человека проявляется в его умении рационально, в полной мере использовать такое общественное благо, как свободное время. От того как оно используется, зависит не только успех трудовой деятельности, учебе и общим развитиям, но и само здоровье человека, полнота его жизнедеятельности, поэтому физическая культура здесь занимает важное место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За рубежом физкультура и спорт на всех своих уровнях является универсальным механизмом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оздоровления людей, способом самореализации человека, его самовыражения и развития, а также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редством борьбы против асоциальных явлений. Именно поэтому за последние годы место физкультуры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 спорта в системе ценностей современной культуры резко возросло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Таким образом, во всем мире наблюдается устойчивая тенденция повышения роли физической культуры в обществе, которая проявляется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в повышении роли государства в поддержке развития физической культуры, общественных форм организации и деятельности в этой сфере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-в широком использовании физической культуры в профилактике заболеваний и укреплении здоровья населения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-в продлении активного творческого долголетия людей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-в организации досуговой деятельности и в профилактике асоциального поведения молодежи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Физическая куль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Физическая культура - это особая и самостоятельная область культуры, которая возникла и развивалась одновременно с общечеловеческой культурой и является ее органической частью. Она не может быть отнесена только к материальной культуре, так как отражение материального бытия общества или отдельного человека - не главная ее характеристика как социального явления. По этой же причине она не может быть отнесена и только к духовной культуре, хотя в ее сфере и отражается общественное сознание.  Физическую культуру следует рассматривать и как деятельность, и как ее результаты. В интересах совершенствования человека физическая культура использует физические упражнения, естественные силы природы, гигиенические факторы, режим труда, быта, питания и отдыха. Различные виды физической культуры (неспециальное физкультурное образование, спорт, физическая рекреация, двигательная реабилитация, адаптивная физическая культура) должны всемерно способствовать росту экономического и оборонного потенциала России, удовлетворению духовных потребностей подростков, детей, молодежи и взрослого населения, формированию активной жизненной позиции быть действенным средством всестороннего гармоничного развития личности. Физическая культура - одна из тех областей социальной деятельности, в которой формируется и реализуется социальная активность членов общества. Она отражает состояние государства в целом, служит одной из форм проявления его социальной, политической и моральной структуры. Все это свидетельствует о том, что физическая культура является естественной частью культуры обществ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ФОРМЫ ФИЗИЧЕСКОЙ КУЛЬ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уществуют следующие формы физической культуры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 базовая физическая культур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спорт (в той части, в какой он относится к физической культуре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профессионально-прикладная физическая культур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оздоровительно-реабилитационная и «фоновая» физическая культура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Базовая физическая культур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азовая физическая культура.  Базовая физическая культура личности - результат социализации в области физической культуры, многокомпонентное личностное  образование,   определяемое в соответствии с наличием у человека обязательного минимума знаний, норм и правил поведения в процессе физического воспитания, понимания ценностей физической культуры, самодетерминирующей двигательной активности, позволяющей соответствовать основным требованиям общества по показателям здоровья, уровня физической подготовленности, работоспособности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Спорт как компонент физической культуры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Большинство современных видов спорта сформировалось в качестве специфических элементов физической культуры, составив в совокупности крупную её часть. По сравнению с другими её компонентами спорт предоставляет наибольшие возможности для поступательного развития физических качеств и непосредственно связанных с ними способностей человека, требующихся в той или иной деятельности избранной в качестве предмета спортивной специализации. Конкретной, наглядно воспринимаемой целью спортивной деятельности является достижение возможно высокого спортивного результата, выраженного в общепринятых критериях - в мерах времени, расстояния, веса, в факте физической победы либо выигрыша, оцениваемых в баллах, очках и т.п. Через достижение этой «внешней» цели достигаются и более существенные результаты, воплощаемые в совершенствовании человеческих качеств, способностей. Функции спорта неодинаково выражены в различных разделах спортивного движения - спорте высших достижений, и массовом спорте.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ессионально-прикладная физическая культура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фессионально-прикладная физическая культура - это социально-детерминированная область общей культуры человека, характеризующаяся высокой степенью образованности в области физической культуры и спорта, развитием двигательных умений, навыков и функций организма, способствующих более успешному овладению профессией и совершенствованию в ней, физическим совершенствованием, и развитостью мотивационно-ценностных ориентиров.</a:t>
            </a:r>
            <a:br>
              <a:rPr sz="12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ными компонентами ППФК являются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 когнитивный компонент - отражает знания в области физической культуры, физического воспитания,  профессионально-прикладной физической подготовки; критерии сформированности - качество знаний: объем, прочность, глубина, свернутость и развернутость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 мотивационно-ценностный - раскрывает отношение человека к физической культуре, как к части общей культуре личности и как к важной стороне профессиональной подготовленности; критерий сформированности - степень  признания  значимости ППФК как важнейшего компонента профессиональной подготовки и потребности в ее саморазвит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деятельностный - отражает физкультурно-спортивную деятельность в процессе профессиональной подготовки и за ее пределами, а также их физическое совершенство; критерии сформированности - объем, последовательность, целесообразность, эффективность физических упражнений, используемых при самостоятельных занятиях ФВ, а также уровень сформированности общей физической подготовленности, профессионально необходимых психофизических качеств, состояние здоровь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здоровительно - реабилитационная физическая культура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Оздоровительно-реабилитационная физическая культура - это специфическая сфера использования средств физической культуры и спорта, направленная на оптимизацию физического состояния человека, восстановление сил, затраченных в процессе труда (учебы), организацию активного досуга и повышение устойчивости организма к действию неблагоприятных факторов производства и окружающей среды. В основе оздоровительной физической культуры находится двигательная активность, которая имеет важное значение для формирования и поддержания нормальной жизнедеятельности организма человека, а также для предотвращения возникновения различных заболеваний. Движение - не просто одно из составляющих здорового образа жизни, это совершенно необходимая предпосылка нормальной жизнедеятельности человека. Недостаток движения, приводящий к нарушению обмена веществ, является основной причиной так называемых болезней цивилизации.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12T16:24:0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